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B3BE-9779-4C1A-BB10-48C28A333E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10C-5ED7-4031-BE5F-03A14C4C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E89-183A-425A-A7CB-BBEA5DEF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C50-0D21-4810-BAF1-7CD5D0A4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072-2858-4B33-921F-EACB93BD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4B0-B9A7-48B6-B143-2FCC61DC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EE4-EFE5-4885-A1B4-6AF911DE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254-2EEA-4EF0-A019-1635C9C0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900-B9EB-4DCB-8A9B-81C330DC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6B4-6DF6-49BC-B909-CDA11A95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219-51FC-4159-A18B-8EC8035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4CC-C5CB-48D1-8296-1241FD04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0F8-60F7-4B52-A715-DDBF185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EADF-F791-4E57-92E0-7BD62327F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168" name="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171" name="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4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77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333360"/>
            <a:ext cx="806472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para predecir los perfiles cromat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221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3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224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9-03T20:38:17Z</dcterms:modified>
  <cp:revision>119</cp:revision>
  <dc:subject/>
  <dc:title>Separación Sólido-Líquido</dc:title>
</cp:coreProperties>
</file>