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DA22-F0E6-49F4-9505-5ABECBAD50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statistical models, the most classical model is the statistical mo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ormalized statistical moment is compu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 is the concentration in the mobile phase and t is th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model, the first statistical moment represents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 of the curve, that is, the retention time of the prote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moment indicates the variance around th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A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tenti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ird moment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gnitude of the peak asymm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finally, the fourth one indicat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flatness of th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a basic equation in the </a:t>
            </a:r>
            <a:r>
              <a:rPr b="1" lang="en-US" sz="1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quilibrium theory is given by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is is the Accumulation of the solute in the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ccumulation of the solute in the stationary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the mass transport by conv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equilibriu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iven by this distribution coefficient is used, and where the distribution coefficient is a concentration function of the protein in the mobile phase, then it is possible to obtain adequate elution curv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, THERE are here different calculated elution curves using the equilibrium theory as a function of no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ear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istribution coeffic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he seco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PMENT</a:t>
            </a: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i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Displacement Chrom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graphy.  In this case, the mobile phase contain</a:t>
            </a:r>
            <a:r>
              <a:rPr b="1" lang="en-GB" sz="18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a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 (the displacer) more strongly retained THAN the co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O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ent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s 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of the sample under examination. The sam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ple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is fed into the system as a 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fi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nite slu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Unfortunately, the main disadvantage of this procedure is that it can not elute solute</a:t>
            </a:r>
            <a:r>
              <a:rPr b="1" lang="en-GB" sz="1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discretely, and each solute will always be contamina</a:t>
            </a:r>
            <a:r>
              <a:rPr b="1" lang="en-GB" sz="1200" spc="-1" strike="noStrike">
                <a:solidFill>
                  <a:srgbClr val="3333cc"/>
                </a:solidFill>
                <a:latin typeface="Times New Roman"/>
              </a:rPr>
              <a:t>TED</a:t>
            </a:r>
            <a:r>
              <a:rPr b="0" lang="en-GB" sz="1200" spc="-1" strike="noStrike">
                <a:solidFill>
                  <a:srgbClr val="3333cc"/>
                </a:solidFill>
                <a:latin typeface="Times New Roman"/>
              </a:rPr>
              <a:t> by its neighb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AB03-4D89-42A5-8E0A-88AD2BA9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F58-8CF4-4740-BF60-30B6BC70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9F3-EF58-4790-9910-5DD73667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BC6C-9225-4859-8247-FCB90040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7EA-8FEF-40B0-BB4C-C7B8399A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B2B-6300-427F-B4CC-1E462ACE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7D70-010F-4D28-B317-807F13DB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A7AF-EF90-46D5-9C9B-4282F559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03B-BB5A-4333-B15A-653153D9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3A5A-687C-41EE-987F-472D0648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D7B3-0339-458F-93F6-0EE037A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BF3-9AA7-427A-8F38-160FDA0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D942-F1D5-4B9B-BD38-2C429BAF5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8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Purifica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Comic Sans MS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0920" y="260280"/>
            <a:ext cx="853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MMod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Se pueden plantear un modelo de adsorción para predecir la “curva de ruptura” o “breakthrought curve” basado en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432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4952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Balances de masa del soluto en una sec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n estado no estac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)</a:t>
            </a: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érminos de acumulación tanto en el adsorbente  como en los intersti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)</a:t>
            </a:r>
            <a:r>
              <a:rPr b="0" lang="es-ES_tradnl" sz="1800" spc="-1" strike="noStrike">
                <a:solidFill>
                  <a:srgbClr val="008000"/>
                </a:solidFill>
                <a:latin typeface="Comic Sans MS"/>
                <a:ea typeface="Times New Roman"/>
              </a:rPr>
              <a:t>Flujos de entra y salida por Dispersión 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iii) </a:t>
            </a:r>
            <a:r>
              <a:rPr b="0" lang="es-ES_tradnl" sz="1800" spc="-1" strike="noStrike">
                <a:solidFill>
                  <a:srgbClr val="660033"/>
                </a:solidFill>
                <a:latin typeface="Comic Sans MS"/>
                <a:ea typeface="Times New Roman"/>
              </a:rPr>
              <a:t>Flujo de entrada y salida por Conve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72280" y="1773360"/>
          <a:ext cx="3771720" cy="40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1773360"/>
                    <a:ext cx="3771720" cy="40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5272200"/>
            <a:ext cx="7619760" cy="16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ES_tradnl" sz="14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AZ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efectivo de dispersión ax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 : Velocidad superficial del fluido (u = Q/Ac*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: Fracción de huecos ( e = (Vt-Vs) /V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t: Volumen Total de la colum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s: Volumen de res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: Area transversal de la columna</a:t>
            </a:r>
            <a:r>
              <a:rPr b="0" lang="es-ES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8600" y="914400"/>
            <a:ext cx="8458200" cy="1511280"/>
            <a:chOff x="228600" y="914400"/>
            <a:chExt cx="8458200" cy="1511280"/>
          </a:xfrm>
        </p:grpSpPr>
        <p:sp>
          <p:nvSpPr>
            <p:cNvPr id="102" name=""/>
            <p:cNvSpPr/>
            <p:nvPr/>
          </p:nvSpPr>
          <p:spPr>
            <a:xfrm>
              <a:off x="304560" y="914400"/>
              <a:ext cx="83822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Simplific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o hay ni generación, ni consumo de soluto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600" y="2057400"/>
              <a:ext cx="83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que entra} – {Masa que sale} = </a:t>
              </a:r>
              <a:r>
                <a:rPr b="1" lang="es-ES_tradnl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 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  <a:ea typeface="Times New Roman"/>
                </a:rPr>
                <a:t>{Masa Acumulada}</a:t>
              </a:r>
              <a:r>
                <a:rPr b="1" lang="es-ES" sz="1800" spc="-1" strike="noStrike">
                  <a:solidFill>
                    <a:srgbClr val="000066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32000" y="2743200"/>
            <a:ext cx="5892480" cy="1576440"/>
            <a:chOff x="432000" y="2743200"/>
            <a:chExt cx="5892480" cy="1576440"/>
          </a:xfrm>
        </p:grpSpPr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752480" y="3276720"/>
                  <a:ext cx="4572000" cy="104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Z</m:t>
                          </m:r>
                        </m:sub>
                      </m:sSub>
                      <m:f>
                        <m:num>
                          <m:sSup>
                            <m:e>
                              <m:r>
                                <m:t xml:space="preserve">∂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+</m:t>
                      </m:r>
                      <m:r>
                        <m:t xml:space="preserve">u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=  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y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ε</m:t>
                          </m:r>
                        </m:num>
                        <m:den>
                          <m:r>
                            <m:t xml:space="preserve">ε</m:t>
                          </m:r>
                        </m:den>
                      </m:f>
                      <m:r>
                        <m:t xml:space="preserve">)</m:t>
                      </m:r>
                      <m:f>
                        <m:num>
                          <m:r>
                            <m:t xml:space="preserve">∂</m:t>
                          </m:r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"/>
            <p:cNvSpPr/>
            <p:nvPr/>
          </p:nvSpPr>
          <p:spPr>
            <a:xfrm>
              <a:off x="432000" y="2743200"/>
              <a:ext cx="353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l Balance se expresa como</a:t>
              </a:r>
              <a:r>
                <a:rPr b="0" lang="es-E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-380880" y="4495680"/>
            <a:ext cx="9829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a50021"/>
                </a:solidFill>
                <a:latin typeface="Times New Roman"/>
              </a:rPr>
              <a:t>Dispersión axial + Flujo = Acumulación intersticios+ Acumulación por adsorc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que entra} – {Masa que sale}+{Masa generada} –{Masa Consumida}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{Masa Acumulada}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228600"/>
            <a:ext cx="78487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diciones de equilibrio (tipo de isote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inea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ngmuir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 K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</a:t>
            </a:r>
            <a:r>
              <a:rPr b="1" lang="es-ES" sz="1800" spc="-1" strike="noStrike" baseline="30000">
                <a:solidFill>
                  <a:srgbClr val="a50021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6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undlich</a:t>
            </a:r>
            <a:r>
              <a:rPr b="0" lang="es-ES_tradnl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q=(q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Comic Sans MS"/>
              </a:rPr>
              <a:t>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y)</a:t>
            </a:r>
            <a:r>
              <a:rPr b="1" lang="es-ES_tradnl" sz="1800" spc="-1" strike="noStrike">
                <a:solidFill>
                  <a:srgbClr val="a50021"/>
                </a:solidFill>
                <a:latin typeface="Comic Sans MS"/>
              </a:rPr>
              <a:t>/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</a:rPr>
              <a:t> (K +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362320"/>
            <a:ext cx="518148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i) Transferencia desde el seno del líquido hasta la capa límite que rodea 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ifusión en el film que rodea la partíc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nsferencia a través del líquido que existe en los poros de la partícula hacia las superficies inter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ceso de adsor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ifusión a lo largo de la superficie de los poros in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486400" y="2438280"/>
          <a:ext cx="3657600" cy="37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438280"/>
                    <a:ext cx="3657600" cy="37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90512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inética de adsorción, la cual puede estar controlada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304920"/>
            <a:ext cx="8229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controlante es la Difusión en el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K</a:t>
            </a:r>
            <a:r>
              <a:rPr b="0" lang="es-ES_tradnl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L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eficiente de transferencia de 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rea de adsorbente por unidad de volumen de l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y* Concentración hipotética de soluto en el líquido en equilibrio con la concentración de soluto en el adsorbente.</a:t>
            </a:r>
            <a:r>
              <a:rPr b="0" lang="es-ES" sz="2000" spc="-1" strike="noStrike">
                <a:solidFill>
                  <a:srgbClr val="6699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24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62320" y="914400"/>
                <a:ext cx="32385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685800" y="5410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stema de ecuaciones resulta difícil de resolver, se suelen utilizar métodos numéricos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3333cc"/>
                </a:solidFill>
                <a:uFillTx/>
                <a:latin typeface="Times New Roman"/>
              </a:rPr>
              <a:t>La etapa Controlante puede variar según la escala del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0"/>
            <a:ext cx="8229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dsorción en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romatografía de 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066680"/>
            <a:ext cx="800100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romatografía es un método de separación par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solver mezclas y aislar compo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 base de la cromatografía e la migración diferencial, es decir, el retardo selectivo de las moléculas de soluto durante su paso a través del lecho de partículas de resi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3124080"/>
            <a:ext cx="77724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el caso de las cromatografías de elución se utilizan los 5 pasos mencionados para la adsor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Equilibri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Inyección de la mues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avado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Limpieza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28600"/>
            <a:ext cx="7772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s-ES_tradnl" sz="2000" spc="-1" strike="noStrike">
                <a:solidFill>
                  <a:srgbClr val="a50021"/>
                </a:solidFill>
                <a:latin typeface="Comic Sans MS"/>
              </a:rPr>
              <a:t>Elu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puede ser llevada a cabo de varias form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socrát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 eluy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mantiene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38680" y="609480"/>
          <a:ext cx="2428920" cy="19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609480"/>
                    <a:ext cx="24289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5638680" y="2514600"/>
          <a:ext cx="2514600" cy="19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14600"/>
                    <a:ext cx="251460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715000" y="4648320"/>
          <a:ext cx="2590920" cy="205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5000" y="4648320"/>
                    <a:ext cx="259092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33520" y="2819520"/>
            <a:ext cx="441936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a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composición del eluyente varía gradu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Lin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 Escalo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304920"/>
            <a:ext cx="79250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Modelos formulados para Procesos Cromatográficos</a:t>
            </a: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Predicen los tiempos de ret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La forma de las cur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modelos so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adís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balance de m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 pla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562720" y="1752480"/>
          <a:ext cx="3143160" cy="244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752480"/>
                    <a:ext cx="314316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000" y="4724280"/>
            <a:ext cx="38098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(t):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: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619280" y="2276640"/>
          <a:ext cx="223200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276640"/>
                    <a:ext cx="223200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826920" y="1125360"/>
            <a:ext cx="7561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Teoría de los momentos estadísticos de Gidding y Eyring (195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momento se calcul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211640" y="2133720"/>
            <a:ext cx="49323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076720" y="549360"/>
            <a:ext cx="3670560" cy="3959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620640"/>
            <a:ext cx="42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primer momento, 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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representa el tiempo de retención medio de la cur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3645000"/>
            <a:ext cx="424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segundo momento indica la varianza alrededor del valor medio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47640" y="1609560"/>
          <a:ext cx="1932120" cy="169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09560"/>
                    <a:ext cx="1932120" cy="16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4724280"/>
          <a:ext cx="2449440" cy="157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35280" y="4724280"/>
                    <a:ext cx="244944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tercer momento indica la magnitud de la asimetria del peak (Skew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843280" y="3141720"/>
          <a:ext cx="419076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141720"/>
                    <a:ext cx="4190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067280" y="1989000"/>
                <a:ext cx="194472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kewnes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66"/>
                </a:solidFill>
                <a:latin typeface="Comic Sans MS"/>
              </a:rPr>
              <a:t>Adsorción en lecho fi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7704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l cuarto momento indica la delgadez del peak (Kurtosis)</a:t>
            </a:r>
            <a:r>
              <a:rPr b="0" lang="es-E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95640" y="3573360"/>
          <a:ext cx="4103640" cy="27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3573360"/>
                    <a:ext cx="410364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987640" y="2219400"/>
                <a:ext cx="262404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osi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116000" y="3141720"/>
            <a:ext cx="77040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Estadístico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8920" y="83772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</a:t>
            </a:r>
            <a:r>
              <a:rPr b="1" lang="es-ES" sz="32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lo estocástic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Modelo dinámico molecu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basa en que la reacción de adsorción y desorción en la superficie es el 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paso controlante</a:t>
            </a: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, despreciando los fenómenos de transferencia de ma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lnSpc>
                <a:spcPct val="95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Describir la distribución del tiempo de retención como una función de distribución del tipo de Poiss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</a:t>
            </a:r>
            <a:r>
              <a:rPr b="1" i="1" lang="en-US" sz="4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Equilibrio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idera el equilibrio entre las dos fases (sólido y solución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da soluto se distribuye entre las 2 fases (en equilibrio) según una constante de distrib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onstante de Distribución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 K = q/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No considera la dispersión axial ni la resistencia a la transferencia de 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Este tipo de modelos permite predecir el tiempo de retención en la columna de cromatografía cuando la transferencia de masa es prácticamente infinita, pero </a:t>
            </a: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falla para predecir cambios en las condiciones de oper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eoria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799308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5000"/>
              </a:lnSpc>
              <a:spcBef>
                <a:spcPts val="45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ecuación básica en el equilibrio está dada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247840" y="1989000"/>
                <a:ext cx="37814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u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6442200" y="3716280"/>
            <a:ext cx="2701800" cy="19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W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H = (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t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-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r>
              <a:rPr b="1" lang="en-GB" sz="16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)/V</a:t>
            </a:r>
            <a:r>
              <a:rPr b="1" lang="en-GB" sz="1600" spc="-1" strike="noStrike" baseline="-25000">
                <a:solidFill>
                  <a:srgbClr val="0066ff"/>
                </a:solidFill>
                <a:latin typeface="Comic Sans MS"/>
                <a:ea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o: Void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66ff"/>
                </a:solidFill>
                <a:latin typeface="Comic Sans MS"/>
                <a:ea typeface="Times New Roman"/>
              </a:rPr>
              <a:t>Vt : Total volume of the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581360"/>
            <a:ext cx="48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q = K*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4000" y="2637000"/>
            <a:ext cx="2519280" cy="1400040"/>
            <a:chOff x="324000" y="2637000"/>
            <a:chExt cx="2519280" cy="1400040"/>
          </a:xfrm>
        </p:grpSpPr>
        <p:sp>
          <p:nvSpPr>
            <p:cNvPr id="168" name=""/>
            <p:cNvSpPr/>
            <p:nvPr/>
          </p:nvSpPr>
          <p:spPr>
            <a:xfrm>
              <a:off x="324000" y="321300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mobile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1619280" y="2637000"/>
              <a:ext cx="79200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780000" y="2852280"/>
            <a:ext cx="2519280" cy="1256400"/>
            <a:chOff x="3780000" y="2852280"/>
            <a:chExt cx="2519280" cy="1256400"/>
          </a:xfrm>
        </p:grpSpPr>
        <p:sp>
          <p:nvSpPr>
            <p:cNvPr id="171" name=""/>
            <p:cNvSpPr/>
            <p:nvPr/>
          </p:nvSpPr>
          <p:spPr>
            <a:xfrm>
              <a:off x="3780000" y="3284640"/>
              <a:ext cx="2519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Accumulation of the solute in the stationary pha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4427640" y="2852280"/>
              <a:ext cx="288720" cy="50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012000" y="2276640"/>
            <a:ext cx="3132000" cy="580680"/>
            <a:chOff x="6012000" y="2276640"/>
            <a:chExt cx="3132000" cy="580680"/>
          </a:xfrm>
        </p:grpSpPr>
        <p:sp>
          <p:nvSpPr>
            <p:cNvPr id="174" name=""/>
            <p:cNvSpPr/>
            <p:nvPr/>
          </p:nvSpPr>
          <p:spPr>
            <a:xfrm>
              <a:off x="6624720" y="2276640"/>
              <a:ext cx="25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Mass transport by conv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6012000" y="2420640"/>
              <a:ext cx="50472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058920" y="5877000"/>
            <a:ext cx="3659760" cy="793080"/>
            <a:chOff x="3058920" y="5877000"/>
            <a:chExt cx="3659760" cy="793080"/>
          </a:xfrm>
        </p:grpSpPr>
        <p:sp>
          <p:nvSpPr>
            <p:cNvPr id="177" name=""/>
            <p:cNvSpPr/>
            <p:nvPr/>
          </p:nvSpPr>
          <p:spPr>
            <a:xfrm>
              <a:off x="3714120" y="6021360"/>
              <a:ext cx="30045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K = 1-K</a:t>
              </a:r>
              <a:r>
                <a:rPr b="1" lang="en-GB" sz="3200" spc="-1" strike="noStrike" baseline="-25000">
                  <a:solidFill>
                    <a:srgbClr val="a50021"/>
                  </a:solidFill>
                  <a:latin typeface="Comic Sans MS"/>
                  <a:ea typeface="Times New Roman"/>
                </a:rPr>
                <a:t>1*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(</a:t>
              </a:r>
              <a:r>
                <a:rPr b="1" lang="en-GB" sz="32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C</a:t>
              </a:r>
              <a:r>
                <a:rPr b="1" lang="en-GB" sz="32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/Co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3058920" y="5877000"/>
              <a:ext cx="433080" cy="50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403280" y="333360"/>
            <a:ext cx="6913440" cy="4893840"/>
            <a:chOff x="1403280" y="333360"/>
            <a:chExt cx="6913440" cy="489384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1403280" y="333360"/>
              <a:ext cx="6913440" cy="48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3412080" y="4806720"/>
              <a:ext cx="289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971640" y="5445000"/>
            <a:ext cx="784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Calculated elution curve using the equilibrium theory as a function of non linearity of the distribution coefficient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15000" y="1130400"/>
            <a:ext cx="1883160" cy="491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K = 1-K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  <a:ea typeface="Times New Roman"/>
              </a:rPr>
              <a:t>1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(C/Co</a:t>
            </a:r>
            <a:r>
              <a:rPr b="1" lang="en-GB" sz="24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Balances de Masa (Rat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143000"/>
            <a:ext cx="871380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presentan los balances  para la fase móvil y otro para las partícu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e incluye la expresión para describir la transferencia de masa interfacial entre la fase móvil y la estacion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La transferencia de masa puede ser controlada por uno o más de los siguientes fenómen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ex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a la transferencia de mas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Resistencia relacionada con la cinética de reacción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333360"/>
            <a:ext cx="8064720" cy="63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para predecir los perfiles cromat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de 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Predicen los tiempos de reten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La forma de las cu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modelos son del ti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Mecanístic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asado en los mecanismos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-mecaníst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delos estadísticos que describen las curvas en base a ecuaciones de Gaussi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3520" y="0"/>
            <a:ext cx="822960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Modelos de aproximación num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eoría de platos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895480"/>
            <a:ext cx="8153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de sol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Acumulación de soluto en el líquido}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{ Entrada de soluto} –{Salida de soluto} –{Adsorción en la matriz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832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52480" y="4495680"/>
                <a:ext cx="6324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ξ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e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33520" y="1066680"/>
            <a:ext cx="342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siste en simular el lecho fijo como un conjunto de N reactores perfectamente agitados en serie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4120"/>
            <a:ext cx="8001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acción de volumen de líquido por etapa o fracción de huecos por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: Volumen de la etapa n (líquido + adsorbente)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419720" y="380880"/>
          <a:ext cx="123336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80880"/>
                    <a:ext cx="123336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5562720" y="1143000"/>
          <a:ext cx="35812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143000"/>
                    <a:ext cx="35812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8534520" y="47242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60020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53352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609480"/>
            <a:ext cx="73915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lineal 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q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1" lang="es-ES_tradnl" sz="24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 = k y</a:t>
            </a:r>
            <a:r>
              <a:rPr b="1" lang="es-ES_tradnl" sz="2400" spc="-1" strike="noStrike" baseline="-30000">
                <a:solidFill>
                  <a:srgbClr val="cc0000"/>
                </a:solidFill>
                <a:latin typeface="Comic Sans MS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98108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las relaciones (1) y (2) se tien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0996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447920" y="2666880"/>
                <a:ext cx="48387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t xml:space="preserve">k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F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09480" y="388620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*= [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(1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:  Volumen equivalente al líquido de cad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do que el volumen total del lecho es V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c = N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la variable : Tiempo adimensional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671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95280" y="5715000"/>
                <a:ext cx="55627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ξ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k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5334120" y="990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27432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7913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3520" y="762120"/>
            <a:ext cx="807696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 la ecuación (3) queda de la 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as condiciones para integr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Para todo t &lt;o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    n =1,2,....,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Inyección inicial d un pulso muy corto t=0 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196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1371600"/>
                <a:ext cx="2361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τ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380880" y="3886200"/>
            <a:ext cx="7925040" cy="28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respuesta a esta integral es una Distribución de Pois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y</a:t>
            </a:r>
            <a:r>
              <a:rPr b="0" lang="es-ES_tradnl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ncentración en el pulso de alimenta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2888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33720" y="4952880"/>
                <a:ext cx="29001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τ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τ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7960" y="76320"/>
            <a:ext cx="86360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66"/>
                </a:solidFill>
                <a:uFillTx/>
                <a:latin typeface="Comic Sans MS"/>
              </a:rPr>
              <a:t>Cromatografía de Lecho Fi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</a:rPr>
              <a:t>Es la técnica más utilizada a escala industrial para la purificación de proteínas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</a:rPr>
              <a:t>, debido principalmente  a  presentar la mayor área de adsorción por unidad de volum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814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362320" y="2666880"/>
          <a:ext cx="510516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66880"/>
                    <a:ext cx="510516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361944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Comic Sans MS"/>
              </a:rPr>
              <a:t>Consiste en una columna o tubo vertical relleno con partículas de adsorb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6385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14400" y="304920"/>
          <a:ext cx="396252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04920"/>
                    <a:ext cx="396252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5943600" y="685800"/>
            <a:ext cx="228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 N &gt; 30 esta distribución tiende a una Distribución Gaussi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04920" y="3649680"/>
            <a:ext cx="8839080" cy="2953800"/>
            <a:chOff x="304920" y="3649680"/>
            <a:chExt cx="8839080" cy="2953800"/>
          </a:xfrm>
        </p:grpSpPr>
        <p:sp>
          <p:nvSpPr>
            <p:cNvPr id="221" name=""/>
            <p:cNvSpPr/>
            <p:nvPr/>
          </p:nvSpPr>
          <p:spPr>
            <a:xfrm>
              <a:off x="304920" y="3886200"/>
              <a:ext cx="5181480" cy="271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 </a:t>
              </a:r>
              <a:r>
                <a:rPr b="1" lang="es-ES_tradnl" sz="2000" spc="-1" strike="noStrike" u="sng">
                  <a:solidFill>
                    <a:srgbClr val="3333cc"/>
                  </a:solidFill>
                  <a:uFillTx/>
                  <a:latin typeface="Times New Roman"/>
                  <a:ea typeface="Times New Roman"/>
                </a:rPr>
                <a:t>Ecuación de un perfil cromatográf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(7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Donde yo: Concentración máxima en el perf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	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es la desviación estándar ,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</a:t>
              </a:r>
              <a:r>
                <a:rPr b="0" lang="es-ES_tradnl" sz="2000" spc="-1" strike="noStrike" baseline="30000">
                  <a:solidFill>
                    <a:srgbClr val="3333cc"/>
                  </a:solidFill>
                  <a:latin typeface="Symbol"/>
                  <a:ea typeface="Symbol"/>
                </a:rPr>
                <a:t>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 = 1/N</a:t>
              </a:r>
              <a:r>
                <a:rPr b="0" lang="es-E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2" name=""/>
                <p:cNvSpPr txBox="1"/>
                <p:nvPr/>
              </p:nvSpPr>
              <p:spPr>
                <a:xfrm>
                  <a:off x="533520" y="4495680"/>
                  <a:ext cx="3600360" cy="104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(</m:t>
                              </m:r>
                              <m:r>
                                <m:t xml:space="preserve">τ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τ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⋅</m:t>
                              </m:r>
                              <m:sSubSup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grpSp>
          <p:nvGrpSpPr>
            <p:cNvPr id="223" name=""/>
            <p:cNvGrpSpPr/>
            <p:nvPr/>
          </p:nvGrpSpPr>
          <p:grpSpPr>
            <a:xfrm>
              <a:off x="5638680" y="3649680"/>
              <a:ext cx="3505320" cy="2753640"/>
              <a:chOff x="5638680" y="3649680"/>
              <a:chExt cx="3505320" cy="2753640"/>
            </a:xfrm>
          </p:grpSpPr>
          <p:graphicFrame>
            <p:nvGraphicFramePr>
              <p:cNvPr id="224" name=""/>
              <p:cNvGraphicFramePr/>
              <p:nvPr/>
            </p:nvGraphicFramePr>
            <p:xfrm>
              <a:off x="5638680" y="3649680"/>
              <a:ext cx="3505320" cy="25542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2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38680" y="3649680"/>
                        <a:ext cx="3505320" cy="255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"/>
              <p:cNvSpPr/>
              <p:nvPr/>
            </p:nvSpPr>
            <p:spPr>
              <a:xfrm>
                <a:off x="7772400" y="5943600"/>
                <a:ext cx="4572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0880" y="380880"/>
            <a:ext cx="8305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l número de plato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terminar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05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514600" y="838080"/>
                <a:ext cx="193824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40957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267080" y="1752480"/>
                <a:ext cx="17719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228600" y="2895480"/>
            <a:ext cx="8610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Determinación de la constante de la isoterma, 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ación de la constante k de la isote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mostrar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despejar k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0504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895480" y="4267080"/>
                <a:ext cx="4319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ξ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V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403848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438280" y="5334120"/>
                <a:ext cx="22860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blema 1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romatografía de B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0 g de BSA son eluidos desde una columna de 80 litros de Sephadex, con una fracción de huecos de 0.4. La proteína eluyó a los 470 litros, el máximo de concentración es de 1.8% de la concentración máxima que se inyect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constante de equilibrio con la cual se une la BSA al Sepha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número de platos de la colum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erfil de elución de BSA desde la column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828800" y="457200"/>
            <a:ext cx="5943240" cy="5866920"/>
            <a:chOff x="1828800" y="457200"/>
            <a:chExt cx="5943240" cy="5866920"/>
          </a:xfrm>
        </p:grpSpPr>
        <p:sp>
          <p:nvSpPr>
            <p:cNvPr id="58" name=""/>
            <p:cNvSpPr/>
            <p:nvPr/>
          </p:nvSpPr>
          <p:spPr>
            <a:xfrm>
              <a:off x="2375280" y="457200"/>
              <a:ext cx="5374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66"/>
                  </a:solidFill>
                  <a:uFillTx/>
                  <a:latin typeface="Comic Sans MS"/>
                </a:rPr>
                <a:t>Esquema de una Cromatografía en  Lecho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1828800" y="1296000"/>
            <a:ext cx="5943240" cy="502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296000"/>
                      <a:ext cx="5943240" cy="502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38088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Las cromatografías en Lecho Fijo son procesos no estacionari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El líquido que contiene el soluto se hace pasar a través del lecho y la carga o cantidad de producto retenido va aumentando en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e pueden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llev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 a cabo de dos form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8480" y="15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4648320"/>
            <a:ext cx="8191440" cy="1741320"/>
            <a:chOff x="533520" y="4648320"/>
            <a:chExt cx="8191440" cy="1741320"/>
          </a:xfrm>
        </p:grpSpPr>
        <p:graphicFrame>
          <p:nvGraphicFramePr>
            <p:cNvPr id="64" name=""/>
            <p:cNvGraphicFramePr/>
            <p:nvPr/>
          </p:nvGraphicFramePr>
          <p:xfrm>
            <a:off x="5638680" y="4724280"/>
            <a:ext cx="3086280" cy="1665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638680" y="4724280"/>
                      <a:ext cx="3086280" cy="1665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533520" y="4648320"/>
              <a:ext cx="4190760" cy="16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Cromatografía de </a:t>
              </a:r>
              <a:r>
                <a:rPr b="1" lang="es-ES" sz="1800" spc="-1" strike="noStrike" u="sng">
                  <a:solidFill>
                    <a:srgbClr val="a50021"/>
                  </a:solidFill>
                  <a:uFillTx/>
                  <a:latin typeface="Comic Sans MS"/>
                </a:rPr>
                <a:t>Elu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a50021"/>
                  </a:solidFill>
                  <a:latin typeface="Comic Sans MS"/>
                </a:rPr>
                <a:t>Inyecta una muestra y luego se aplican condiciones que las proteínas eluyan en forma diferen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85800" y="2057400"/>
            <a:ext cx="8172360" cy="2178000"/>
            <a:chOff x="685800" y="2057400"/>
            <a:chExt cx="8172360" cy="2178000"/>
          </a:xfrm>
        </p:grpSpPr>
        <p:graphicFrame>
          <p:nvGraphicFramePr>
            <p:cNvPr id="68" name=""/>
            <p:cNvGraphicFramePr/>
            <p:nvPr/>
          </p:nvGraphicFramePr>
          <p:xfrm>
            <a:off x="5410080" y="2057400"/>
            <a:ext cx="3448080" cy="2116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2057400"/>
                      <a:ext cx="3448080" cy="211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0" name=""/>
            <p:cNvSpPr/>
            <p:nvPr/>
          </p:nvSpPr>
          <p:spPr>
            <a:xfrm>
              <a:off x="685800" y="2209680"/>
              <a:ext cx="449568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Análisis Frontal</a:t>
              </a:r>
              <a:r>
                <a:rPr b="1" lang="es-ES_tradnl" sz="1800" spc="-1" strike="noStrike" u="sng">
                  <a:solidFill>
                    <a:srgbClr val="3333cc"/>
                  </a:solidFill>
                  <a:uFillTx/>
                  <a:latin typeface="Comic Sans MS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Se alimenta constantemente la columna </a:t>
              </a:r>
              <a:r>
                <a:rPr b="0" lang="es-ES_tradnl" sz="18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3333cc"/>
                  </a:solidFill>
                  <a:latin typeface="Comic Sans MS"/>
                </a:rPr>
                <a:t>hasta que se satura, se utiliza para caracterizar la capacidad de la columna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55640" y="2286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Comic Sans MS"/>
              </a:rPr>
              <a:t>Types of chromatographic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990720"/>
            <a:ext cx="548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990033"/>
                </a:solidFill>
                <a:uFillTx/>
                <a:latin typeface="Comic Sans MS"/>
              </a:rPr>
              <a:t>Displacement chromat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A procedure in which the mobile phase contains a compound more strongly retained than the components of the sample under examination. The sample is fed into the system as a finite slu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Comic Sans MS"/>
              </a:rPr>
              <a:t>The main disadvantage is that it can not elute solutes discretely and each solute will always be contaminated by its neighbou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14130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1125360"/>
            <a:ext cx="15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 + displ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156360" y="1916280"/>
            <a:ext cx="211752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0"/>
            <a:ext cx="792468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AAnálisis Fro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Curva de Ruptura ( Breakthrough curv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SSe alimenta constantemente la columna hasta que se satur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826920" y="1881360"/>
          <a:ext cx="7848720" cy="41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81360"/>
                    <a:ext cx="7848720" cy="41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3520" y="5972040"/>
            <a:ext cx="86104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R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de quiebre donde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se empieza a saturar la colum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</a:t>
            </a:r>
            <a:r>
              <a:rPr b="0" lang="es-ES" sz="1600" spc="-1" strike="noStrike" baseline="-30000">
                <a:solidFill>
                  <a:srgbClr val="a50021"/>
                </a:solidFill>
                <a:latin typeface="Comic Sans MS"/>
                <a:ea typeface="Times New Roman"/>
              </a:rPr>
              <a:t>S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: Tiempo cuando la columna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est</a:t>
            </a:r>
            <a:r>
              <a:rPr b="0" lang="es-ES_tradnl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completamente saturada y es completamente ineficiente.</a:t>
            </a:r>
            <a:r>
              <a:rPr b="0" lang="es-ES" sz="1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28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</a:rPr>
              <a:t>e utiliza para caracterizar la capacidad de la columna.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Dado que la forma de la curva influye fuertemente el diseño y operación de la colum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3716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l área bajo la curva es la cantidad de soluto que se ha perdido en el efluente, luego se hace necesario detener el proceso antes que el lecho quede completamente satu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438280" y="2590920"/>
            <a:ext cx="4190760" cy="3657600"/>
            <a:chOff x="2438280" y="2590920"/>
            <a:chExt cx="4190760" cy="3657600"/>
          </a:xfrm>
        </p:grpSpPr>
        <p:graphicFrame>
          <p:nvGraphicFramePr>
            <p:cNvPr id="84" name=""/>
            <p:cNvGraphicFramePr/>
            <p:nvPr/>
          </p:nvGraphicFramePr>
          <p:xfrm>
            <a:off x="2438280" y="2590920"/>
            <a:ext cx="4190760" cy="365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590920"/>
                      <a:ext cx="4190760" cy="365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" name=""/>
            <p:cNvSpPr/>
            <p:nvPr/>
          </p:nvSpPr>
          <p:spPr>
            <a:xfrm>
              <a:off x="3898440" y="4038480"/>
              <a:ext cx="1265760" cy="68580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769608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886200"/>
            <a:ext cx="79250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La predicción de la curva, permite diseñar columnas pa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Alcanzar cierto grado de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cu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imar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·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Dimensionar la columna</a:t>
            </a: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así se determina la cantidad de resina y el tiempo requerido para la adsorción de una cantidad determinada de solu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952880" y="228600"/>
            <a:ext cx="3810240" cy="3498840"/>
            <a:chOff x="4952880" y="228600"/>
            <a:chExt cx="3810240" cy="3498840"/>
          </a:xfrm>
        </p:grpSpPr>
        <p:graphicFrame>
          <p:nvGraphicFramePr>
            <p:cNvPr id="90" name=""/>
            <p:cNvGraphicFramePr/>
            <p:nvPr/>
          </p:nvGraphicFramePr>
          <p:xfrm>
            <a:off x="4952880" y="228600"/>
            <a:ext cx="3810240" cy="349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28600"/>
                      <a:ext cx="3810240" cy="349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" name=""/>
            <p:cNvSpPr/>
            <p:nvPr/>
          </p:nvSpPr>
          <p:spPr>
            <a:xfrm flipV="1">
              <a:off x="6324480" y="1066680"/>
              <a:ext cx="533520" cy="7596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552720" y="2514600"/>
              <a:ext cx="685800" cy="76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28600" y="114300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Esto produce el inconvenientes que se desaprovecha una parte de la capacidad del l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7-09-03T20:38:17Z</dcterms:modified>
  <cp:revision>119</cp:revision>
  <dc:subject/>
  <dc:title>Separación Sólido-Líquido</dc:title>
</cp:coreProperties>
</file>