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62F8-D7C0-40C3-B6D9-4AF5B33EC82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EAF-6435-4C52-AF17-4743FCC2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559-6837-4C70-A21E-B39400FF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1A58-C914-4C75-9E04-A5624D7D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886A-CA50-4A61-AEB0-B850EBBE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154-A4F8-4C8B-BBC0-9DF6DD00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CE8-CB47-4F82-8CF1-986F54DB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D0B-545C-4B7D-9BA4-2FED67A5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3349-D023-421E-A344-EEAD60BC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A95-B948-4343-B14D-50CF95FC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A03-AFBB-489B-AD8C-9EC97418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1D52-5AFB-4DA8-88E8-A3854D4C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DD8A-0C4B-4171-8757-57F8027B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4B77-D7F7-4427-8FB6-D637CD53A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168" name="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171" name="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4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77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9640" y="333360"/>
            <a:ext cx="8064720" cy="63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para predecir los perfiles cromat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221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23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224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9-03T20:38:17Z</dcterms:modified>
  <cp:revision>119</cp:revision>
  <dc:subject/>
  <dc:title>Separación Sólido-Líquido</dc:title>
</cp:coreProperties>
</file>