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1578-9BA6-4641-B347-7744F94E3D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2BD-BA10-49D7-911F-B6141770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4DE-673C-4BE6-9A78-996936A7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DB99-3A12-4E84-AF71-AC8D3066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3F5-FE13-486D-8B2B-F8B5D1B4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9D9-8F87-4C26-8421-A6266677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A87-394A-4A65-88BF-A7C83F17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282B-2F90-4BEF-B46E-45F01038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62A-C6A9-4F16-9A34-8D14E8E2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C8D8-5E06-4D67-9D33-9486E7F9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2D4-F909-4965-BF96-46027B89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1D9-60E7-4418-BD4C-5B22C9DD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6A3E-5893-4EE7-A864-45703122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936F-54EB-4EDA-8BC7-F93E7730D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102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49323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83772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para predecir cambios en las condiciones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442200" y="3716280"/>
            <a:ext cx="270180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id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Total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58136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4000" y="2637000"/>
            <a:ext cx="2519280" cy="1400040"/>
            <a:chOff x="324000" y="2637000"/>
            <a:chExt cx="2519280" cy="1400040"/>
          </a:xfrm>
        </p:grpSpPr>
        <p:sp>
          <p:nvSpPr>
            <p:cNvPr id="168" name=""/>
            <p:cNvSpPr/>
            <p:nvPr/>
          </p:nvSpPr>
          <p:spPr>
            <a:xfrm>
              <a:off x="324000" y="321300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mobile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780000" y="2852280"/>
            <a:ext cx="2519280" cy="1256400"/>
            <a:chOff x="3780000" y="2852280"/>
            <a:chExt cx="2519280" cy="1256400"/>
          </a:xfrm>
        </p:grpSpPr>
        <p:sp>
          <p:nvSpPr>
            <p:cNvPr id="171" name=""/>
            <p:cNvSpPr/>
            <p:nvPr/>
          </p:nvSpPr>
          <p:spPr>
            <a:xfrm>
              <a:off x="3780000" y="328464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stationary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4427640" y="2852280"/>
              <a:ext cx="28872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174" name="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Mass transport by conv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177" name="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n-GB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n-GB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971640" y="5445000"/>
            <a:ext cx="78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lculated elution curve using the equilibrium theory as a function of non linearity of the distribution coefficient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esentan los balances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9640" y="333360"/>
            <a:ext cx="8064720" cy="63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para predecir los perfiles cromat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0"/>
            <a:ext cx="82296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eoría de platos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221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23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224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8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64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68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5640" y="2286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Types of chromatographi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990720"/>
            <a:ext cx="54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33"/>
                </a:solidFill>
                <a:uFillTx/>
                <a:latin typeface="Comic Sans MS"/>
              </a:rPr>
              <a:t>Displacement chroma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A procedure in which the mobile phase contains a compound more strongly retained than the components of the sample under examination. The sample is fed into the system as a finite slu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he main disadvantage is that it can not elute solutes discretely and each solute will always be contaminated by its neighbo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1881360"/>
          <a:ext cx="784872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784872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84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90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7-09-03T20:38:17Z</dcterms:modified>
  <cp:revision>119</cp:revision>
  <dc:subject/>
  <dc:title>Separación Sólido-Líquido</dc:title>
</cp:coreProperties>
</file>