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1.png" ContentType="image/png"/>
  <Override PartName="/ppt/media/image23.png" ContentType="image/png"/>
  <Override PartName="/ppt/media/image22.wmf" ContentType="image/x-wmf"/>
  <Override PartName="/ppt/media/image6.png" ContentType="image/png"/>
  <Override PartName="/ppt/media/image21.wmf" ContentType="image/x-wmf"/>
  <Override PartName="/ppt/media/image20.png" ContentType="image/png"/>
  <Override PartName="/ppt/media/image3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544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CDA1-9AE5-448C-B1C3-D76B76D5E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E1AA-75E4-41C3-BAAF-F6BEB0B5A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BC3D-2861-4234-BDB7-0D1F9B36F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8714-35B6-479A-95A3-FC2803A05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2764-3D42-4D26-80E2-6D1021A24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E382-1B80-49D2-BDA3-73E3355CF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F6D9-CC14-492A-BF1B-B7CF518BD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72AE-9785-4A7D-B5AA-36126B2A2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4A67-C846-45AF-86F1-9733C59BB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83C7-DD3B-477C-9557-47DE9898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6D2D-5BEE-4817-AB2E-8DB16DD0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BFB2-7C77-4A0A-ADF3-C380A067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42804-1427-4D53-804B-12BE0C86C3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Purificación</a:t>
            </a:r>
            <a:br>
              <a:rPr sz="4400"/>
            </a:br>
            <a:r>
              <a:rPr b="0" lang="es-ES" sz="4400" spc="-1" strike="noStrike">
                <a:solidFill>
                  <a:srgbClr val="000066"/>
                </a:solidFill>
                <a:latin typeface="Comic Sans MS"/>
              </a:rPr>
              <a:t>de Alta Resol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Comic Sans MS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1122480"/>
            <a:ext cx="9144000" cy="57355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404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Características básicas de cada técnica cromat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6769080" cy="49086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755640" y="33336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¿ Cuando se aplican estas técnica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755640" y="33336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¿ Cuando se aplican estas técnica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971640" y="981000"/>
            <a:ext cx="720864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042920" y="33336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Cuantificación del proceso de pur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1062000"/>
            <a:ext cx="88930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Procesos de Adsor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533520" y="1219320"/>
          <a:ext cx="377820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19320"/>
                    <a:ext cx="377820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4267080" y="914400"/>
            <a:ext cx="45720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Paso 1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Acondicionamiento de la matriz, que se logra ajustando  el pH o la fuerza ióni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2120" y="3049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Comic Sans MS"/>
              </a:rPr>
              <a:t>Pasos de un proceso de Adsor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91120" y="1905120"/>
            <a:ext cx="472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Paso 2</a:t>
            </a: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 Aplicación y adsorción de la muestra, la cual se adsorbe en la fase estaciona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267080" y="2971800"/>
            <a:ext cx="487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Paso 3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Lavar la columna para que salgan todas las proteínas que no han sido retenid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67080" y="3962520"/>
            <a:ext cx="45720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Paso 4 </a:t>
            </a: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Modificación de las condiciones de la fase móvil de tal manera de debilitar las interacciones entre la proteína y la fase estacionarias, lo que provoca la elución de la proteína de acuerdo a los diferentes grados de interacción con la fase estaciona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211640" y="6262560"/>
            <a:ext cx="446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Paso 5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Regeneración de la fase estaciona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93840" y="0"/>
            <a:ext cx="8369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Comic Sans MS"/>
              </a:rPr>
              <a:t>Proceso de 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Comic Sans MS"/>
              </a:rPr>
              <a:t>Isotermas de Adsor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Las isotermas de adsorción muestran las características 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Comic Sans MS"/>
              </a:rPr>
              <a:t>en el estado de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Comic Sans MS"/>
              </a:rPr>
              <a:t>equilibrio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entre la concentración de soluto en la fase sólida (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) y la fase líquida (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y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3048120" y="2286000"/>
          <a:ext cx="381132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286000"/>
                    <a:ext cx="381132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 rot="16200000">
            <a:off x="1040040" y="3300840"/>
            <a:ext cx="30466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Concentración de solu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En la fase sólida, q  [gr/cm</a:t>
            </a:r>
            <a:r>
              <a:rPr b="0" lang="es-ES" sz="1600" spc="-1" strike="noStrike" baseline="30000">
                <a:solidFill>
                  <a:srgbClr val="3333cc"/>
                </a:solidFill>
                <a:latin typeface="Comic Sans MS"/>
              </a:rPr>
              <a:t>3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609480" y="1447920"/>
          <a:ext cx="8001000" cy="5005440"/>
        </p:xfrm>
        <a:graphic>
          <a:graphicData uri="http://schemas.openxmlformats.org/drawingml/2006/table">
            <a:tbl>
              <a:tblPr/>
              <a:tblGrid>
                <a:gridCol w="1905120"/>
                <a:gridCol w="1905120"/>
                <a:gridCol w="4190760"/>
              </a:tblGrid>
              <a:tr h="120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Tipo de Isoter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oncentración de Soluto adsorbi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omenta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Lin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q= K</a:t>
                      </a:r>
                      <a:r>
                        <a:rPr b="1" lang="en-US" sz="2400" spc="-1" strike="noStrike" baseline="-25000">
                          <a:solidFill>
                            <a:srgbClr val="a50021"/>
                          </a:solidFill>
                          <a:latin typeface="Comic Sans MS"/>
                        </a:rPr>
                        <a:t>L</a:t>
                      </a: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 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Es la menos común y se aplica a bajas concentraciones de proteí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Es la que más se apl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Freundli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q= K</a:t>
                      </a:r>
                      <a:r>
                        <a:rPr b="1" lang="es-ES" sz="2400" spc="-1" strike="noStrike" baseline="-25000">
                          <a:solidFill>
                            <a:srgbClr val="a50021"/>
                          </a:solidFill>
                          <a:latin typeface="Comic Sans MS"/>
                        </a:rPr>
                        <a:t>F</a:t>
                      </a:r>
                      <a:r>
                        <a:rPr b="1" lang="es-E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 y</a:t>
                      </a:r>
                      <a:r>
                        <a:rPr b="1" lang="es-ES" sz="2400" spc="-1" strike="noStrike" baseline="30000">
                          <a:solidFill>
                            <a:srgbClr val="a50021"/>
                          </a:solidFill>
                          <a:latin typeface="Comic Sans MS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Si n&lt;1 Se tiene una adsorción favor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Si n&gt;1 se tiene una adsorción desfavorable Tiene fundamentos teóric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Langmui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q=</a:t>
                      </a:r>
                      <a:r>
                        <a:rPr b="1" lang="es-ES" sz="2400" spc="-1" strike="noStrike" u="sng">
                          <a:solidFill>
                            <a:srgbClr val="a50021"/>
                          </a:solidFill>
                          <a:uFillTx/>
                          <a:latin typeface="Comic Sans MS"/>
                        </a:rPr>
                        <a:t>(q</a:t>
                      </a:r>
                      <a:r>
                        <a:rPr b="1" lang="es-ES" sz="2400" spc="-1" strike="noStrike" u="sng" baseline="-25000">
                          <a:solidFill>
                            <a:srgbClr val="a50021"/>
                          </a:solidFill>
                          <a:uFillTx/>
                          <a:latin typeface="Comic Sans MS"/>
                        </a:rPr>
                        <a:t>o </a:t>
                      </a:r>
                      <a:r>
                        <a:rPr b="1" lang="es-ES" sz="2400" spc="-1" strike="noStrike" u="sng">
                          <a:solidFill>
                            <a:srgbClr val="a50021"/>
                          </a:solidFill>
                          <a:uFillTx/>
                          <a:latin typeface="Comic Sans MS"/>
                        </a:rPr>
                        <a:t> y)</a:t>
                      </a:r>
                      <a:r>
                        <a:rPr b="1" lang="es-E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         (K +y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q</a:t>
                      </a:r>
                      <a:r>
                        <a:rPr b="0" lang="es-ES" sz="1600" spc="-1" strike="noStrike" baseline="-25000">
                          <a:solidFill>
                            <a:srgbClr val="3333cc"/>
                          </a:solidFill>
                          <a:latin typeface="Comic Sans MS"/>
                        </a:rPr>
                        <a:t>o</a:t>
                      </a:r>
                      <a:r>
                        <a:rPr b="0" lang="es-E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 es la concentración máxima que puede ser adsorbida por el sólid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Es la única que posee fundamentos teórico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7" name=""/>
          <p:cNvSpPr/>
          <p:nvPr/>
        </p:nvSpPr>
        <p:spPr>
          <a:xfrm>
            <a:off x="22860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iferentes tipos de Isotermas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Comic Sans MS"/>
              </a:rPr>
              <a:t>Isoterma de Langmu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8600" y="1143000"/>
            <a:ext cx="8381880" cy="39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La isoterma de Langmuir representa el esto de equilibrio del soluto entre la fase líquida y la sólida. Para ello considera una especie de reacción química entre el soluto y los sitios activos del adsorb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Absorción</a:t>
            </a:r>
            <a:r>
              <a:rPr b="0" lang="en-US" sz="2000" spc="-1" strike="noStrike">
                <a:solidFill>
                  <a:srgbClr val="a50021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S + Y  </a:t>
            </a:r>
            <a:r>
              <a:rPr b="1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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 S-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Donde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Desorción </a:t>
            </a:r>
            <a:r>
              <a:rPr b="0" lang="en-US" sz="2000" spc="-1" strike="noStrike">
                <a:solidFill>
                  <a:srgbClr val="a50021"/>
                </a:solidFill>
                <a:latin typeface="Wingdings"/>
                <a:ea typeface="Wingdings"/>
              </a:rPr>
              <a:t>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S: sitios activos vacantes en el adsorb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S-P: sitios activos ocupados en el adsorb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ST: Sitios activos to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Y: Soluto en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228600" y="5410080"/>
            <a:ext cx="6051600" cy="1219320"/>
            <a:chOff x="228600" y="5410080"/>
            <a:chExt cx="6051600" cy="1219320"/>
          </a:xfrm>
        </p:grpSpPr>
        <mc:AlternateContent>
          <mc:Choice xmlns:a14="http://schemas.microsoft.com/office/drawing/2010/main" Requires="a14">
            <p:sp>
              <p:nvSpPr>
                <p:cNvPr id="231" name=""/>
                <p:cNvSpPr txBox="1"/>
                <p:nvPr/>
              </p:nvSpPr>
              <p:spPr>
                <a:xfrm>
                  <a:off x="4572000" y="5562720"/>
                  <a:ext cx="1708200" cy="91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´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[</m:t>
                          </m:r>
                          <m:r>
                            <m:t xml:space="preserve">Y</m:t>
                          </m:r>
                          <m:r>
                            <m:t xml:space="preserve">]</m:t>
                          </m:r>
                          <m:r>
                            <m:t xml:space="preserve">[</m:t>
                          </m:r>
                          <m:r>
                            <m:t xml:space="preserve">S</m:t>
                          </m:r>
                          <m:r>
                            <m:t xml:space="preserve">]</m:t>
                          </m:r>
                        </m:num>
                        <m:den>
                          <m:r>
                            <m:t xml:space="preserve">[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r>
                            <m:t xml:space="preserve">P</m:t>
                          </m:r>
                          <m:r>
                            <m:t xml:space="preserve">]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32" name=""/>
            <p:cNvSpPr/>
            <p:nvPr/>
          </p:nvSpPr>
          <p:spPr>
            <a:xfrm>
              <a:off x="228600" y="5410080"/>
              <a:ext cx="41911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La constante de desorción, K’ ,e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28600" y="304920"/>
            <a:ext cx="838188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Los sitios totales, ST se pueden expresar com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[ST]  =  [S] + [S-P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Luego, los sitios vacantes se pueden despejar en función de los sitios totales y los ocup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[S]  =  [ST] - [S-P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533520" y="3048120"/>
            <a:ext cx="7543800" cy="1753920"/>
            <a:chOff x="533520" y="3048120"/>
            <a:chExt cx="7543800" cy="1753920"/>
          </a:xfrm>
        </p:grpSpPr>
        <mc:AlternateContent>
          <mc:Choice xmlns:a14="http://schemas.microsoft.com/office/drawing/2010/main" Requires="a14">
            <p:sp>
              <p:nvSpPr>
                <p:cNvPr id="235" name=""/>
                <p:cNvSpPr txBox="1"/>
                <p:nvPr/>
              </p:nvSpPr>
              <p:spPr>
                <a:xfrm>
                  <a:off x="2085840" y="3886200"/>
                  <a:ext cx="3481560" cy="91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´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[</m:t>
                          </m:r>
                          <m:r>
                            <m:t xml:space="preserve">Y</m:t>
                          </m:r>
                          <m:r>
                            <m:t xml:space="preserve">]</m:t>
                          </m:r>
                          <m:r>
                            <m:t xml:space="preserve">⋅</m:t>
                          </m:r>
                          <m:r>
                            <m:t xml:space="preserve">(</m:t>
                          </m:r>
                          <m:r>
                            <m:t xml:space="preserve">[</m:t>
                          </m:r>
                          <m:r>
                            <m:rPr>
                              <m:lit/>
                              <m:nor/>
                            </m:rPr>
                            <m:t xml:space="preserve">ST</m:t>
                          </m:r>
                          <m:r>
                            <m:t xml:space="preserve">]</m:t>
                          </m:r>
                          <m:r>
                            <m:t xml:space="preserve">−</m:t>
                          </m:r>
                          <m:r>
                            <m:t xml:space="preserve">[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r>
                            <m:t xml:space="preserve">P</m:t>
                          </m:r>
                          <m:r>
                            <m:t xml:space="preserve">]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[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r>
                            <m:t xml:space="preserve">P</m:t>
                          </m:r>
                          <m:r>
                            <m:t xml:space="preserve">]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36" name=""/>
            <p:cNvSpPr/>
            <p:nvPr/>
          </p:nvSpPr>
          <p:spPr>
            <a:xfrm>
              <a:off x="533520" y="3048120"/>
              <a:ext cx="75438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De allí que se puede re-escribir la constante de desorción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04920" y="4724280"/>
            <a:ext cx="7543800" cy="1754280"/>
            <a:chOff x="304920" y="4724280"/>
            <a:chExt cx="7543800" cy="1754280"/>
          </a:xfrm>
        </p:grpSpPr>
        <p:sp>
          <p:nvSpPr>
            <p:cNvPr id="238" name=""/>
            <p:cNvSpPr/>
            <p:nvPr/>
          </p:nvSpPr>
          <p:spPr>
            <a:xfrm>
              <a:off x="304920" y="4724280"/>
              <a:ext cx="75438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Comic Sans MS"/>
                </a:rPr>
                <a:t>Despejando los “sitios ocupados”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9" name=""/>
                <p:cNvSpPr txBox="1"/>
                <p:nvPr/>
              </p:nvSpPr>
              <p:spPr>
                <a:xfrm>
                  <a:off x="2706840" y="5562720"/>
                  <a:ext cx="2487600" cy="91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[</m:t>
                      </m:r>
                      <m:r>
                        <m:t xml:space="preserve">S</m:t>
                      </m:r>
                      <m:r>
                        <m:t xml:space="preserve">−</m:t>
                      </m:r>
                      <m:r>
                        <m:t xml:space="preserve">P</m:t>
                      </m:r>
                      <m:r>
                        <m:t xml:space="preserve">]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[</m:t>
                          </m:r>
                          <m:r>
                            <m:rPr>
                              <m:lit/>
                              <m:nor/>
                            </m:rPr>
                            <m:t xml:space="preserve">ST</m:t>
                          </m:r>
                          <m:r>
                            <m:t xml:space="preserve">]</m:t>
                          </m:r>
                          <m:r>
                            <m:t xml:space="preserve">[</m:t>
                          </m:r>
                          <m:r>
                            <m:t xml:space="preserve">Y</m:t>
                          </m:r>
                          <m:r>
                            <m:t xml:space="preserve">]</m:t>
                          </m:r>
                        </m:num>
                        <m:den>
                          <m:r>
                            <m:t xml:space="preserve">K</m:t>
                          </m:r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[</m:t>
                          </m:r>
                          <m:r>
                            <m:t xml:space="preserve">Y</m:t>
                          </m:r>
                          <m:r>
                            <m:t xml:space="preserve">]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7772040" cy="6791040"/>
            <a:chOff x="0" y="0"/>
            <a:chExt cx="7772040" cy="6791040"/>
          </a:xfrm>
        </p:grpSpPr>
        <p:sp>
          <p:nvSpPr>
            <p:cNvPr id="44" name=""/>
            <p:cNvSpPr/>
            <p:nvPr/>
          </p:nvSpPr>
          <p:spPr>
            <a:xfrm>
              <a:off x="184680" y="1638360"/>
              <a:ext cx="3038040" cy="43560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387800" y="504000"/>
              <a:ext cx="40708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6000" y="1701720"/>
              <a:ext cx="220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ompimiento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84680" y="315108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recipitación  Ácid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Nucleicos, Proteas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587400" y="4461840"/>
              <a:ext cx="1560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Concent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331080" y="5357160"/>
              <a:ext cx="1851840" cy="575640"/>
            </a:xfrm>
            <a:prstGeom prst="rect">
              <a:avLst/>
            </a:prstGeom>
            <a:solidFill>
              <a:srgbClr val="fdc0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660033"/>
                  </a:solidFill>
                  <a:latin typeface="Comic Sans MS"/>
                </a:rPr>
                <a:t>Purificación Al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660033"/>
                  </a:solidFill>
                  <a:latin typeface="Comic Sans MS"/>
                </a:rPr>
                <a:t>Resolu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355200" y="6428880"/>
              <a:ext cx="1304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Refin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84680" y="2331720"/>
              <a:ext cx="3043440" cy="5756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Mate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Intracelular (Desecho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55560" y="0"/>
              <a:ext cx="2945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aldo de Fer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65360" y="1008000"/>
              <a:ext cx="3038040" cy="3992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30800" y="4427640"/>
              <a:ext cx="2305440" cy="3621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775600" y="6302520"/>
              <a:ext cx="2490120" cy="48852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665360" y="1071360"/>
              <a:ext cx="3211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de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202760" y="283608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72480" y="4727160"/>
              <a:ext cx="18349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02760" y="1260360"/>
              <a:ext cx="0" cy="441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885840" y="693000"/>
              <a:ext cx="34077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5736240" y="4600800"/>
              <a:ext cx="15883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2775600" y="693000"/>
              <a:ext cx="11253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718880" y="1260360"/>
              <a:ext cx="2775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775600" y="693000"/>
              <a:ext cx="0" cy="388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348440" y="315000"/>
              <a:ext cx="0" cy="378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955400" y="441000"/>
              <a:ext cx="203112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Si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inmoviliza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reten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90920" y="378000"/>
              <a:ext cx="157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o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02760" y="2079720"/>
              <a:ext cx="0" cy="241200"/>
            </a:xfrm>
            <a:prstGeom prst="line">
              <a:avLst/>
            </a:prstGeom>
            <a:ln w="76320">
              <a:solidFill>
                <a:srgbClr val="b50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02760" y="1260360"/>
              <a:ext cx="4471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572480" y="4474800"/>
              <a:ext cx="0" cy="252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309800" y="693000"/>
              <a:ext cx="0" cy="3907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996440" y="1260360"/>
              <a:ext cx="0" cy="31460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56280" y="4789800"/>
              <a:ext cx="0" cy="567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256280" y="5861520"/>
              <a:ext cx="0" cy="43056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3080" y="119736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Célul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963960" y="2773080"/>
              <a:ext cx="170100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Sobrenada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0" y="5357160"/>
              <a:ext cx="1810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4680" y="396936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Tratamiento de cuerpos inclui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02760" y="3655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11400" y="1384920"/>
              <a:ext cx="269640" cy="36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736240" y="5357160"/>
              <a:ext cx="20354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366520" y="6239880"/>
              <a:ext cx="2405520" cy="2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2700360" y="5084640"/>
            <a:ext cx="3220920" cy="1152720"/>
          </a:xfrm>
          <a:prstGeom prst="ellipse">
            <a:avLst/>
          </a:prstGeom>
          <a:noFill/>
          <a:ln w="7632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88000" y="4941720"/>
            <a:ext cx="1584360" cy="4597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588000" y="5589720"/>
            <a:ext cx="1584360" cy="4597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88000" y="6165720"/>
            <a:ext cx="1584360" cy="4597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l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219640" y="4941720"/>
            <a:ext cx="1368360" cy="43200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48360" y="5950080"/>
            <a:ext cx="1439640" cy="64764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28600" y="304920"/>
            <a:ext cx="8381880" cy="24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Si se considera que los “sitios ocupados” son proporcionales a la concentración soluto adsorbid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</a:rPr>
              <a:t>[S-P]  =cte*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Si los “sitios totales”, son proporcionales a la concentración de  soluto máximo a ser adsorbido, q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</a:rPr>
              <a:t>[ST] = cte* q</a:t>
            </a:r>
            <a:r>
              <a:rPr b="1" lang="es-ES" sz="20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04920" y="3124080"/>
            <a:ext cx="7619760" cy="3343680"/>
            <a:chOff x="304920" y="3124080"/>
            <a:chExt cx="7619760" cy="3343680"/>
          </a:xfrm>
        </p:grpSpPr>
        <p:sp>
          <p:nvSpPr>
            <p:cNvPr id="242" name=""/>
            <p:cNvSpPr/>
            <p:nvPr/>
          </p:nvSpPr>
          <p:spPr>
            <a:xfrm>
              <a:off x="304920" y="3124080"/>
              <a:ext cx="7543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Se tiene la ecuación de la isoterma de Langmui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3" name=""/>
                <p:cNvSpPr txBox="1"/>
                <p:nvPr/>
              </p:nvSpPr>
              <p:spPr>
                <a:xfrm>
                  <a:off x="3643200" y="3962520"/>
                  <a:ext cx="1449360" cy="91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⋅</m:t>
                          </m:r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K</m:t>
                          </m:r>
                          <m:r>
                            <m:t xml:space="preserve">+</m:t>
                          </m:r>
                          <m:r>
                            <m:t xml:space="preserve">y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44" name=""/>
            <p:cNvSpPr/>
            <p:nvPr/>
          </p:nvSpPr>
          <p:spPr>
            <a:xfrm>
              <a:off x="380880" y="5105520"/>
              <a:ext cx="7543800" cy="13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Don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y: concentración de soluto en solu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q: Concentración de soluto en la fase sóli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533520" y="609480"/>
            <a:ext cx="777240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a enzima quitinasa puede ser adsorbida en celulo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adsorción sigue una isoterma de Langmuir. La máxima cantidad de enzima que puede ser adsorbida es de 70 mg/ cm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celulosa. Cuando la concentración de quitinasa en solución es de 50 mg/lt la cantidad de proteína adsorbida en la matriz es la mitad de la cantidad máxima que se puede adsor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termine la ecuación de la isoterma que rige este proceso de adsor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496880" y="4830840"/>
          <a:ext cx="2271960" cy="70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6880" y="4830840"/>
                    <a:ext cx="227196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4572000" y="486900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 en mg/cm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q en mg/cm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595520" y="5805360"/>
          <a:ext cx="203364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95520" y="5805360"/>
                    <a:ext cx="203364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4572000" y="5950080"/>
            <a:ext cx="388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 en mg/lt, q en mg/c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380880" y="228600"/>
            <a:ext cx="8305920" cy="29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Adsorción en Batc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onsiste en dejar que el soluto sea adsorbido en el  adsorbente hasta que se llegue al equilib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La cantidad de soluto adsorbido dependerá de la cantidad de adsorbente,  la cantidad de solución y la concentración inicial de soluto en la solución y en el adsorb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1523880" y="3124080"/>
          <a:ext cx="6096240" cy="25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124080"/>
                    <a:ext cx="6096240" cy="25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533520" y="5386320"/>
            <a:ext cx="800100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Don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y</a:t>
            </a:r>
            <a:r>
              <a:rPr b="0" lang="es-ES" sz="1600" spc="-1" strike="noStrike" baseline="-25000">
                <a:solidFill>
                  <a:srgbClr val="a50021"/>
                </a:solidFill>
                <a:latin typeface="Comic Sans MS"/>
              </a:rPr>
              <a:t>A,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y</a:t>
            </a:r>
            <a:r>
              <a:rPr b="0" lang="es-ES" sz="16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  Concentración de soluto en la solución  al inicio y al final de la adsor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q</a:t>
            </a:r>
            <a:r>
              <a:rPr b="0" lang="es-ES" sz="1600" spc="-1" strike="noStrike" baseline="-25000">
                <a:solidFill>
                  <a:srgbClr val="a50021"/>
                </a:solidFill>
                <a:latin typeface="Comic Sans MS"/>
              </a:rPr>
              <a:t>A,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q</a:t>
            </a:r>
            <a:r>
              <a:rPr b="0" lang="es-ES" sz="16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  Concentración de soluto en la fase sólida al inicio y al final de la adsor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F: Volumen de solu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S: Volumen de adsorb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609480" y="457200"/>
            <a:ext cx="8077320" cy="48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</a:rPr>
              <a:t>Diseño de un proceso de 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Depende del tipo de equilib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(Suponiendo un tipo Freudli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Línea de Equilib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q= K y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Balance de Masa de Solu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Masa Inicial = Masa F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F y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 + q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S = y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F + q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Línea de O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= q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+ (F / S) * (y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- y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5334120"/>
            <a:ext cx="800100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Don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y</a:t>
            </a:r>
            <a:r>
              <a:rPr b="0" lang="es-ES" sz="1600" spc="-1" strike="noStrike" baseline="-25000">
                <a:solidFill>
                  <a:srgbClr val="3333cc"/>
                </a:solidFill>
                <a:latin typeface="Comic Sans MS"/>
              </a:rPr>
              <a:t>A, 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y</a:t>
            </a:r>
            <a:r>
              <a:rPr b="0" lang="es-ES" sz="16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  Concentración de soluto en la solución  al inicio y al final de la adsor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" sz="1600" spc="-1" strike="noStrike" baseline="-25000">
                <a:solidFill>
                  <a:srgbClr val="3333cc"/>
                </a:solidFill>
                <a:latin typeface="Comic Sans MS"/>
              </a:rPr>
              <a:t>A, 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" sz="16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  Concentración de soluto en la fase sólida al inicio y al final de la adsor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F: Volumen de solución 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S: Volumen de adsorb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4086360" y="990720"/>
          <a:ext cx="5057640" cy="38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86360" y="990720"/>
                    <a:ext cx="5057640" cy="38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5364000" y="378936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dición In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932360" y="170028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dición 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300720" y="2060640"/>
            <a:ext cx="14292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7164360" y="4005000"/>
            <a:ext cx="432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28600" y="228600"/>
            <a:ext cx="8534520" cy="47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a enzima quitinasa puede ser adsorbida en celulo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adsorción sigue una isoterma de Langmuir. La máxima cantidad de enzima que puede ser adsorbida es de 70 mg/ cm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celulosa. Cuando la concentración de quitinasa en solución es de 50 mg/lt la cantidad de proteína adsorbida en la matriz es la mitad de la cantidad máxima que se puede adsorbe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se tiene 1.5  litros de solución con una concentración de 220 mg/l de proteína y se requiere adsorber el 90% de ella,  determine la volumen de celulosa que se necesi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Se podría adsorber el 100% de la proteín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533520" y="685800"/>
            <a:ext cx="838188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tiene que la adsorción de una gentimicina en carbón activado está descrita por una isoterm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 = 35.1 y 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0.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 en [mg/cm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], y [mg/ml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lanea adicionar 10 cm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 carbón no utilizado a 3.0 litros de un caldo de fermentación que tiene una concentración de antibiótico de 46 [mg/litro] ¿Qué porcentaje se puede esperar que se adsorba?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539640" y="549360"/>
            <a:ext cx="8136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ecuaciones a considerar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 = 35,1 * y 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0,45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onde q [mg/cm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] e y [mg/ml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468360" y="1989000"/>
                <a:ext cx="717084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395280" y="3357720"/>
            <a:ext cx="84247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solvie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q= 13.8 [mg/cm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=0.105 [mg/l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uego % de recuperación = (46-0.105)/46=99.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CESO ALTAMENTE  FAVO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0920" y="714240"/>
            <a:ext cx="8713800" cy="54658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771640" y="314172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67280" y="227664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64000" y="1484280"/>
            <a:ext cx="18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l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80880" y="0"/>
            <a:ext cx="8458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3333cc"/>
                </a:solidFill>
                <a:uFillTx/>
                <a:latin typeface="Comic Sans MS"/>
              </a:rPr>
              <a:t>Purificación de Proteí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Cromatografía (Industri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No ADsorción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Electroforesis (Laborator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2421000"/>
            <a:ext cx="525636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</a:rPr>
              <a:t>Cromatograf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omic Sans MS"/>
              </a:rPr>
              <a:t>ADsorción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Fenómeno de superficie reversible donde un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</a:rPr>
              <a:t>Soluto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</a:rPr>
              <a:t>(Proteína)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se concentra en la superficie de un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</a:rPr>
              <a:t>Sólido (Matriz)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por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</a:rPr>
              <a:t>acción de fuerzas intermoleculares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entre el soluto y el sól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omic Sans MS"/>
              </a:rPr>
              <a:t>ABsorción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es un proceso físico o químico en el cual átomos, moléculas o iones pasan de una primera fase a otra incorporándose al volumen de la segunda fase. Esta segunda fase puede ser líquida, gaseosa o sólida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6516720" y="1773360"/>
            <a:ext cx="1771560" cy="5084640"/>
            <a:chOff x="6516720" y="1773360"/>
            <a:chExt cx="1771560" cy="508464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6516720" y="1773360"/>
              <a:ext cx="1754280" cy="25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2"/>
            <a:stretch/>
          </p:blipFill>
          <p:spPr>
            <a:xfrm>
              <a:off x="6732720" y="4481640"/>
              <a:ext cx="1555560" cy="2376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640" y="10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orma de Operación:</a:t>
            </a:r>
            <a:r>
              <a:rPr b="1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-Batch</a:t>
            </a:r>
            <a:br>
              <a:rPr sz="2800"/>
            </a:br>
            <a:br>
              <a:rPr sz="1800"/>
            </a:br>
            <a:br>
              <a:rPr sz="1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42920" y="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DSORC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85800" y="2386080"/>
          <a:ext cx="7772400" cy="33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386080"/>
                    <a:ext cx="7772400" cy="33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2987640" y="1916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sorb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771280" y="2349360"/>
            <a:ext cx="50508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32000" y="508464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2916360" y="4365720"/>
            <a:ext cx="5032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-Continua</a:t>
            </a:r>
            <a:br>
              <a:rPr sz="1800"/>
            </a:b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 Tanque Agitado en forma continua</a:t>
            </a:r>
            <a:br>
              <a:rPr sz="1800"/>
            </a:b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 Lecho fijo (Columnas, más común, inventado por 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ikhail 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myonovich Tsvet en 1901 </a:t>
            </a: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</a:t>
            </a:r>
            <a:br>
              <a:rPr sz="1800"/>
            </a:b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) Lecho Expandido (Nuev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003640" y="2781360"/>
            <a:ext cx="4140360" cy="259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8" name=""/>
          <p:cNvGraphicFramePr/>
          <p:nvPr/>
        </p:nvGraphicFramePr>
        <p:xfrm>
          <a:off x="324000" y="2781360"/>
          <a:ext cx="2523960" cy="297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2781360"/>
                    <a:ext cx="2523960" cy="29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042920" y="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DSORC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3059280" y="2637000"/>
            <a:ext cx="1601640" cy="3958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95280" y="587700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 Tanque Agitado en forma continu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2000" y="566100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) Lecho expand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orma de Operación de las colum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ru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838080"/>
          <a:ext cx="525780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525780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3886200" y="2971800"/>
          <a:ext cx="5257800" cy="21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2971800"/>
                    <a:ext cx="525780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0" y="4676760"/>
          <a:ext cx="5257800" cy="218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676760"/>
                    <a:ext cx="525780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 rot="5400000">
            <a:off x="5715000" y="1828800"/>
            <a:ext cx="914400" cy="990720"/>
          </a:xfrm>
          <a:custGeom>
            <a:avLst/>
            <a:gdLst>
              <a:gd name="textAreaLeft" fmla="*/ 0 w 914400"/>
              <a:gd name="textAreaRight" fmla="*/ 914760 w 9144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10800000">
            <a:off x="5867280" y="5029200"/>
            <a:ext cx="914400" cy="990720"/>
          </a:xfrm>
          <a:custGeom>
            <a:avLst/>
            <a:gdLst>
              <a:gd name="textAreaLeft" fmla="*/ 0 w 914400"/>
              <a:gd name="textAreaRight" fmla="*/ 914760 w 9144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Comic Sans MS"/>
              </a:rPr>
              <a:t>Tipos de 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838080" y="762120"/>
          <a:ext cx="3019680" cy="22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762120"/>
                    <a:ext cx="3019680" cy="22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5105520" y="762120"/>
          <a:ext cx="2790720" cy="237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762120"/>
                    <a:ext cx="2790720" cy="23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609480" y="3733920"/>
          <a:ext cx="3324240" cy="2552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3733920"/>
                    <a:ext cx="3324240" cy="25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4876920" y="3505320"/>
          <a:ext cx="3190680" cy="2867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76920" y="3505320"/>
                    <a:ext cx="319068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304920" y="685800"/>
            <a:ext cx="8457840" cy="6172200"/>
            <a:chOff x="304920" y="685800"/>
            <a:chExt cx="8457840" cy="6172200"/>
          </a:xfrm>
        </p:grpSpPr>
        <p:grpSp>
          <p:nvGrpSpPr>
            <p:cNvPr id="133" name=""/>
            <p:cNvGrpSpPr/>
            <p:nvPr/>
          </p:nvGrpSpPr>
          <p:grpSpPr>
            <a:xfrm>
              <a:off x="311040" y="689040"/>
              <a:ext cx="8444160" cy="6165360"/>
              <a:chOff x="311040" y="689040"/>
              <a:chExt cx="8444160" cy="6165360"/>
            </a:xfrm>
          </p:grpSpPr>
          <p:grpSp>
            <p:nvGrpSpPr>
              <p:cNvPr id="134" name=""/>
              <p:cNvGrpSpPr/>
              <p:nvPr/>
            </p:nvGrpSpPr>
            <p:grpSpPr>
              <a:xfrm>
                <a:off x="311040" y="689040"/>
                <a:ext cx="2279520" cy="572040"/>
                <a:chOff x="311040" y="689040"/>
                <a:chExt cx="2279520" cy="57204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371520" y="689040"/>
                  <a:ext cx="2158200" cy="57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po de Cromatografí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11040" y="689040"/>
                  <a:ext cx="2279520" cy="57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2590920" y="689040"/>
                <a:ext cx="3328560" cy="572040"/>
                <a:chOff x="2590920" y="689040"/>
                <a:chExt cx="3328560" cy="57204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2651760" y="689040"/>
                  <a:ext cx="3206880" cy="57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piedad Fisicoquímica o Bioquímic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590920" y="689040"/>
                  <a:ext cx="3328560" cy="57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5920200" y="689040"/>
                <a:ext cx="2834640" cy="572040"/>
                <a:chOff x="5920200" y="689040"/>
                <a:chExt cx="2834640" cy="57204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5981040" y="689040"/>
                  <a:ext cx="2712960" cy="57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920200" y="689040"/>
                  <a:ext cx="2834640" cy="57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311040" y="1261080"/>
                <a:ext cx="8444160" cy="699120"/>
                <a:chOff x="311040" y="1261080"/>
                <a:chExt cx="8444160" cy="69912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371520" y="1261080"/>
                  <a:ext cx="832284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20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NO ADSORCIO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11040" y="1261080"/>
                  <a:ext cx="844416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311040" y="1960200"/>
                <a:ext cx="2279520" cy="698760"/>
                <a:chOff x="311040" y="1960200"/>
                <a:chExt cx="2279520" cy="69876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371520" y="1960200"/>
                  <a:ext cx="215820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iltración por Geles (GF) o Exclusión por Tamañ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311040" y="1960200"/>
                  <a:ext cx="227952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2590920" y="1960200"/>
                <a:ext cx="3328560" cy="698760"/>
                <a:chOff x="2590920" y="1960200"/>
                <a:chExt cx="3328560" cy="69876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2651760" y="1960200"/>
                  <a:ext cx="320688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eso Molecula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590920" y="1960200"/>
                  <a:ext cx="332856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5920200" y="1960200"/>
                <a:ext cx="2834640" cy="698760"/>
                <a:chOff x="5920200" y="1960200"/>
                <a:chExt cx="2834640" cy="69876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5981040" y="1960200"/>
                  <a:ext cx="271296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esolución: Moderad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pacidad: Baj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elocidad: Baj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5920200" y="1960200"/>
                  <a:ext cx="283464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311040" y="2659320"/>
                <a:ext cx="8444160" cy="698760"/>
                <a:chOff x="311040" y="2659320"/>
                <a:chExt cx="8444160" cy="69876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371520" y="2659320"/>
                  <a:ext cx="832284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ADSORC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311040" y="2659320"/>
                  <a:ext cx="844416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311040" y="3358440"/>
                <a:ext cx="2279520" cy="699120"/>
                <a:chOff x="311040" y="3358440"/>
                <a:chExt cx="2279520" cy="69912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1520" y="3358440"/>
                  <a:ext cx="215820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Afinidad (AC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11040" y="3358440"/>
                  <a:ext cx="227952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2590920" y="3358440"/>
                <a:ext cx="3328560" cy="699120"/>
                <a:chOff x="2590920" y="3358440"/>
                <a:chExt cx="3328560" cy="69912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2651760" y="3358440"/>
                  <a:ext cx="320688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Afinidad Biológic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2590920" y="3358440"/>
                  <a:ext cx="332856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5920200" y="3358440"/>
                <a:ext cx="2834640" cy="699120"/>
                <a:chOff x="5920200" y="3358440"/>
                <a:chExt cx="2834640" cy="69912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5981040" y="3358440"/>
                  <a:ext cx="271296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Resolución: Excelent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pa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Velo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5920200" y="3358440"/>
                  <a:ext cx="283464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311040" y="4057920"/>
                <a:ext cx="2279520" cy="698760"/>
                <a:chOff x="311040" y="4057920"/>
                <a:chExt cx="2279520" cy="69876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71520" y="4057920"/>
                  <a:ext cx="215820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Intercambio Iónico (IEC) (Aniónico Catiónico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311040" y="4057920"/>
                  <a:ext cx="227952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2590920" y="4057920"/>
                <a:ext cx="3328560" cy="698760"/>
                <a:chOff x="2590920" y="4057920"/>
                <a:chExt cx="3328560" cy="6987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2651760" y="4057920"/>
                  <a:ext cx="320688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rga a diferentes pH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590920" y="4057920"/>
                  <a:ext cx="332856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5920200" y="4057920"/>
                <a:ext cx="2834640" cy="698760"/>
                <a:chOff x="5920200" y="4057920"/>
                <a:chExt cx="2834640" cy="69876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5981040" y="4057920"/>
                  <a:ext cx="271296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Resolución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pa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Velo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920200" y="4057920"/>
                  <a:ext cx="283464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311040" y="4757040"/>
                <a:ext cx="2279520" cy="698760"/>
                <a:chOff x="311040" y="4757040"/>
                <a:chExt cx="2279520" cy="69876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371520" y="4757040"/>
                  <a:ext cx="215820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romatofocusing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311040" y="4757040"/>
                  <a:ext cx="227952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2590920" y="4757040"/>
                <a:ext cx="3328560" cy="698760"/>
                <a:chOff x="2590920" y="4757040"/>
                <a:chExt cx="3328560" cy="69876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2651760" y="4757040"/>
                  <a:ext cx="320688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Punto Isoeléctric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2590920" y="4757040"/>
                  <a:ext cx="332856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5920200" y="4757040"/>
                <a:ext cx="2834640" cy="698760"/>
                <a:chOff x="5920200" y="4757040"/>
                <a:chExt cx="2834640" cy="69876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5981040" y="4757040"/>
                  <a:ext cx="271296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Resolución: Muy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pacidad: Muy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Velo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5920200" y="4757040"/>
                  <a:ext cx="283464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311040" y="5456160"/>
                <a:ext cx="2279520" cy="699120"/>
                <a:chOff x="311040" y="5456160"/>
                <a:chExt cx="2279520" cy="69912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371520" y="5456160"/>
                  <a:ext cx="215820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Interacción Hidrofóbic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(HIC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11040" y="5456160"/>
                  <a:ext cx="227952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2590920" y="5456160"/>
                <a:ext cx="3328560" cy="699120"/>
                <a:chOff x="2590920" y="5456160"/>
                <a:chExt cx="3328560" cy="69912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651760" y="5456160"/>
                  <a:ext cx="320688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Hidrofobicidad Superficia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590920" y="5456160"/>
                  <a:ext cx="332856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5920200" y="5456160"/>
                <a:ext cx="2834640" cy="699120"/>
                <a:chOff x="5920200" y="5456160"/>
                <a:chExt cx="2834640" cy="69912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5981040" y="5456160"/>
                  <a:ext cx="271296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Resolución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pa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Velo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5920200" y="5456160"/>
                  <a:ext cx="283464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311040" y="6155640"/>
                <a:ext cx="2279520" cy="698760"/>
                <a:chOff x="311040" y="6155640"/>
                <a:chExt cx="2279520" cy="6987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371520" y="6155640"/>
                  <a:ext cx="215820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Fase Reversa (RPC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311040" y="6155640"/>
                  <a:ext cx="227952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2590920" y="6155640"/>
                <a:ext cx="3328560" cy="698760"/>
                <a:chOff x="2590920" y="6155640"/>
                <a:chExt cx="3328560" cy="69876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2651760" y="6155640"/>
                  <a:ext cx="320688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Interacciones hidrofóbicas e hidrofílica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2590920" y="6155640"/>
                  <a:ext cx="332856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5920200" y="6155640"/>
                <a:ext cx="2834640" cy="698760"/>
                <a:chOff x="5920200" y="6155640"/>
                <a:chExt cx="2834640" cy="6987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981040" y="6155640"/>
                  <a:ext cx="271296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Resolución: Excelent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pacidad: Intermedi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Velocidad 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920200" y="6155640"/>
                  <a:ext cx="283464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3" name=""/>
            <p:cNvSpPr/>
            <p:nvPr/>
          </p:nvSpPr>
          <p:spPr>
            <a:xfrm>
              <a:off x="304920" y="685800"/>
              <a:ext cx="8457840" cy="6172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0" y="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1" lang="es-ES_tradnl" sz="20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Tipos de Operaciones Cromatográficas utilizadas en la Purificación de Proteí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Ing Quimica</cp:lastModifiedBy>
  <dcterms:modified xsi:type="dcterms:W3CDTF">2007-08-21T22:55:14Z</dcterms:modified>
  <cp:revision>124</cp:revision>
  <dc:subject/>
  <dc:title>Separación Sólido-Líquido</dc:title>
</cp:coreProperties>
</file>