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23.png" ContentType="image/png"/>
  <Override PartName="/ppt/media/image22.wmf" ContentType="image/x-wmf"/>
  <Override PartName="/ppt/media/image6.png" ContentType="image/png"/>
  <Override PartName="/ppt/media/image21.wmf" ContentType="image/x-wmf"/>
  <Override PartName="/ppt/media/image20.png" ContentType="image/png"/>
  <Override PartName="/ppt/media/image3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7686-7AEE-4DDD-B22D-3C9583916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761D-89C9-447E-8149-14C981DC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01BA-2D61-4978-BD75-B2AA77F5E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E10B-E6B1-45D8-8B64-4C61C85F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CAA4-B85D-41EE-B9B5-A4F8F948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2060-A40C-4293-87E7-AA0FBBE1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A6C6-6A88-4DAC-BBF2-51BA993F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D044-4D47-4C40-BBFB-85DA74D4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7550-30BB-4653-95C7-0B61190A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44A3-DCA5-4A14-A69A-A34F366A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016E-7A6B-430A-A85C-98DAEC2C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6904-000E-48D5-BB52-28AC7021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2D4A-794D-432F-AC3F-C7EB7E63A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urificación</a:t>
            </a:r>
            <a:br>
              <a:rPr sz="4400"/>
            </a:br>
            <a:r>
              <a:rPr b="0" lang="es-ES" sz="4400" spc="-1" strike="noStrike">
                <a:solidFill>
                  <a:srgbClr val="000066"/>
                </a:solidFill>
                <a:latin typeface="Comic Sans MS"/>
              </a:rPr>
              <a:t>de Alta Resol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122480"/>
            <a:ext cx="9144000" cy="5735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404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Características básicas de cada técnica cromat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6769080" cy="49086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55640" y="33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¿ Cuando se aplican estas técnic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55640" y="33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¿ Cuando se aplican estas técnic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720864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42920" y="33336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Cuantificación del proceso de pur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1062000"/>
            <a:ext cx="8893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rocesos de Adsor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533520" y="1219320"/>
          <a:ext cx="377820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37782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4267080" y="914400"/>
            <a:ext cx="4572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1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Acondicionamiento de la matriz, que se logra ajustando  el pH o la fuerza ión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3049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Pasos de un proceso de Adsor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91120" y="190512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Paso 2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 Aplicación y adsorción de la muestra, la cual se adsorbe en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67080" y="297180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3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var la columna para que salgan todas las proteínas que no han sido reten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3962520"/>
            <a:ext cx="4572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Paso 4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Modificación de las condiciones de la fase móvil de tal manera de debilitar las interacciones entre la proteína y la fase estacionarias, lo que provoca la elución de la proteína de acuerdo a los diferentes grados de interacción con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11640" y="6262560"/>
            <a:ext cx="446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5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Regeneración de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93840" y="0"/>
            <a:ext cx="8369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Isotermas de Adsor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s isotermas de adsorción muestran las características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n el estado d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quilibrio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entre la concentración de soluto en la fase sólida 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 y la fase líquida 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048120" y="2286000"/>
          <a:ext cx="38113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86000"/>
                    <a:ext cx="38113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 rot="16200000">
            <a:off x="1040040" y="3300840"/>
            <a:ext cx="3046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Concentración de sol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En la fase sólida, q  [gr/cm</a:t>
            </a:r>
            <a:r>
              <a:rPr b="0" lang="es-ES" sz="1600" spc="-1" strike="noStrike" baseline="30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609480" y="1447920"/>
          <a:ext cx="8001000" cy="5005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4190760"/>
              </a:tblGrid>
              <a:tr h="120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ipo de Isoter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ncentración de Soluto adsorbi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in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 K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L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menos común y se aplica a bajas concentraciones de proteí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que más se apl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Freundli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 K</a:t>
                      </a:r>
                      <a:r>
                        <a:rPr b="1" lang="es-ES" sz="24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F</a:t>
                      </a: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y</a:t>
                      </a:r>
                      <a:r>
                        <a:rPr b="1" lang="es-ES" sz="2400" spc="-1" strike="noStrike" baseline="30000">
                          <a:solidFill>
                            <a:srgbClr val="a50021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i n&lt;1 Se tiene una adsorción favor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i n&gt;1 se tiene una adsorción desfavorable Tiene fundamentos teór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angmu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</a:t>
                      </a:r>
                      <a:r>
                        <a:rPr b="1" lang="es-ES" sz="2400" spc="-1" strike="noStrike" u="sng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(q</a:t>
                      </a:r>
                      <a:r>
                        <a:rPr b="1" lang="es-ES" sz="2400" spc="-1" strike="noStrike" u="sng" baseline="-25000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o </a:t>
                      </a:r>
                      <a:r>
                        <a:rPr b="1" lang="es-ES" sz="2400" spc="-1" strike="noStrike" u="sng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 y)</a:t>
                      </a: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        (K +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q</a:t>
                      </a:r>
                      <a:r>
                        <a:rPr b="0" lang="es-ES" sz="1600" spc="-1" strike="noStrike" baseline="-25000">
                          <a:solidFill>
                            <a:srgbClr val="3333cc"/>
                          </a:solidFill>
                          <a:latin typeface="Comic Sans MS"/>
                        </a:rPr>
                        <a:t>o</a:t>
                      </a: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es la concentración máxima que puede ser adsorbida por el sólid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única que posee fundamentos teóric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22860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ferentes tipos de Isotermas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Isoterma de Langm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1143000"/>
            <a:ext cx="8381880" cy="39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a isoterma de Langmuir representa el esto de equilibrio del soluto entre la fase líquida y la sólida. Para ello considera una especie de reacción química entre el soluto y los sitios activos del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Absorción</a:t>
            </a:r>
            <a:r>
              <a:rPr b="0" lang="en-U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S + Y  </a:t>
            </a:r>
            <a:r>
              <a:rPr b="1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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S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Donde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Desorción </a:t>
            </a:r>
            <a:r>
              <a:rPr b="0" lang="en-U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S: sitios activos vacantes en el adsorb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S-P: sitios activos ocupados en el adsorb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ST: Sitios activos to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Y: Soluto en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28600" y="5410080"/>
            <a:ext cx="6051600" cy="1219320"/>
            <a:chOff x="228600" y="5410080"/>
            <a:chExt cx="6051600" cy="1219320"/>
          </a:xfrm>
        </p:grpSpPr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4572000" y="5562720"/>
                  <a:ext cx="170820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´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"/>
            <p:cNvSpPr/>
            <p:nvPr/>
          </p:nvSpPr>
          <p:spPr>
            <a:xfrm>
              <a:off x="228600" y="5410080"/>
              <a:ext cx="41911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La constante de desorción, K’ ,e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28600" y="304920"/>
            <a:ext cx="83818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os sitios totales, ST se pueden expresar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[ST]  =  [S] + [S-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uego, los sitios vacantes se pueden despejar en función de los sitios totales y los ocup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[S]  =  [ST] - [S-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533520" y="3048120"/>
            <a:ext cx="7543800" cy="1753920"/>
            <a:chOff x="533520" y="3048120"/>
            <a:chExt cx="7543800" cy="1753920"/>
          </a:xfrm>
        </p:grpSpPr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2085840" y="3886200"/>
                  <a:ext cx="348156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´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  <m:r>
                            <m:t xml:space="preserve">]</m:t>
                          </m:r>
                          <m:r>
                            <m:t xml:space="preserve">−</m:t>
                          </m:r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6" name=""/>
            <p:cNvSpPr/>
            <p:nvPr/>
          </p:nvSpPr>
          <p:spPr>
            <a:xfrm>
              <a:off x="533520" y="3048120"/>
              <a:ext cx="7543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De allí que se puede re-escribir la constante de desorció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04920" y="4724280"/>
            <a:ext cx="7543800" cy="1754280"/>
            <a:chOff x="304920" y="4724280"/>
            <a:chExt cx="7543800" cy="1754280"/>
          </a:xfrm>
        </p:grpSpPr>
        <p:sp>
          <p:nvSpPr>
            <p:cNvPr id="238" name=""/>
            <p:cNvSpPr/>
            <p:nvPr/>
          </p:nvSpPr>
          <p:spPr>
            <a:xfrm>
              <a:off x="304920" y="4724280"/>
              <a:ext cx="7543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Comic Sans MS"/>
                </a:rPr>
                <a:t>Despejando los “sitios ocupados”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2706840" y="5562720"/>
                  <a:ext cx="248760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S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  <m:r>
                            <m:t xml:space="preserve">]</m:t>
                          </m:r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7772040" cy="6791040"/>
            <a:chOff x="0" y="0"/>
            <a:chExt cx="7772040" cy="6791040"/>
          </a:xfrm>
        </p:grpSpPr>
        <p:sp>
          <p:nvSpPr>
            <p:cNvPr id="44" name=""/>
            <p:cNvSpPr/>
            <p:nvPr/>
          </p:nvSpPr>
          <p:spPr>
            <a:xfrm>
              <a:off x="184680" y="1638360"/>
              <a:ext cx="3038040" cy="43560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878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60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4680" y="315108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5874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331080" y="5357160"/>
              <a:ext cx="185184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660033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660033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55200" y="642888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46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555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53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308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775600" y="630252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653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02760" y="283608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724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027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858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57362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27756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188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756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3484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554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09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027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027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72480" y="447480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09800" y="693000"/>
              <a:ext cx="0" cy="3907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96440" y="1260360"/>
              <a:ext cx="0" cy="31460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56280" y="478980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56280" y="586152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0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639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535716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46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027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11400" y="138492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36240" y="535716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66520" y="6239880"/>
              <a:ext cx="2405520" cy="2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700360" y="5084640"/>
            <a:ext cx="3220920" cy="1152720"/>
          </a:xfrm>
          <a:prstGeom prst="ellipse">
            <a:avLst/>
          </a:prstGeom>
          <a:noFill/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4941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88000" y="5589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88000" y="6165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219640" y="4941720"/>
            <a:ext cx="1368360" cy="432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48360" y="5950080"/>
            <a:ext cx="1439640" cy="6476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28600" y="304920"/>
            <a:ext cx="8381880" cy="24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Si se considera que los “sitios ocupados” son proporcionales a la concentración soluto adsorbi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[S-P]  =cte*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Si los “sitios totales”, son proporcionales a la concentración de  soluto máximo a ser adsorbido, q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[ST] = cte* q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04920" y="3124080"/>
            <a:ext cx="7619760" cy="3343680"/>
            <a:chOff x="304920" y="3124080"/>
            <a:chExt cx="7619760" cy="3343680"/>
          </a:xfrm>
        </p:grpSpPr>
        <p:sp>
          <p:nvSpPr>
            <p:cNvPr id="242" name=""/>
            <p:cNvSpPr/>
            <p:nvPr/>
          </p:nvSpPr>
          <p:spPr>
            <a:xfrm>
              <a:off x="304920" y="3124080"/>
              <a:ext cx="7543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Se tiene la ecuación de la isoterma de Langmui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3643200" y="3962520"/>
                  <a:ext cx="144936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⋅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44" name=""/>
            <p:cNvSpPr/>
            <p:nvPr/>
          </p:nvSpPr>
          <p:spPr>
            <a:xfrm>
              <a:off x="380880" y="5105520"/>
              <a:ext cx="7543800" cy="13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Don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y: concentración de soluto en solu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q: Concentración de soluto en la fase sóli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533520" y="609480"/>
            <a:ext cx="77724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enzima quitinasa puede ser adsorbida en celulo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adsorción sigue una isoterma de Langmuir. La máxima cantidad de enzima que puede ser adsorbida es de 70 mg/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elulosa. Cuando la concentración de quitinasa en solución es de 50 mg/lt la cantidad de proteína adsorbida en la matriz es la mitad de la cantidad máxima que se puede adsor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termine la ecuación de la isoterma que rige este proceso de adsor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496880" y="4830840"/>
          <a:ext cx="227196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4830840"/>
                    <a:ext cx="227196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4572000" y="48690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en mg/cm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q en mg/c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595520" y="5805360"/>
          <a:ext cx="203364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95520" y="5805360"/>
                    <a:ext cx="203364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4572000" y="5950080"/>
            <a:ext cx="38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en mg/lt, q en mg/c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80880" y="228600"/>
            <a:ext cx="8305920" cy="29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Adsorción en Bat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nsiste en dejar que el soluto sea adsorbido en el  adsorbente hasta que se llegue al equilib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 cantidad de soluto adsorbido dependerá de la cantidad de adsorbente,  la cantidad de solución y la concentración inicial de soluto en la solución y en el adsorb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523880" y="3124080"/>
          <a:ext cx="609624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124080"/>
                    <a:ext cx="609624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533520" y="5386320"/>
            <a:ext cx="800100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Do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 Concentración de soluto en la solución 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 Concentración de soluto en la fase sólida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F: Volumen de solu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S: Volumen de adsorb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09480" y="457200"/>
            <a:ext cx="8077320" cy="48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Diseño de un 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Depende del tipo de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(Suponiendo un tipo Freudli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Línea de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q= K y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Balance de Masa de Sol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Masa Inicial = Masa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F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+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S =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F +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Línea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=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+ (F / S) * (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-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5334120"/>
            <a:ext cx="800100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Do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 Concentración de soluto en la solución 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 Concentración de soluto en la fase sólida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F: Volumen de solución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S: Volumen de adsorb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086360" y="990720"/>
          <a:ext cx="505764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86360" y="990720"/>
                    <a:ext cx="505764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5364000" y="3789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ción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932360" y="170028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ción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00720" y="2060640"/>
            <a:ext cx="142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7164360" y="4005000"/>
            <a:ext cx="43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28600" y="228600"/>
            <a:ext cx="853452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enzima quitinasa puede ser adsorbida en celulo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adsorción sigue una isoterma de Langmuir. La máxima cantidad de enzima que puede ser adsorbida es de 70 mg/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elulosa. Cuando la concentración de quitinasa en solución es de 50 mg/lt la cantidad de proteína adsorbida en la matriz es la mitad de la cantidad máxima que se puede adsorb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tiene 1.5  litros de solución con una concentración de 220 mg/l de proteína y se requiere adsorber el 90% de ella,  determine la volumen de celulosa que se necesi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Se podría adsorber el 100% de la proteín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33520" y="685800"/>
            <a:ext cx="838188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tiene que la adsorción de una gentimicina en carbón activado está descrita por una isoter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 = 35.1 y 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0.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 en [mg/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, y [mg/m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lanea adicionar 10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carbón no utilizado a 3.0 litros de un caldo de fermentación que tiene una concentración de antibiótico de 46 [mg/litro] ¿Qué porcentaje se puede esperar que se adsorba?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539640" y="549360"/>
            <a:ext cx="813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ecuaciones a considerar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 = 35,1 * y 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0,45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nde q [mg/cm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] e y [mg/m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468360" y="1989000"/>
                <a:ext cx="717084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395280" y="3357720"/>
            <a:ext cx="8424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olvi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q= 13.8 [mg/c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=0.105 [mg/l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uego % de recuperación = (46-0.105)/46=99.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CESO ALTAMENTE  FAVO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714240"/>
            <a:ext cx="8713800" cy="5465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771640" y="3141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67280" y="2276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148428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0"/>
            <a:ext cx="8458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cc"/>
                </a:solidFill>
                <a:uFillTx/>
                <a:latin typeface="Comic Sans MS"/>
              </a:rPr>
              <a:t>Purificación de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romatografía (Industr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No ADsorción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lectroforesis (Labor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421000"/>
            <a:ext cx="525636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Cromat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ADsorción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Fenómeno de superficie reversible donde un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Soluto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(Proteína)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se concentra en la superficie de un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Sólido (Matriz)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por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acción de fuerzas intermoleculare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entre el soluto y el sól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ABsorción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es un proceso físico o químico en el cual átomos, moléculas o iones pasan de una primera fase a otra incorporándose al volumen de la segunda fase. Esta segunda fase puede ser líquida, gaseosa o sólida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516720" y="1773360"/>
            <a:ext cx="1771560" cy="5084640"/>
            <a:chOff x="6516720" y="1773360"/>
            <a:chExt cx="1771560" cy="50846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6516720" y="1773360"/>
              <a:ext cx="1754280" cy="25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6732720" y="4481640"/>
              <a:ext cx="1555560" cy="23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orma de Operación: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Batch</a:t>
            </a:r>
            <a:br>
              <a:rPr sz="2800"/>
            </a:br>
            <a:br>
              <a:rPr sz="18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5800" y="2386080"/>
          <a:ext cx="7772400" cy="33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86080"/>
                    <a:ext cx="777240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987640" y="1916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sorb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71280" y="2349360"/>
            <a:ext cx="505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32000" y="5084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2916360" y="4365720"/>
            <a:ext cx="503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Continua</a:t>
            </a: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Tanque Agitado en forma continua</a:t>
            </a: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Lecho fijo (Columnas, más común, inventado por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ikhail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myonovich Tsvet en 1901 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br>
              <a:rPr sz="1800"/>
            </a:b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Lecho Expandido (Nue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4140360" cy="259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324000" y="2781360"/>
          <a:ext cx="2523960" cy="297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781360"/>
                    <a:ext cx="2523960" cy="29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042920" y="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059280" y="2637000"/>
            <a:ext cx="1601640" cy="3958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5877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Tanque Agitado en forma contin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566100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Lecho expand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orma de Operación de las colum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ru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838080"/>
          <a:ext cx="525780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886200" y="2971800"/>
          <a:ext cx="5257800" cy="21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297180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0" y="4676760"/>
          <a:ext cx="5257800" cy="21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67676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 rot="5400000">
            <a:off x="5715000" y="1828800"/>
            <a:ext cx="914400" cy="990720"/>
          </a:xfrm>
          <a:custGeom>
            <a:avLst/>
            <a:gdLst>
              <a:gd name="textAreaLeft" fmla="*/ 0 w 914400"/>
              <a:gd name="textAreaRight" fmla="*/ 914760 w 9144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0800000">
            <a:off x="5867280" y="5029200"/>
            <a:ext cx="914400" cy="990720"/>
          </a:xfrm>
          <a:custGeom>
            <a:avLst/>
            <a:gdLst>
              <a:gd name="textAreaLeft" fmla="*/ 0 w 914400"/>
              <a:gd name="textAreaRight" fmla="*/ 914760 w 9144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Tipos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38080" y="762120"/>
          <a:ext cx="3019680" cy="22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762120"/>
                    <a:ext cx="301968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105520" y="762120"/>
          <a:ext cx="2790720" cy="23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762120"/>
                    <a:ext cx="279072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09480" y="3733920"/>
          <a:ext cx="3324240" cy="255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3733920"/>
                    <a:ext cx="332424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876920" y="3505320"/>
          <a:ext cx="3190680" cy="286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3505320"/>
                    <a:ext cx="31906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304920" y="685800"/>
            <a:ext cx="8457840" cy="6172200"/>
            <a:chOff x="304920" y="685800"/>
            <a:chExt cx="8457840" cy="6172200"/>
          </a:xfrm>
        </p:grpSpPr>
        <p:grpSp>
          <p:nvGrpSpPr>
            <p:cNvPr id="133" name=""/>
            <p:cNvGrpSpPr/>
            <p:nvPr/>
          </p:nvGrpSpPr>
          <p:grpSpPr>
            <a:xfrm>
              <a:off x="311040" y="689040"/>
              <a:ext cx="8444160" cy="6165360"/>
              <a:chOff x="311040" y="689040"/>
              <a:chExt cx="8444160" cy="616536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311040" y="689040"/>
                <a:ext cx="2279520" cy="572040"/>
                <a:chOff x="311040" y="689040"/>
                <a:chExt cx="2279520" cy="5720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371520" y="689040"/>
                  <a:ext cx="215820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de Cromatografí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11040" y="689040"/>
                  <a:ext cx="227952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2590920" y="689040"/>
                <a:ext cx="3328560" cy="572040"/>
                <a:chOff x="2590920" y="689040"/>
                <a:chExt cx="3328560" cy="5720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651760" y="689040"/>
                  <a:ext cx="320688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piedad Fisicoquímica o Bioquím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590920" y="689040"/>
                  <a:ext cx="332856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5920200" y="689040"/>
                <a:ext cx="2834640" cy="572040"/>
                <a:chOff x="5920200" y="689040"/>
                <a:chExt cx="2834640" cy="57204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5981040" y="689040"/>
                  <a:ext cx="271296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920200" y="689040"/>
                  <a:ext cx="283464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311040" y="1261080"/>
                <a:ext cx="8444160" cy="699120"/>
                <a:chOff x="311040" y="1261080"/>
                <a:chExt cx="8444160" cy="6991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71520" y="1261080"/>
                  <a:ext cx="832284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NO ADSORC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11040" y="1261080"/>
                  <a:ext cx="84441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311040" y="1960200"/>
                <a:ext cx="2279520" cy="698760"/>
                <a:chOff x="311040" y="1960200"/>
                <a:chExt cx="2279520" cy="6987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71520" y="196020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ltración por Geles (GF) o Exclusión por Tamañ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11040" y="196020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2590920" y="1960200"/>
                <a:ext cx="3328560" cy="698760"/>
                <a:chOff x="2590920" y="1960200"/>
                <a:chExt cx="3328560" cy="6987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2651760" y="196020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eso Molecul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590920" y="196020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5920200" y="1960200"/>
                <a:ext cx="2834640" cy="698760"/>
                <a:chOff x="5920200" y="1960200"/>
                <a:chExt cx="2834640" cy="6987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5981040" y="196020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solución: Moderad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pacidad: Baj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locidad: Baj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920200" y="196020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11040" y="2659320"/>
                <a:ext cx="8444160" cy="698760"/>
                <a:chOff x="311040" y="2659320"/>
                <a:chExt cx="8444160" cy="6987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371520" y="2659320"/>
                  <a:ext cx="832284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ADSORC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11040" y="2659320"/>
                  <a:ext cx="84441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11040" y="3358440"/>
                <a:ext cx="2279520" cy="699120"/>
                <a:chOff x="311040" y="3358440"/>
                <a:chExt cx="2279520" cy="6991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1520" y="3358440"/>
                  <a:ext cx="215820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Afinidad (AC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11040" y="3358440"/>
                  <a:ext cx="227952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590920" y="3358440"/>
                <a:ext cx="3328560" cy="699120"/>
                <a:chOff x="2590920" y="3358440"/>
                <a:chExt cx="3328560" cy="69912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2651760" y="3358440"/>
                  <a:ext cx="320688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Afinidad Biológ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590920" y="3358440"/>
                  <a:ext cx="33285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5920200" y="3358440"/>
                <a:ext cx="2834640" cy="699120"/>
                <a:chOff x="5920200" y="3358440"/>
                <a:chExt cx="2834640" cy="6991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981040" y="3358440"/>
                  <a:ext cx="271296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Excelen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920200" y="3358440"/>
                  <a:ext cx="283464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11040" y="4057920"/>
                <a:ext cx="2279520" cy="698760"/>
                <a:chOff x="311040" y="4057920"/>
                <a:chExt cx="2279520" cy="6987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71520" y="405792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cambio Iónico (IEC) (Aniónico Catiónico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11040" y="405792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590920" y="4057920"/>
                <a:ext cx="3328560" cy="698760"/>
                <a:chOff x="2590920" y="4057920"/>
                <a:chExt cx="3328560" cy="6987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651760" y="405792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rga a diferentes p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590920" y="405792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920200" y="4057920"/>
                <a:ext cx="2834640" cy="698760"/>
                <a:chOff x="5920200" y="4057920"/>
                <a:chExt cx="2834640" cy="6987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5981040" y="405792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920200" y="405792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311040" y="4757040"/>
                <a:ext cx="2279520" cy="698760"/>
                <a:chOff x="311040" y="4757040"/>
                <a:chExt cx="2279520" cy="6987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371520" y="475704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romatofocusi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11040" y="475704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2590920" y="4757040"/>
                <a:ext cx="3328560" cy="698760"/>
                <a:chOff x="2590920" y="4757040"/>
                <a:chExt cx="3328560" cy="6987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651760" y="475704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Punto Isoeléctr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590920" y="475704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5920200" y="4757040"/>
                <a:ext cx="2834640" cy="698760"/>
                <a:chOff x="5920200" y="4757040"/>
                <a:chExt cx="2834640" cy="6987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981040" y="475704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Muy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Muy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920200" y="475704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311040" y="5456160"/>
                <a:ext cx="2279520" cy="699120"/>
                <a:chOff x="311040" y="5456160"/>
                <a:chExt cx="2279520" cy="6991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71520" y="5456160"/>
                  <a:ext cx="215820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acción Hidrofóbic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(HIC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11040" y="5456160"/>
                  <a:ext cx="227952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2590920" y="5456160"/>
                <a:ext cx="3328560" cy="699120"/>
                <a:chOff x="2590920" y="5456160"/>
                <a:chExt cx="3328560" cy="69912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651760" y="5456160"/>
                  <a:ext cx="320688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Hidrofobicidad Superfici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590920" y="5456160"/>
                  <a:ext cx="33285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5920200" y="5456160"/>
                <a:ext cx="2834640" cy="699120"/>
                <a:chOff x="5920200" y="5456160"/>
                <a:chExt cx="2834640" cy="69912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981040" y="5456160"/>
                  <a:ext cx="271296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920200" y="5456160"/>
                  <a:ext cx="283464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311040" y="6155640"/>
                <a:ext cx="2279520" cy="698760"/>
                <a:chOff x="311040" y="6155640"/>
                <a:chExt cx="2279520" cy="6987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71520" y="615564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Fase Reversa (RPC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11040" y="615564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2590920" y="6155640"/>
                <a:ext cx="3328560" cy="698760"/>
                <a:chOff x="2590920" y="6155640"/>
                <a:chExt cx="3328560" cy="6987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651760" y="615564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acciones hidrofóbicas e hidrofílic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590920" y="615564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920200" y="6155640"/>
                <a:ext cx="2834640" cy="698760"/>
                <a:chOff x="5920200" y="6155640"/>
                <a:chExt cx="2834640" cy="6987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981040" y="615564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Excelen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Intermed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 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920200" y="615564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" name=""/>
            <p:cNvSpPr/>
            <p:nvPr/>
          </p:nvSpPr>
          <p:spPr>
            <a:xfrm>
              <a:off x="304920" y="685800"/>
              <a:ext cx="8457840" cy="6172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es-ES_tradnl" sz="20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Tipos de Operaciones Cromatográficas utilizadas en la Purificación de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7-08-21T22:55:14Z</dcterms:modified>
  <cp:revision>124</cp:revision>
  <dc:subject/>
  <dc:title>Separación Sólido-Líquido</dc:title>
</cp:coreProperties>
</file>