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1A3-A912-410F-9974-28837CB5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640-62BC-46A0-A433-2453F0A6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118-A88C-453E-B8F7-1AB1FA8A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11A-B52C-4F71-9CDD-982532F9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BFB-6C76-43EE-BE69-DB70901C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524-E81D-4479-8C3F-8249E8B9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617-87DD-4DAF-9E3A-6BA43112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DE1-4404-4EBB-90A6-2B7A9D2F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C0E-A045-425A-8FFD-B3FF405F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BB1-9781-48B6-BCAD-250BEAC5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ECF-9DBB-427D-9074-0B6605C5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6B4-7761-4247-8D3C-459919E0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6EE2-3510-4120-8398-35F79A0C0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96880" y="4830840"/>
          <a:ext cx="227196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830840"/>
                    <a:ext cx="22719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572000" y="486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 en mg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95520" y="5805360"/>
          <a:ext cx="20336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5805360"/>
                    <a:ext cx="20336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0" y="595008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lt, q en mg/c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volumen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49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ecuaciones a considera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= 35,1 * y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,45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q [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 e y [mg/m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68360" y="1989000"/>
                <a:ext cx="7170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5280" y="335772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= 13.8 [mg/c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0.105 [mg/l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% de recuperación = (46-0.105)/46=99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ALTAMENTE  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8-21T22:55:14Z</dcterms:modified>
  <cp:revision>124</cp:revision>
  <dc:subject/>
  <dc:title>Separación Sólido-Líquido</dc:title>
</cp:coreProperties>
</file>