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7A0-A1CE-46A9-BE2A-1C2056FF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AE7-6624-4F55-8CCB-014E0A18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591-0248-4075-8A16-993881B4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8E2-17BE-44DC-B6FB-5E0AD503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7A8-21A5-4352-9759-1046B1F7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BCA-9F48-4E4D-B329-A49FE47E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584-EF62-4C4C-A0F1-3FF7B22F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6D6-7DD5-41F8-8486-90FA6CBB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9D7-431C-4C13-8437-5EFA3FE4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262-709B-4A9A-ACAD-92135930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1F5-685A-4707-8EE1-9B99F01B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2E9-B5EA-44C6-87AE-5C3A728A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F803-E39A-4467-9441-BD380A420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5695920" cy="27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21360" y="2997360"/>
            <a:ext cx="3122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920" y="4438800"/>
            <a:ext cx="734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25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9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30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7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1.0133*10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[N s/m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8600" y="333360"/>
            <a:ext cx="89154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el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 (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48360" y="3789360"/>
          <a:ext cx="3467160" cy="28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789360"/>
                    <a:ext cx="346716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877080" y="3716280"/>
            <a:ext cx="2016000" cy="20178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57200" y="609480"/>
            <a:ext cx="792468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68360" y="2852640"/>
                <a:ext cx="40500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7236000" y="29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68360" y="5734080"/>
          <a:ext cx="46497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649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304920"/>
            <a:ext cx="85341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l tambor, en rph, nec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162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190840" cy="905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5086080" cy="3168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39640" y="4538520"/>
            <a:ext cx="815364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guest</cp:lastModifiedBy>
  <dcterms:modified xsi:type="dcterms:W3CDTF">2007-08-07T17:21:11Z</dcterms:modified>
  <cp:revision>108</cp:revision>
  <dc:subject/>
  <dc:title>Separación Sólido-Líquido</dc:title>
</cp:coreProperties>
</file>