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6BB-7F3A-46FB-B23E-CE3FBD42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10A-8157-4724-A4DD-1F13EE15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B02-D1A1-45EB-9107-A760CA6E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EA3-DFF8-4D59-83D5-6D63D007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BB6-6446-4040-8945-ABFADB7B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008-9751-4F71-BBB8-AB934C51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EA8-E0C4-43FF-9957-F09C9039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408-1D64-49F3-929A-D84B398D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0A7-6233-42AF-ADBF-01B26AD8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02C-11A9-42B7-91B2-D90D68E3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79F-DF6B-4CD1-8846-672A8538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CB2-6B02-4B69-A7F0-5FAF2F5C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B830-07FE-446D-A477-A77FE6B15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5695920" cy="27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21360" y="2997360"/>
            <a:ext cx="3122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4438800"/>
            <a:ext cx="734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25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9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7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1.0133*10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[N s/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333360"/>
            <a:ext cx="89154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l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 (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8360" y="3789360"/>
          <a:ext cx="346716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789360"/>
                    <a:ext cx="346716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877080" y="3716280"/>
            <a:ext cx="2016000" cy="20178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609480"/>
            <a:ext cx="792468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68360" y="2852640"/>
                <a:ext cx="40500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7236000" y="29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68360" y="5734080"/>
          <a:ext cx="46497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649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5341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tambor, en rph,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162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90840" cy="905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086080" cy="3168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9640" y="4538520"/>
            <a:ext cx="815364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guest</cp:lastModifiedBy>
  <dcterms:modified xsi:type="dcterms:W3CDTF">2007-08-07T17:21:11Z</dcterms:modified>
  <cp:revision>108</cp:revision>
  <dc:subject/>
  <dc:title>Separación Sólido-Líquido</dc:title>
</cp:coreProperties>
</file>