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22D-C624-475A-A16A-AD2A41A1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16CB-A9D1-4D50-A51D-E49D9F7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6D2-A17D-489C-82B4-66077E69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C22-7D1F-4362-9C5D-C1B62FE9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F424-59F8-4FBE-98EF-35AECA9A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402-531E-45B7-803E-937EA4B9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E63-A515-4B93-BCA0-F6341B72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E9E-EBA2-44A8-A416-4DD714E9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BF5-796A-428F-8C68-6DA324E4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FBF-0513-40FA-9D1A-CC2380C7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2BA-165D-4AED-9FD7-A3397C06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E29-5EF6-4757-9DF6-8B624CD1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0CD5-EC30-4CA1-8A34-18C1FAD93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5695920" cy="27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21360" y="2997360"/>
            <a:ext cx="3122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4438800"/>
            <a:ext cx="7344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952880" y="1219320"/>
            <a:ext cx="3353040" cy="57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posición final de los desechos con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zad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25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9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30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6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7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60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619280" y="2781360"/>
          <a:ext cx="5770440" cy="3719520"/>
        </p:xfrm>
        <a:graphic>
          <a:graphicData uri="http://schemas.openxmlformats.org/drawingml/2006/table">
            <a:tbl>
              <a:tblPr/>
              <a:tblGrid>
                <a:gridCol w="1257120"/>
                <a:gridCol w="712800"/>
                <a:gridCol w="949320"/>
                <a:gridCol w="949320"/>
                <a:gridCol w="951120"/>
                <a:gridCol w="950760"/>
              </a:tblGrid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ída de presión (mmH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filtrado (m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540720" y="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Ejemplo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476280"/>
            <a:ext cx="82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filtran una muestra de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</a:rPr>
              <a:t>Streptomyces griseu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, en forma filamentosa, en un pequeño filtro de laboratorio con un área de 1.8 c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La masa de sólidos húmedos por mL de filtrado es 0.1 g m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el cultivo filamentoso. La viscosidad del filtrado es 1.4 cP. Se han realizado cinco experimentos de filtración a diferentes presiones con cada suspensión, obteniéndose los siguientes resultad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83664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s resistencias específicas de la torta en función de la presión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ar la compresibilidad del cultivo 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utiliza un filtro de prensa con un área de 1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procesar 2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cultivo filamentoso de 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S. griseu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i la filtración  debe realizarse en una hora, ¿qué diferencia de presión se debe aplic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1.0133*10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[N s/m</a:t>
            </a:r>
            <a:r>
              <a:rPr b="0" lang="es-ES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28600" y="333360"/>
            <a:ext cx="89154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el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 (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5148360" y="3789360"/>
          <a:ext cx="3467160" cy="28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789360"/>
                    <a:ext cx="346716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877080" y="3716280"/>
            <a:ext cx="2016000" cy="20178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57200" y="609480"/>
            <a:ext cx="7924680" cy="58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268360" y="2852640"/>
                <a:ext cx="40500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7236000" y="29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68360" y="5734080"/>
          <a:ext cx="464976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34080"/>
                    <a:ext cx="46497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304920"/>
            <a:ext cx="853416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l tambor, en rph, neces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41626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190840" cy="905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1835280" y="1197000"/>
            <a:ext cx="5086080" cy="3168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539640" y="4538520"/>
            <a:ext cx="815364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guest</cp:lastModifiedBy>
  <dcterms:modified xsi:type="dcterms:W3CDTF">2007-08-07T17:21:11Z</dcterms:modified>
  <cp:revision>108</cp:revision>
  <dc:subject/>
  <dc:title>Separación Sólido-Líquido</dc:title>
</cp:coreProperties>
</file>