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23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1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64E-B5C9-4CBA-ACBA-7E5DB034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50BB-4EF6-41F2-BF0F-2CEB8773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6AA-3570-4E5D-9944-1932243A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A775-1181-4437-9C4D-5F1AE623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A0EE-9CA2-4768-8A24-FA0CCB08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EA6-1C80-4C31-90D3-AB7E033D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763F-E495-43BA-A14F-CD2C7AA4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0A46-5457-42AE-B1B2-CF80CAB4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4324-FCF6-4B42-BE4D-D89FA452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72B-66C8-477C-AC85-84786DCE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4AC1-B709-48B9-A353-9358C71B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1AC-8009-4490-9E45-49E7EFA6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1222-A0C3-4550-9805-32DD9EDBE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5695920" cy="2790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21360" y="2997360"/>
            <a:ext cx="3122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26920" y="4438800"/>
            <a:ext cx="73440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952880" y="1219320"/>
            <a:ext cx="3353040" cy="57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posición final de los desechos con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zad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25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9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30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7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60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250920" y="4941720"/>
            <a:ext cx="38163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5 y 10 psi? CO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211640" y="765000"/>
                <a:ext cx="23544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619280" y="2781360"/>
          <a:ext cx="5770440" cy="3719520"/>
        </p:xfrm>
        <a:graphic>
          <a:graphicData uri="http://schemas.openxmlformats.org/drawingml/2006/table">
            <a:tbl>
              <a:tblPr/>
              <a:tblGrid>
                <a:gridCol w="1257120"/>
                <a:gridCol w="712800"/>
                <a:gridCol w="949320"/>
                <a:gridCol w="949320"/>
                <a:gridCol w="951120"/>
                <a:gridCol w="950760"/>
              </a:tblGrid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ída de presión (mmH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n filtrado (m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540720" y="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Ejemplo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476280"/>
            <a:ext cx="82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iltran una muestra de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Streptomyces griseu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en forma filamentosa, en un pequeño filtro de laboratorio con un área de 1.8 c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La masa de sólidos húmedos por mL de filtrado es 0.1 g mL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ara el cultivo filamentoso. La viscosidad del filtrado es 1.4 cP. Se han realizado cinco experimentos de filtración a diferentes presiones con cada suspensión, obteniéndose los siguientes resul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00000" y="83664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s resistencias específicas de la torta en función de la presión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 compresibilidad del cultivo 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utiliza un filtro de prensa con un área de 15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procesar 2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cultivo filamentoso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. griseu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Si la filtración  debe realizarse en una hora, ¿qué diferencia de presión se debe apli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1.0133*10</a:t>
            </a:r>
            <a:r>
              <a:rPr b="0" lang="es-ES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[N s/m</a:t>
            </a:r>
            <a:r>
              <a:rPr b="0" lang="es-ES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28600" y="333360"/>
            <a:ext cx="89154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el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 (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5148360" y="3789360"/>
          <a:ext cx="3467160" cy="28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3789360"/>
                    <a:ext cx="346716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877080" y="3716280"/>
            <a:ext cx="2016000" cy="20178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57200" y="609480"/>
            <a:ext cx="7924680" cy="58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268360" y="2852640"/>
                <a:ext cx="40500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7236000" y="29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68360" y="5734080"/>
          <a:ext cx="464976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34080"/>
                    <a:ext cx="46497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04920" y="304920"/>
            <a:ext cx="853416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l tambor, en rph, neces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716360" y="3357720"/>
            <a:ext cx="41626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190840" cy="9050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835280" y="1197000"/>
            <a:ext cx="5086080" cy="3168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539640" y="4538520"/>
            <a:ext cx="815364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guest</cp:lastModifiedBy>
  <dcterms:modified xsi:type="dcterms:W3CDTF">2007-08-07T17:21:11Z</dcterms:modified>
  <cp:revision>108</cp:revision>
  <dc:subject/>
  <dc:title>Separación Sólido-Líquido</dc:title>
</cp:coreProperties>
</file>