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A1E-088E-49C2-B73D-BDEC875E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9EE-DB13-4864-B668-F7157AC6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292-660D-451D-B524-FA30B9A5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071-D091-460A-878B-4FE330B7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3F7-304D-4D87-9F79-F0FFD158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900-FFF0-4AEA-B6EB-493244F2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037-2A33-45A3-976B-7B86D9A5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B00-555A-4D1B-920E-A2BB948A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319-2361-48F0-A5BC-1B344961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E49-0FA8-4892-8947-0D98C4FA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F1A-596E-47D6-94BC-C396EDC0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288-E62B-4F97-BC01-CF3C19DC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CD37-85F8-4A98-8619-029D8FA5F83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ENCION DE ALIMENTOS POR FERMEN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33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169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se ha demostrado la producción de Bacteriocinas, proteínas que inhiben el desarrollo de otr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istóricamente estos cultivos mixtos se desarrollaron por crecimiento de contaminantes naturales de la le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xisten evidencias que dan cuenta del uso de métodos de preservación de la leche desde hace unos 8.000 a 9.000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oy se conoce la mayoría de las especies y géneros de estos iniciadores, siempre quedan algunos desconocid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EN FERMENTACIONES LÁCT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remor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 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acetilo,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iov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 diacetylacti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treptococcus salivari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h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bacil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ác. acético, ác. gra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uconostoc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diacetilo, 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ropionibacteri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ác. propión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s, hong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idificación, lipólisis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rote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enza con acidificación mediante conversión de lactosa en ácido láctico por acción de determinados microorganism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o roquefort se obtiene por el crecimiento del hongo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ium roquefo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onibacterias producen ácido propiónico que se acumula en los hoyos del queso sui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ficación de la leche permite que las proteínas coagu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gregar renina (proteasa) se forma el cuajo, que separado del suero forma requesón o queso fresco de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crema en lugar de leche se cuaja el producto es queso c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puede hacer otros tipos de queso:  se calienta para eliminar la humedad y se deja madurar mediante actividad bacteriana adi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contenido de humedad es el tipo de queso que se obtien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usados para madurar el queso, hidrolizan proteínas y grasas y además dan determinados sabores, flavores y aspecto al q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. Brie y Camember son quesos su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CIÓN DE YOG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la leche puede ser acidificada y aromatizada mediante fermentación controlada para producir yogurt.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bacillus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us t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ier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s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. láctico, 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emperatura utilizada normalmente es 4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utilizan en una relación 1:1para obtener el flavor y la textura adecu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termophi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ría formiato el que estimularía el crecimient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sería el único sustrato limitant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 FERMEN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 leche acidificada es el kefir, producida por la fermentación de bacterias del ácido láctico y levaduras que producen algo de alcoh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quilla se obtiene por fermentación de nata de leche pasteurizad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ceti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ductos que se hacen por fermentación de leche, además de ser consumidos por su sabor o por su valor nutricional, también aportarían una acción antipatogénica sobre el intestino hum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sin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ECNOLOGÍA EN PRODUCTOS LACTE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 ingeniería genética con el objeto de mejorar la calidad de las proteínas (case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Caseina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jora la cuaj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ndo el rendimiento en qu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fabricación del pan se originó hace miles de años atrás y lo mismo que el vino, la cerveza, el queso y las leches fermentadas se encuentra entre los productos más antiguos modificados microbiológ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pueblos (civilizaciones) más antiguos el pan fue la mas importante fuente nutricional y energética. (Egipto, Grecia, Babilonia y Ro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estas civilizaciones también avanzaron en el arte de hornear, de moler el trigo, etc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como materia prima para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lidad de la leche depende de la higiene y de l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giene se relaciona con la calidad bacteriológica y con el contenido de células so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refiere a su contenido en: grasas, proteínas y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puede alte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anejo nutricional o por mejoramiento gené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igo es el grano más importante en la fabricación del pan por su superior valor nutritivo y textura respecto de otros granos como cebada, avena, centeno, maíz y arr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mbién otros tipos de masas son preparados a partir de macerados de almidón provenientes de cassava y otras plantas o de legumbres (poroto de soya)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alquiera sea el grano utilizado y aunque es convertido en masa y horneado, siempre se encontrarán poblaciones de M.O. presentes, usualmente como habitantes nativos de las materias primas uti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s actividades fermentativas afectarán en distintos grados la textura, el flavor, color y características nutricionales del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especies microbianas y su concentración en la mezcla de fermentación puede cambiar con las diferentes harinas utilizadas, la naturaleza del  líquido y otras adiciones a la masa, así como la forma en que se maneja la masa antes de que sea calentada por vapor, horneada o fr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fermentaciones durante la fabricación del pan son producidas en la mayoría de los casos por unas relativamente pocas especies de levaduras y de ciertas bacterias formadoras de ácido láctico.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los M.O. fermentadores producen dióxido de carbono desde los azucares presentes o agregados a la masa, lo distribuyen en la masa generando celdillas que aclaran o alivianan la mas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s tipos de M.O. pueden ser usados para fermentar la masa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zclas de levaduras y bacterias que crecen espontáneamente en el batido y en la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iciadores ácidos para el hogar o pastelería que son mantenidos por transferencia a sustratos fres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 iniciadores comerciales para acidificar las masas obtenidos con monocultivos de cepas de lactobacilos heteroláctic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 de panificación “Saccharomyces cerevisiae”, la mas utilizada en el mun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adición intencional de cultivos conocidos de levaduras y/o bacterias a la masa de panificación ayuda a la masa a obtener un control sobre el ambiente microbiano, especialmente la regulación de la velocidad de fermentación y los cambios físicos que afectan la textura, el flavor, la apariencia del pan horne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masa del pan blanco consiste de harina de trigo, agua, levadura y cloruro de sodio en la proporción de 100:65: 2: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n agregar otros ingredientes con el propósito de modificar el flavor o el valor nutricional. Entre estos están azucares (glucosa o sacarosa) leche no grasa en polvo y grasa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do al contenido en gluten, proteína compleja del trigo, se forma una masa elástica, la cuál retiene los gases que se produ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de las levaduras resulta en la producción y migración de dióxido de carbono en una red de compartimentos celulares. Estos cambios aumentan el volumen de la masa y mejoran su palatabilida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productos metabólicos de la fermentación y del proceso de horneado, contribuyen al aroma y flavor del pan hor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harina de trigo contiene alrededor de 0.5% de azúcares fermentables, especialmente glucosa, fructosa, sacarosa, maltosa y glucofructosanos en cantidades que son adecuados para una rápida y sostenida fer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ausencia de azúcares agregados, las levaduras rápidamente metabolizan glucosa, luego fructosa y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s maltosa llega a estar disponible desde la masa en las últimas etapas a través de la acción hidrolítica de las amilasas de la harina sobre el almidón contenido en los gránulos de almidón fracturado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de la leche se puede alterar para preserv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mediados del siglo 19 se comenzó a hacer procesos de evaporación, posteriormente de esterili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tiene leche fresca sin agitar es posible separar la crema, la que se va a procesar para producir mantequilla y queso, la parte de abajo con poca crema se lleva a deshidratación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oquímicamente el proceso de fermentación procede por la Vía de Emden-Mayerhof o vía glicolítica rindiendo aproximadamente 0.47g CO2 (270 ml) y 0.48 g de etanol por g de glucosa fermentada. Otros productos incluyen glicerol, ácido succínico y pequeñas cantidades de aldehídos, cetonas, éster etílico y otros compon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s del ácido láctico siempre acompañan a las levaduras de panad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ás altos números encontrados son 100 millones de células por gram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cidos láctico y acético se encuentran presente en las masas de pan blanco y son los más importantes ácidos residuales en el pan 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ácido láctico es un líquido sin color, casi sin olor con un fuerte gusto ácido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ácido acético se caracteriza como un ácido débil con un olor frutoso y sus diluciones tienen un gusto agra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n reportado niveles de 50-100 mg de ácido láctico y 10 a 50 mg de ácido acético por libra de p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esteres etílicos pueden también aumen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lavor del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normal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% grasa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cidos gras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% proteí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%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as, minerales,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AMIENTO DE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bricación de quesos se concentran proteínas y grasas, se reduce 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y se eliminan carbohidrat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filtración:  microfiltración a alta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 la composición (concentración de proteínas  y grasa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ción de calor 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o ya que reduce la carga microbiana y elimina p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también perjudicial ya que desnaturaliza proteínas: inmunoglobulinas y enzimas. También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actividad de las vitam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IDO DE COLESTEROL EN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mg/100ml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-04% lip-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colesterol disuelto en la gr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en membrana del glóbulo gr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en leche descre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reducción es importante en la di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TAMIENTOS TÉRMICOS A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izacion de la leche: 72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por 16 seg. o 63ºC  por  3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o efecto sobre la calidad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ilización de la leche: 120ºC por 2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U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5  - 145ºC por varios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cen cambios en la leche:  las proteínas tienden a coagular, formar geles o precipitar durante el almac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eche puede ser fermentada para producir queso, yogurt, crema ácida, o mantequilla por bacterias del ácido láctico y streptoco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 tienen menor contenido de agua (-a 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r facilidad para ser decompuestos por M.O. (mas es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ía 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a duración comparada con la leche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debe ser previamente pasteur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obtenido depende del tipo de leche, de los M.O.inoculados y de las condiciones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26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recimiento de M.O. en la fermentación de la leche, no sólo sirve para preservarla al producir inicialmente ácido láctico desde lactosa sino también resulta en una variedad de productos metabólicos y actividades enzimáticas los cuales llevan a una vasta variedad de leches fermentadas y quesos disponibles hoy en dí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sustancias antagónicas que producen estas bacterias serían ácidos orgánicos: láctico, acético, propiónico,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bajo pH, aw reducida en que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actividad inhibidora sobre una variedad de M.O. patógeno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almonel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 aureus, E. coli, Liste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9:02:25Z</dcterms:created>
  <dc:creator>Blanca Escobar</dc:creator>
  <dc:description/>
  <dc:language>en-US</dc:language>
  <cp:lastModifiedBy>Blanca Escobar</cp:lastModifiedBy>
  <dcterms:modified xsi:type="dcterms:W3CDTF">2006-10-10T16:10:17Z</dcterms:modified>
  <cp:revision>26</cp:revision>
  <dc:subject/>
  <dc:title>BIOTECNOLOGIA MICROBIANA</dc:title>
</cp:coreProperties>
</file>