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8D8EC-88E4-4DA2-8FA8-2974EE52E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041A5-644E-4735-BB76-C5EECFB23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A20C5-2DE0-4D9F-B762-097FA0414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9113D-1B3E-4515-89F3-2056A9AA9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CEBBC-EA27-4DFC-B084-47ECDD173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93782-249B-4D09-9BD6-3CBE58EA4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6B0F7-CC0E-4A2F-9E9A-CFB3FA804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76751-A8BC-4AEB-9021-F9F8473E6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A6913-6F30-414C-AEC9-0FD040B25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75E53-3310-4367-BE34-424C7CB36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3C4E5-0A24-471F-BA2D-F9F2032C6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FBB61-D254-4E25-A87F-4B76B72E1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9DF9-C49F-4DB8-9A2F-1D93F7FBE17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o de los más importantes procesos de biodegradación sobre la tierr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aturalmente producida en estómago de rumiante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áreas pantanosa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rellenos sanitario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interesante desde el punto de vista económico y ambiental</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 </a:t>
            </a:r>
            <a:r>
              <a:rPr b="0" lang="en-US" sz="3200" spc="-1" strike="noStrike" u="sng">
                <a:solidFill>
                  <a:srgbClr val="000000"/>
                </a:solidFill>
                <a:uFillTx/>
                <a:latin typeface="Times New Roman"/>
                <a:ea typeface="Times New Roman"/>
              </a:rPr>
              <a:t>proceso anaerobio</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acetogénicas sintróficas: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ctato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4</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 formato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7</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9.6</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utirato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8</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enzoato + 7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a:t>
            </a: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2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53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opionato + 3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76</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eacciones metanogénicas</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2800" spc="-1" strike="noStrike">
                <a:solidFill>
                  <a:srgbClr val="000000"/>
                </a:solidFill>
                <a:latin typeface="Webdings"/>
                <a:ea typeface="Webdings"/>
              </a:rPr>
              <a:t></a:t>
            </a:r>
            <a:r>
              <a:rPr b="1" lang="es-ES" sz="2800" spc="-1" strike="noStrike">
                <a:solidFill>
                  <a:srgbClr val="000000"/>
                </a:solidFill>
                <a:latin typeface="Times New Roman"/>
                <a:ea typeface="Arial"/>
              </a:rPr>
              <a:t>G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cetato + </a:t>
            </a:r>
            <a:r>
              <a:rPr b="1" lang="es-ES" sz="2800" spc="-1" strike="noStrike">
                <a:solidFill>
                  <a:srgbClr val="000000"/>
                </a:solidFill>
                <a:latin typeface="Times New Roman"/>
              </a:rPr>
              <a:t>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3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3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a:t>
            </a:r>
            <a:r>
              <a:rPr b="1" lang="es-ES" sz="2800" spc="-1" strike="noStrike">
                <a:solidFill>
                  <a:srgbClr val="000000"/>
                </a:solidFill>
                <a:latin typeface="Times New Roman"/>
              </a:rPr>
              <a:t>	</a:t>
            </a:r>
            <a:r>
              <a:rPr b="1" lang="es-ES" sz="2800" spc="-1" strike="noStrike">
                <a:solidFill>
                  <a:srgbClr val="000000"/>
                </a:solidFill>
                <a:latin typeface="Times New Roman"/>
              </a:rPr>
              <a:t>          - 13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4 formiato + H</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3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a:solidFill>
                  <a:srgbClr val="000000"/>
                </a:solidFill>
                <a:latin typeface="Times New Roman"/>
              </a:rPr>
              <a:t>-13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sulfidogénicas</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 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acetato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161</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3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6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55</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2</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cet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7</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 propionato +3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4 acetato + 4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3HS</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0</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2 butir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acetato +  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br>
              <a:rPr sz="3200"/>
            </a:br>
            <a:r>
              <a:rPr b="0"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sp>
        <p:nvSpPr>
          <p:cNvPr id="6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Organismos dentro de este grupo trófico pueden incluir: </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ubacterias, hongos y protozoos y depende del ecosistema individual.</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bacterias anaeróbicas son las mas importantes en los digestores y sedimentos y compiten por los nutrientes y fuentes de carbono comun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uchas especies pueden coexistir y va a depender de la naturaleza de la materia en decaimiento.</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j. glucosa +  celulosa  +  fibr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a:t>
            </a:r>
            <a:r>
              <a:rPr b="0" lang="en-GB" sz="2800" spc="-1" strike="noStrike">
                <a:solidFill>
                  <a:srgbClr val="000000"/>
                </a:solidFill>
                <a:latin typeface="Times New Roman"/>
                <a:ea typeface="Times New Roman"/>
              </a:rPr>
              <a:t>acteroides cellulosolvens + Clostridium saccharolyticum</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recimiento de bacterias fermentativas hidrolíticas acetogénicas es inhibido por altas concentraciones de producto final.</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pecialmente aniones de ác. orgánicos, pH e hidrógeno.</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e grupo I involucra metabolismo generador de energía por fosforilación a nivel de sustrato con producción de etanol y lactato como productos finales mas importantes.</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Grupo I es menos sensible al pH ácido que los otros grupos.</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ACETOGÉNICAS</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bacterias producen grandes cantidades de H</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 formato y acetato y estos organismos acidifican los digestores anaeróbico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on bacterias que oxidan compuestos que son productos de las reacciones anterior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tan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ropion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utir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enzo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cetato</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METANOGÉNICAS</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as de 30 especies de bacterias  metanogénicas aislada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controla el pH por remoción de ácido  acético y por la producción de CO</a:t>
            </a:r>
            <a:r>
              <a:rPr b="0" lang="es-ES" sz="3200" spc="-1" strike="noStrike" baseline="-30000">
                <a:solidFill>
                  <a:srgbClr val="000000"/>
                </a:solidFill>
                <a:latin typeface="Times New Roman"/>
                <a:ea typeface="Times New Roman"/>
              </a:rPr>
              <a:t>2</a:t>
            </a:r>
            <a:r>
              <a:rPr b="0" lang="es-ES" sz="3200" spc="-1" strike="noStrike">
                <a:solidFill>
                  <a:srgbClr val="000000"/>
                </a:solidFill>
                <a:latin typeface="Times New Roman"/>
                <a:ea typeface="Times New Roman"/>
              </a:rPr>
              <a:t>/HCO</a:t>
            </a:r>
            <a:r>
              <a:rPr b="0" lang="es-ES" sz="3200" spc="-1" strike="noStrike" baseline="-30000">
                <a:solidFill>
                  <a:srgbClr val="000000"/>
                </a:solidFill>
                <a:latin typeface="Times New Roman"/>
                <a:ea typeface="Times New Roman"/>
              </a:rPr>
              <a:t>3</a:t>
            </a:r>
            <a:r>
              <a:rPr b="0" lang="es-ES" sz="3200" spc="-1" strike="noStrike" baseline="30000">
                <a:solidFill>
                  <a:srgbClr val="000000"/>
                </a:solidFill>
                <a:latin typeface="Times New Roman"/>
                <a:ea typeface="Times New Roman"/>
              </a:rPr>
              <a:t>-</a:t>
            </a:r>
            <a:r>
              <a:rPr b="0" lang="es-E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304920"/>
            <a:ext cx="9144000" cy="624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66760" y="68580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en-US" sz="4400" spc="-1" strike="noStrike">
                <a:solidFill>
                  <a:srgbClr val="000000"/>
                </a:solidFill>
                <a:latin typeface="Times New Roman"/>
              </a:rPr>
              <a:t>CORROSIÓN INFLUENCIADA POR MICROORGANISMOS (MIC)</a:t>
            </a:r>
            <a:endParaRPr b="0" lang="en-US" sz="4400" spc="-1" strike="noStrike">
              <a:solidFill>
                <a:srgbClr val="000000"/>
              </a:solidFill>
              <a:latin typeface="Times New Roman"/>
            </a:endParaRPr>
          </a:p>
        </p:txBody>
      </p:sp>
      <p:sp>
        <p:nvSpPr>
          <p:cNvPr id="74"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5" name=""/>
          <p:cNvSpPr/>
          <p:nvPr/>
        </p:nvSpPr>
        <p:spPr>
          <a:xfrm>
            <a:off x="76212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condiciones anóxicas en hábitat microbianos son predominantemente causadas por el rápido consumo de oxígeno por microorganismos aeróbicos y anaeróbicos facultativos en la superficie del hábit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orrosión es el producto de reacciones químicas, electroquímicas y microbiológicas en cañerías y superficies metálicas en gener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 corrosión produce un daño en estas superficies: pérdida de grosor de la pared metálica y formación de incrustacio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reconoce por un color característ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se produce en presencia de humedad o en alguna zona sumergida del me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química se produce como consecuencia de reacciones químicas entre los compuestos del metal y algunos productos químicos, como ácido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electroquímica se debe a la formación de una celda galvánica, sirviendo el agua como electrolito. Se produce un intercambio de electrones y desplazamiento de estos a través del met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microbiológica es producida por una serie de bacterias que provocan reacciones de oxido-reducción en la superficie del me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bacterias más importantes en estos procesos son bacterias hierrooxidantes y bacterias sulfato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acuerdo a los estudios hechos en los últimos años siempre que se produce la corrosión, previamente se ha formado un biofilm constituído por bacterias y sustancias poliméricas (EPS o glicocalix), producidas por las bacteri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de las especies que participan en la formación de este biofilm son las Pseudomon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dherencia de una bacteria sencilla a un sitio no colonizado parece seguir una secuencia específic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ero se produce una fase reversible de adherencia electrostática seguida por una fase irreversible mediada por la producción de polímeros extracelulares. En un tiempo indeterminado los organismos consumidores de oxígeno se asocian con bacterias anaeróbicas facultativas y obligadas entre las cuales se encuentran las sulfato 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ecanismos involucrad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bacterias se adhieren, se forma biofilm, constituído por glicopolisacáridos que tienen zonas polares y apolare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agua es un dipolo que produce una celda galvánica, los H+ se unen a electrones extraídos del metal (por dislocaciones de la estructura de este) produciéndose H</a:t>
            </a:r>
            <a:r>
              <a:rPr b="0" lang="es-ES" sz="2800" spc="-1" strike="noStrike" baseline="-25000">
                <a:solidFill>
                  <a:srgbClr val="000000"/>
                </a:solidFill>
                <a:latin typeface="Times New Roman"/>
              </a:rPr>
              <a:t>2.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 </a:t>
            </a:r>
            <a:r>
              <a:rPr b="0" lang="es-ES" sz="2800" spc="-1" strike="noStrike">
                <a:solidFill>
                  <a:srgbClr val="000000"/>
                </a:solidFill>
                <a:latin typeface="Times New Roman"/>
              </a:rPr>
              <a:t>puede</a:t>
            </a:r>
            <a:r>
              <a:rPr b="0" lang="es-ES" sz="2800" spc="-1" strike="noStrike" baseline="-25000">
                <a:solidFill>
                  <a:srgbClr val="000000"/>
                </a:solidFill>
                <a:latin typeface="Times New Roman"/>
              </a:rPr>
              <a:t> </a:t>
            </a:r>
            <a:r>
              <a:rPr b="0" lang="es-ES" sz="2800" spc="-1" strike="noStrike">
                <a:solidFill>
                  <a:srgbClr val="000000"/>
                </a:solidFill>
                <a:latin typeface="Times New Roman"/>
              </a:rPr>
              <a:t>ser utilizado por bacterias sulfato reductoras o por otro tipo de bacterias, generándose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metano, ácidos orgánicos, et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Fe(II) que aparece por oxidación del Fe puede ser oxidado por las bacterias hierrooxidante produciendo Fe(OH)</a:t>
            </a:r>
            <a:r>
              <a:rPr b="0" lang="es-ES" sz="2800" spc="-1" strike="noStrike" baseline="-25000">
                <a:solidFill>
                  <a:srgbClr val="000000"/>
                </a:solidFill>
                <a:latin typeface="Times New Roman"/>
              </a:rPr>
              <a:t>3</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es un compuesto corrosivo que también puede precipitar con Fe(II) </a:t>
            </a:r>
            <a:r>
              <a:rPr b="1" lang="el-GR" sz="2400" spc="-1" strike="noStrike">
                <a:solidFill>
                  <a:srgbClr val="000000"/>
                </a:solidFill>
                <a:latin typeface="Symbol"/>
                <a:ea typeface="Symbol"/>
              </a:rPr>
              <a:t></a:t>
            </a:r>
            <a:r>
              <a:rPr b="0" lang="es-ES" sz="2800" spc="-1" strike="noStrike">
                <a:solidFill>
                  <a:srgbClr val="000000"/>
                </a:solidFill>
                <a:latin typeface="Times New Roman"/>
              </a:rPr>
              <a:t> FeS o con Fe(III), 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a:t>
            </a:r>
            <a:r>
              <a:rPr b="0" lang="es-ES" sz="2800" spc="-1" strike="noStrike" baseline="-25000">
                <a:solidFill>
                  <a:srgbClr val="000000"/>
                </a:solidFill>
                <a:latin typeface="Times New Roman"/>
              </a:rPr>
              <a:t>3</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ha descrito en el último tiempo la oxidación de Fe elemental por bacterias sulfato reductoras, estas generarían Fe(II) que daría origen a otras oxidacion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1" name=""/>
          <p:cNvGraphicFramePr/>
          <p:nvPr/>
        </p:nvGraphicFramePr>
        <p:xfrm>
          <a:off x="685800" y="1981080"/>
          <a:ext cx="7772400" cy="6446880"/>
        </p:xfrm>
        <a:graphic>
          <a:graphicData uri="http://schemas.openxmlformats.org/drawingml/2006/table">
            <a:tbl>
              <a:tblPr/>
              <a:tblGrid>
                <a:gridCol w="1943280"/>
                <a:gridCol w="1942920"/>
                <a:gridCol w="1943280"/>
                <a:gridCol w="19429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9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obacteri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allionell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derocasp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ibacteri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rmación de películas e incrustaciones de Fe y M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erobios, microaerobios, pH neutro, Fe(II)</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8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Reductoras de sulfa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ulfovibrio Desulfomonas, Desulfotomacul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o compuestos orgánicos y reducen sulfato a sulfur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aeróbicos, pH entre 5.5 y 8.5.</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gua fresca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3" name=""/>
          <p:cNvGraphicFramePr/>
          <p:nvPr/>
        </p:nvGraphicFramePr>
        <p:xfrm>
          <a:off x="762120" y="1752480"/>
          <a:ext cx="7696080" cy="5105160"/>
        </p:xfrm>
        <a:graphic>
          <a:graphicData uri="http://schemas.openxmlformats.org/drawingml/2006/table">
            <a:tbl>
              <a:tblPr/>
              <a:tblGrid>
                <a:gridCol w="1866960"/>
                <a:gridCol w="1942920"/>
                <a:gridCol w="1943280"/>
                <a:gridCol w="1942920"/>
              </a:tblGrid>
              <a:tr h="1012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2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carbonato reductor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bacteriu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sarcin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coccu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ción de sustratos orgánicos simples, tambié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y producen metan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4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fermentativ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xidan  orgánicos, producen ác.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66680" y="762120"/>
            <a:ext cx="70866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etanogénesis se produce en una variedad de ambiente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produce metanogénesis en:</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psicr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mes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termófic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fresca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de mar</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cosistemas hipersalinos</a:t>
            </a:r>
            <a:endParaRPr b="0" lang="en-US" sz="3200" spc="-1" strike="noStrike">
              <a:solidFill>
                <a:srgbClr val="000000"/>
              </a:solidFill>
              <a:latin typeface="Times New Roman"/>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295280" y="838080"/>
            <a:ext cx="670572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ITOREO DE LA CORROSIÓN</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monitorea con la ayuda de electrodos que miden concentraciones de oxígeno disuelto, ácido sulfhídrico, dióxido de carbono y electrodos que miden pH, temperatura y conductiv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ambién se determinan los sólidos disueltos y totales, y carbono orgánico tot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HIBICIÓN DE LA CORROSIÓN</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puede inhibir de dos maner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anticorrosivos: ácidos carboxílicos o sulfooxidos; usar compuestos inorgánicos, derivados del vanadio. Pinturas epóxic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biocidas: cloro o glutaraldehíd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cciones involucrada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metabólicas de fermentación con fosforilación a nivel de sustrato durante las transformaciones de la materia orgánica.</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de oxidación anaeróbicas de los compuestos mas reducidos de carbón con </a:t>
            </a:r>
            <a:r>
              <a:rPr b="0" lang="en-US" sz="3200" spc="-1" strike="noStrike" u="sng">
                <a:solidFill>
                  <a:srgbClr val="000000"/>
                </a:solidFill>
                <a:uFillTx/>
                <a:latin typeface="Times New Roman"/>
                <a:ea typeface="Times New Roman"/>
              </a:rPr>
              <a:t>aceptores de electrones distintos al oxigen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380880"/>
            <a:ext cx="9144000" cy="609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CCIONES INVOLUCRADA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Todas ellas cubren rangos de potenciales redox desde –300 + 400 mv.</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acet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a:t>
            </a:r>
            <a:r>
              <a:rPr b="1" lang="es-ES" sz="3200" spc="-1" strike="noStrike">
                <a:solidFill>
                  <a:srgbClr val="000000"/>
                </a:solidFill>
                <a:latin typeface="Times New Roman"/>
                <a:ea typeface="Times New Roman"/>
              </a:rPr>
              <a:t>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metan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sulfatos y compuestos oxidados de  S a sulfuros</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microbiana de Fe(III)</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fumarato a succin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NO</a:t>
            </a:r>
            <a:r>
              <a:rPr b="1" lang="es-ES" sz="2800" spc="-1" strike="noStrike" baseline="-30000">
                <a:solidFill>
                  <a:srgbClr val="000000"/>
                </a:solidFill>
                <a:latin typeface="Times New Roman"/>
                <a:ea typeface="Times New Roman"/>
              </a:rPr>
              <a:t>3</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NO</a:t>
            </a:r>
            <a:r>
              <a:rPr b="1" lang="es-ES" sz="2800" spc="-1" strike="noStrike" baseline="-30000">
                <a:solidFill>
                  <a:srgbClr val="000000"/>
                </a:solidFill>
                <a:latin typeface="Times New Roman"/>
                <a:ea typeface="Times New Roman"/>
              </a:rPr>
              <a:t>2</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 </a:t>
            </a:r>
            <a:r>
              <a:rPr b="1" lang="es-ES" sz="2800" spc="-1" strike="noStrike">
                <a:solidFill>
                  <a:srgbClr val="000000"/>
                </a:solidFill>
                <a:latin typeface="Symbol"/>
                <a:ea typeface="Symbol"/>
              </a:rPr>
              <a:t></a:t>
            </a:r>
            <a:r>
              <a:rPr b="1" lang="es-ES" sz="2800" spc="-1" strike="noStrike">
                <a:solidFill>
                  <a:srgbClr val="000000"/>
                </a:solidFill>
                <a:latin typeface="Times New Roman"/>
                <a:ea typeface="Times New Roman"/>
              </a:rPr>
              <a:t> NH</a:t>
            </a:r>
            <a:r>
              <a:rPr b="1" lang="es-ES" sz="2800" spc="-1" strike="noStrike" baseline="-30000">
                <a:solidFill>
                  <a:srgbClr val="000000"/>
                </a:solidFill>
                <a:latin typeface="Times New Roman"/>
                <a:ea typeface="Times New Roman"/>
              </a:rPr>
              <a:t>4</a:t>
            </a:r>
            <a:r>
              <a:rPr b="1" lang="es-ES" sz="2800" spc="-1" strike="noStrike" baseline="30000">
                <a:solidFill>
                  <a:srgbClr val="000000"/>
                </a:solidFill>
                <a:latin typeface="Times New Roman"/>
                <a:ea typeface="Times New Roman"/>
              </a:rPr>
              <a:t>+</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EXTO METABÓLICO Y ECOFISIOLÓGIC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digestión anaeróbica en ausencia de sulfatos o nitratos ocurre generalmente en tres pasos biodegradativos secuenciales representados por tres grupos tróficos separados, de microorganismos que producen: hidrólisis fermentativa (Grupo I), reacciones acetogénica (Grupo II) y metanogénesis (Grupo II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57480" y="243000"/>
            <a:ext cx="6629400" cy="63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cciones fermentativas:</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KJ/Reacción</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3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3CH</a:t>
            </a:r>
            <a:r>
              <a:rPr b="1" lang="es-ES" sz="2400" spc="-1" strike="noStrike" baseline="-25000">
                <a:solidFill>
                  <a:srgbClr val="000000"/>
                </a:solidFill>
                <a:latin typeface="Times New Roman"/>
              </a:rPr>
              <a:t>4</a:t>
            </a:r>
            <a:r>
              <a:rPr b="1" lang="es-ES" sz="2400" spc="-1" strike="noStrike">
                <a:solidFill>
                  <a:srgbClr val="000000"/>
                </a:solidFill>
                <a:latin typeface="Times New Roman"/>
              </a:rPr>
              <a:t> + 3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03</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2 etanol+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H</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a:solidFill>
                  <a:srgbClr val="000000"/>
                </a:solidFill>
                <a:latin typeface="Times New Roman"/>
              </a:rPr>
              <a:t>-225</a:t>
            </a:r>
            <a:endParaRPr b="0" lang="en-US" sz="2400" spc="-1" strike="noStrike">
              <a:solidFill>
                <a:srgbClr val="000000"/>
              </a:solidFill>
              <a:latin typeface="Times New Roman"/>
            </a:endParaRPr>
          </a:p>
          <a:p>
            <a:pPr marL="312120" indent="-31212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2 lactato + 2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98</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s-ES" sz="2400" spc="-1" strike="noStrike">
                <a:solidFill>
                  <a:srgbClr val="000000"/>
                </a:solidFill>
                <a:latin typeface="Times New Roman"/>
              </a:rPr>
              <a:t>+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butirato +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25000">
                <a:solidFill>
                  <a:srgbClr val="000000"/>
                </a:solidFill>
                <a:latin typeface="Times New Roman"/>
              </a:rPr>
              <a:t>2    </a:t>
            </a:r>
            <a:r>
              <a:rPr b="1" lang="es-ES" sz="2400" spc="-1" strike="noStrike" baseline="-25000">
                <a:solidFill>
                  <a:srgbClr val="000000"/>
                </a:solidFill>
                <a:latin typeface="Times New Roman"/>
              </a:rPr>
              <a:t>	</a:t>
            </a:r>
            <a:r>
              <a:rPr b="1" lang="es-ES" sz="2400" spc="-1" strike="noStrike" baseline="-25000">
                <a:solidFill>
                  <a:srgbClr val="000000"/>
                </a:solidFill>
                <a:latin typeface="Times New Roman"/>
              </a:rPr>
              <a:t>	</a:t>
            </a:r>
            <a:r>
              <a:rPr b="1" lang="es-ES" sz="2400" spc="-1" strike="noStrike">
                <a:solidFill>
                  <a:srgbClr val="000000"/>
                </a:solidFill>
                <a:latin typeface="Times New Roman"/>
              </a:rPr>
              <a:t>- 254</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3 acetato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310</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 lactato</a:t>
            </a:r>
            <a:r>
              <a:rPr b="1" lang="es-ES" sz="2400" spc="-1" strike="noStrike" baseline="30000">
                <a:solidFill>
                  <a:srgbClr val="000000"/>
                </a:solidFill>
                <a:latin typeface="Times New Roman"/>
              </a:rPr>
              <a:t> </a:t>
            </a:r>
            <a:r>
              <a:rPr b="1" lang="es-ES" sz="2400" spc="-1" strike="noStrike" baseline="-25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propionato + acetato +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 </a:t>
            </a:r>
            <a:r>
              <a:rPr b="1" lang="es-ES" sz="2400" spc="-1" strike="noStrike">
                <a:solidFill>
                  <a:srgbClr val="000000"/>
                </a:solidFill>
                <a:latin typeface="Times New Roman"/>
              </a:rPr>
              <a:t>- 164</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7:50:19Z</dcterms:created>
  <dc:creator>Blanca Escobar</dc:creator>
  <dc:description/>
  <dc:language>en-US</dc:language>
  <cp:lastModifiedBy>Blanca Escobar</cp:lastModifiedBy>
  <dcterms:modified xsi:type="dcterms:W3CDTF">2007-09-28T19:53:32Z</dcterms:modified>
  <cp:revision>31</cp:revision>
  <dc:subject/>
  <dc:title>METANOGENESIS </dc:title>
</cp:coreProperties>
</file>