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F0F5-2931-40E9-90C4-EFB5C8B5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4A71-38E3-4F5A-93EB-BB21593E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5507-4284-4A66-ADC0-BB167D20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D350-9DDE-4A10-A62F-ABF668FB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7D5E-0646-481A-8191-DAC39320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16EC-DF8B-4999-A74B-79E6A70A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EB89-2211-4CA2-93FB-9847A087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6175-D8FD-4F5B-A28D-271F1855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BEF0-08F4-4737-AEE3-12FE73B0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B8A6-2542-407E-B69D-3F9AD012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E672-725F-48C0-8060-CFAC599D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FFE9-7A95-4BB5-9AAF-B129BF9D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BD74-5EE6-423F-AFC9-5FA0013AA62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OCULANTES MICROBIANOS QUE AUMENTAN EL RENDIMIENTO DE LAS COSECH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Inocular suelo con hongos que forman micorrizas, estos colonizan raíces de las plantas y así aumentan superficie de las raíces disminuyen necesidades de agua y nutrien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ción de ácido giberélico (fitohormona del crecimiento) por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Gibberella fujikuroi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cultivada en medios sól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so de especies de hongo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richoderm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n cultivos en campos estos producen metabolitos:  volátiles y/o difusibles, quitinasas, glucanasas o proteasas que actúan como antagonistas de fitopatógenos (para evitar pesticidas químic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Uso de M.O. como vectores para producir plantas transgénicas (resistentes a ciertas plag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ara evitar la rápida maduración y deterioro de las frutas (para exportac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ducción de fitohorm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utilizan naturales y sintéticas sobre mas de 1.000.000 de hectáreas en el mundo y sobre diferentes variedades de cult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umentan rendimiento, calidad de la producción, modificando el desarrollo de la planta, a través del sistema horm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trol biológico de pestes agríco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uso de pesticidas o insecticidas para eliminar pestes acarrea muchos problemas secundarios sobre el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sticidas microbianos son específicos y son mas baratos que los pesticidas quím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j. Baculo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infecta a un macho de un insecto y este se cruza con la hembra y producen huevos infectados con el virus lo que les impide desarroll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 uso de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Bacillus thuringiensi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para control de plagas (insectos)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Bacillu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duce una toxina especifica para insectos que les causa la muer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toxina es producida durante la esporul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uelo está formado por compuestos orgánicos e inorgánicos y corresponde a la zona fértil que soporta la vida terres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compuestos inorgánicos provienen del interior de la tierra y se mezclan con los compuestos orgánicos provenientes de la descomposición de organismos v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a gramo de suelo contiene mas de 2 billones de bacte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s junto a los hongos saprofíticos tienen gran importancia en la mantención de la fertilidad del su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os los organismos sobre la tierra dependemos entre otros nutrientes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lantas leguminosas  crecen bien en suelos pobres en nitrógeno produciendo su propio fertiliz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. leguminosa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. phase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. lupini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hizobium primero se adhieren a las células de las raíces y así las bacterias penetran a la pla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os suelos se pueden fertilizar usando estas plantas que dejan a estas bacterias en el su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 porotos, alfalfa, soya, man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LONIZACIÓN DE LAS RAICES DE UNA LEGUMINOSA PO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TERIAS RHIZOB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4771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están desarrollando nuevos mutantes de Rhizobium con altas capacidades para fijar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está tratando de cultivar Azotobacter un fijador no simbiótico de nitrógeno, cerca de raíces de maíz, lo que entregará a esta planta no leguminosa altas concentraciones de compuestos nitroge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so de Cianobacterias en cultivos de arro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retende crear plantas con capacidad para fijar nitrógeno transfiriendo genes desde bacterias fijado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: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Klebsiella pneumoniae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contiene 17 genes en un plasmi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or ahora no ha funcionado la transferencia de estos genes a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Saccharomyces cerevisi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tro problema es la sensibilidad de la nitrogenasa al Oxígeno generado en la fotosíntesis.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OCULANTES MICROBIANOS QUE AUMENTAN EL RENDIMIENTO DE LAS COSECH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plantas se pueden beneficiar también con M.O. no fijadores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iertas cepa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seudomonas putid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seudomona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luorescens  cuando se inoculan en el suelo aumentan las cosecha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en sideróforos, sustancias que enlazan hierro y así lo sacan del suelo, impidiendo que los M.O. crezcan allí y quiten agua y otros nutrientes a las plantas (raíc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4:53:44Z</dcterms:created>
  <dc:creator>Blanca Escobar</dc:creator>
  <dc:description/>
  <dc:language>en-US</dc:language>
  <cp:lastModifiedBy>Blanca Escobar</cp:lastModifiedBy>
  <dcterms:modified xsi:type="dcterms:W3CDTF">2006-11-02T21:33:48Z</dcterms:modified>
  <cp:revision>4</cp:revision>
  <dc:subject/>
  <dc:title>MICROBIOLOGIA AGRICOLA</dc:title>
</cp:coreProperties>
</file>