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3B89-701F-41F6-AB91-E8361CC9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A41A-481F-4DB6-9F5A-63407EC8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CD8E-DEC5-4A90-9B04-1C613420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70E8-DC50-4009-BA91-CAEC703C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9B5D-195D-4516-9012-6E55ED26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72BC-A51E-413D-8478-5EC4BE33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58FF-9072-4DC8-A5D3-3B828DA7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F488-E516-4D46-8B60-9FF392FC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152C-C787-491B-82CA-6AAE8D76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870-D572-471F-8B04-5E5BC522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58D9-2395-469E-BF97-7C449CFE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0A53-D329-43AC-B478-6F30D761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9A47-1549-46DE-8CA5-E6F3267BBB0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OCULANTES MICROBIANOS QUE AUMENTAN EL RENDIMIENTO DE LAS COSECH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Inocular suelo con hongos que forman micorrizas, estos colonizan raíces de las plantas y así aumentan superficie de las raíces disminuyen necesidades de agua y nutrien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ción de ácido giberélico (fitohormona del crecimiento) por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Gibberella fujikuroi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ultivada en medios sól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so de especies de hongo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richoderm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n cultivos en campos estos producen metabolitos:  volátiles y/o difusibles, quitinasas, glucanasas o proteasas que actúan como antagonistas de fitopatógenos (para evitar pesticidas químic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so de M.O. como vectores para producir plantas transgénicas (resistentes a ciertas plag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ara evitar la rápida maduración y deterioro de las frutas (para exporta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ducción de fitohor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utilizan naturales y sintéticas sobre mas de 1.000.000 de hectáreas en el mundo y sobre diferentes variedades de cult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umentan rendimiento, calidad de la producción, modificando el desarrollo de la planta, a través del sistema horm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trol biológico de pestes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uso de pesticidas o insecticidas para eliminar pestes acarrea muchos problemas secundarios sobre el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sticidas microbianos son específicos y son mas baratos que los pesticidas quím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j. Baculo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infecta a un macho de un insecto y este se cruza con la hembra y producen huevos infectados con el virus lo que les impide desarroll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 uso de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Bacillus thuringiensi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para control de plagas (insectos)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Bacillu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duce una toxina especifica para insectos que les causa la muer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toxina es producida durante la esporu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uelo está formado por compuestos orgánicos e inorgánicos y corresponde a la zona fértil que soporta la vida terres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compuestos inorgánicos provienen del interior de la tierra y se mezclan con los compuestos orgánicos provenientes de la descomposición de organismos v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a gramo de suelo contiene mas de 2 billones de bacte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s junto a los hongos saprofíticos tienen gran importancia en la mantención de la fertilidad del su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os los organismos sobre la tierra dependemos entre otros nutrientes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lantas leguminosas  crecen bien en suelos pobres en nitrógeno produciendo su propio fertiliz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. leguminosa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. phase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. lupini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hizobium primero se adhieren a las células de las raíces y así las bacterias penetran a la pla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suelos se pueden fertilizar usando estas plantas que dejan a estas bacterias en el su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 porotos, alfalfa, soya, man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LONIZACIÓN DE LAS RAICES DE UNA LEGUMINOSA PO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TERIAS RHIZOB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4771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están desarrollando nuevos mutantes de Rhizobium con altas capacidades para fijar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está tratando de cultivar Azotobacter un fijador no simbiótico de nitrógeno, cerca de raíces de maíz, lo que entregará a esta planta no leguminosa altas concentraciones de compuestos nitroge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so de Cianobacterias en cultivos de arro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etende crear plantas con capacidad para fijar nitrógeno transfiriendo genes desde bacterias fijado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: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Klebsiella pneumoniae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contiene 17 genes en un plasmi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or ahora no ha funcionado la transferencia de estos genes a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Saccharomyces cerevisi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tro problema es la sensibilidad de la nitrogenasa al Oxígeno generado en la fotosíntesis.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OCULANTES MICROBIANOS QUE AUMENTAN EL RENDIMIENTO DE LAS COSECH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plantas se pueden beneficiar también con M.O. no fijadores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iertas cepa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seudomonas putid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seudomona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luorescens  cuando se inoculan en el suelo aumentan las cosecha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en sideróforos, sustancias que enlazan hierro y así lo sacan del suelo, impidiendo que los M.O. crezcan allí y quiten agua y otros nutrientes a las plantas (raíc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4:53:44Z</dcterms:created>
  <dc:creator>Blanca Escobar</dc:creator>
  <dc:description/>
  <dc:language>en-US</dc:language>
  <cp:lastModifiedBy>Blanca Escobar</cp:lastModifiedBy>
  <dcterms:modified xsi:type="dcterms:W3CDTF">2006-11-02T21:33:48Z</dcterms:modified>
  <cp:revision>4</cp:revision>
  <dc:subject/>
  <dc:title>MICROBIOLOGIA AGRICOLA</dc:title>
</cp:coreProperties>
</file>