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CDF-06BB-41C2-8E3E-027F940D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1F1-089A-44F4-8D88-71C7388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F2A-2985-407A-9BD8-B6CCDC7D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160-7922-4D26-9D3F-8AD374B1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D5F-757B-4916-A3CA-B8F56C0D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0AA-1441-4134-A4D6-8C3C6B2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E92-A007-4D3D-A928-86B67E02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069-C2F4-45CB-89A0-EB0500A6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8B6-9DA8-43A3-9B63-CEED4117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753-51C0-40DB-8B68-4315583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FD0-6D21-463B-AA6A-FAC27494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57B-E334-4F26-AB90-C20A2334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6E8-253D-4B83-A7B6-24B5A06D25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luorescens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6-11-02T21:33:48Z</dcterms:modified>
  <cp:revision>4</cp:revision>
  <dc:subject/>
  <dc:title>MICROBIOLOGIA AGRICOLA</dc:title>
</cp:coreProperties>
</file>