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E46-AC7A-4601-9881-53CF267D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A09-A4FD-451C-BF79-922C34E3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BEB-1EC0-435A-B05A-D536084B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D0E-E103-4479-81E4-E0E5CB44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462-966D-4000-A230-F387575B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D9A-4F99-4E91-80F8-A1AC0921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86D-8330-4B94-9853-E40366A0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9B0-201C-4D18-8DBE-8219E806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026-BC6E-46F6-AE45-9474C2E6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204-AF91-44C5-89C4-2436C58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202-D65D-420A-AF77-1029DED5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82C-466F-418C-8590-E7AE7727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D660-D636-402C-8491-BB7FC0104EA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ocular suelo con hongos que forman micorrizas, estos colonizan raíces de las plantas y así aumentan superficie de las raíces disminuyen necesidades de agua y nutr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ácido giberélico (fitohormona del crecimiento) por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Gibberella fujikuro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ultivada en medios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especies de hongo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richode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cultivos en campos estos producen metabolitos:  volátiles y/o difusibles, quitinasas, glucanasas o proteasas que actúan como antagonistas de fitopatógenos (para evitar pesticidas quím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de M.O. como vectores para producir plantas transgénicas (resistentes a ciertas pla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 evitar la rápida maduración y deterioro de las frutas (para export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fitohor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utilizan naturales y sintéticas sobre mas de 1.000.000 de hectáreas en el mundo y sobre diferentes variedades de cul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mentan rendimiento, calidad de la producción, modificando el desarrollo de la planta, a través del sistema horm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rol biológico de pestes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de pesticidas o insecticidas para eliminar pestes acarrea muchos problemas secundarios sobre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ticidas microbianos son específicos y son mas baratos que los pesticidas quím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Bacu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infecta a un macho de un insecto y este se cruza con la hembra y producen huevos infectados con el virus lo que les impide desarroll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uso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thuringiensi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ara control de plagas (insectos)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e una toxina especifica para insectos que les causa la mue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oxina es producida durante la espor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uelo está formado por compuestos orgánicos e inorgánicos y corresponde a la zona fértil que soporta la vida terr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puestos inorgánicos provienen del interior de la tierra y se mezclan con los compuestos orgánicos provenientes de la descomposición de organismos v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gramo de suelo contiene mas de 2 billones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junto a los hongos saprofíticos tienen gran importancia en la mantención de la fertilidad del su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los organismos sobre la tierra dependemos entre otros nutrient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lantas leguminosas  crecen bien en suelos pobres en nitrógeno produciendo su propio fertiliz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eguminosa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. phase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upini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hizobium primero se adhieren a las células de las raíces y así las bacterias penetran a l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suelos se pueden fertilizar usando estas plantas que dejan a estas bacterias en el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porotos, alfalfa, soya, man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NIZACIÓN DE LAS RAICES DE UNA LEGUMINOSA P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HIZO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n desarrollando nuevos mutantes de Rhizobium con altas capacidades para fijar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 tratando de cultivar Azotobacter un fijador no simbiótico de nitrógeno, cerca de raíces de maíz, lo que entregará a esta planta no leguminosa altas concentraciones de compuestos nitrog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Cianobacterias en cultivos de arr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etende crear plantas con capacidad para fijar nitrógeno transfiriendo genes desde bacterias fij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: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Klebsiella pneumon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tiene 17 genes en un plasmi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or ahora no ha funcionado la transferencia de estos genes a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tro problema es la sensibilidad de la nitrogenasa al Oxígeno generado en la fotosíntesis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lantas se pueden beneficiar también con M.O. no fijador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t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put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luorescens  cuando se inoculan en el suelo aumentan las cosech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en sideróforos, sustancias que enlazan hierro y así lo sacan del suelo, impidiendo que los M.O. crezcan allí y quiten agua y otros nutrientes a las plantas (raí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3:44Z</dcterms:created>
  <dc:creator>Blanca Escobar</dc:creator>
  <dc:description/>
  <dc:language>en-US</dc:language>
  <cp:lastModifiedBy>Blanca Escobar</cp:lastModifiedBy>
  <dcterms:modified xsi:type="dcterms:W3CDTF">2006-11-02T21:33:48Z</dcterms:modified>
  <cp:revision>4</cp:revision>
  <dc:subject/>
  <dc:title>MICROBIOLOGIA AGRICOLA</dc:title>
</cp:coreProperties>
</file>