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BF40-EEB6-4CC3-8FDB-3DD74212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5664-520E-4CA7-9EC6-B2E74B422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3488D-ADE7-4313-9E15-64BEF4888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7130-463E-49EF-A32A-3D4C60DD2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FBF88-6E2A-4A6A-9860-1248388A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470A-7A63-49D0-A0D3-20F47A10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CCB0-90EB-4BD7-90DF-0E80FD7A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89572-A19E-42C2-BE00-DBE09EE5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B373-9497-45D3-857E-82B56341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F95D-5308-4120-8549-7F313CC6F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E2F41-C79D-4527-8788-D31DE5DBD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9665-222B-4C37-A4A5-AEC5DEB11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3DB2-C188-4EE8-AE30-5EACF3F86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8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7- l08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4-10-27T22:18:55Z</dcterms:modified>
  <cp:revision>18</cp:revision>
  <dc:subject/>
  <dc:title>FERMENTACIONES EN ESTADO SÓLIDO O SEMISÓLIDAS</dc:title>
</cp:coreProperties>
</file>