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DC5C7-4ABC-4D72-9A24-09D6D5CDA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BEE92-7AB8-4605-B5A7-B81429123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C677B-9038-404A-891F-2B505C0F2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410FD-FD08-41D3-AD61-85F202378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4AEB-6EA2-4218-BB39-091517E02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7A8E-A6F6-4430-A45D-BC1739890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B9FC0-0E31-4CE9-A9DE-83AEB7A24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05BF-BF95-43A1-8278-2C4BD22E4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327EA-6585-48E3-B4EA-F5C41FF6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F67D-3A0F-4389-A28B-E8EFADA6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3EF5-4228-44BB-B5F6-8F664B96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6640-CAF7-4E63-A006-B9459A2F8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FA6B-F1AC-461E-AF2A-059882BA5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8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7- l08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4-10-27T22:18:55Z</dcterms:modified>
  <cp:revision>18</cp:revision>
  <dc:subject/>
  <dc:title>FERMENTACIONES EN ESTADO SÓLIDO O SEMISÓLIDAS</dc:title>
</cp:coreProperties>
</file>