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97CA3-79B1-40DA-84D0-6FB094DA8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1AF2-1A95-4723-BF44-45E7E58F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5F136-EE51-4B41-98C6-9E6A56385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09EF7-DA6F-4AEB-B99F-02E9B769B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AF4F-B1C9-4335-93DF-91FA66F5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6547C-C30C-4324-84C2-9869E7F71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4F13-768C-4E3A-BE1D-693797F2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DCBC-4BB7-4BBA-A825-FD753F460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EF0E-238B-4E93-A102-2B1D3C339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8D25-D378-4029-8C38-F56F6908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1956-F747-4E77-9E06-070FE235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D824-BCCE-484F-8007-1D99AC08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ED60-1162-4989-95CD-165F3804F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4-11-26T19:57:07Z</dcterms:modified>
  <cp:revision>26</cp:revision>
  <dc:subject/>
  <dc:title>FERMENTACIÓN DE VEGETALES</dc:title>
</cp:coreProperties>
</file>