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85C5-9971-4128-8EC0-74FC743D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F50E-5044-40E7-88E1-C159796A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1253-C101-451D-B84F-0FFE0D2E1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372D-B457-482D-A0EE-C03A8CA8A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37A5-D60D-40ED-AA40-EBC1DBF2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9953-6026-42DD-8F90-DB1B149C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4759-9941-4AD8-A7A9-C54D32BD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59A2-CD89-4218-9E58-6B0B190E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A5F8-5EAF-4728-923F-40667968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3CB4-659D-4724-828D-3DCC1B9E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5F24-7A91-426F-82AD-509ACC7F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A101-7158-40E4-85D7-BB1854D3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7138-5066-40B8-8A02-4FF59D3C342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ENCION DE ALIMENTOS POR FERMENTA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4331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169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ambién se ha demostrado la producción de Bacteriocinas, proteínas que inhiben el desarrollo de otros M.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istóricamente estos cultivos mixtos se desarrollaron por crecimiento de contaminantes naturales de la lec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xisten evidencias que dan cuenta del uso de métodos de preservación de la leche desde hace unos 8.000 a 9.000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oy se conoce la mayoría de las especies y géneros de estos iniciadores, siempre quedan algunos desconocido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CROORGANISMOS EN FERMENTACIONES LÁCT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ltiv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tos f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coccus 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ác. lác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coccus 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cremor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ác. lác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coccus 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is  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iacetilo,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iovar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. diacetylactis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etaldehí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treptococcus salivari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ác. láctic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thermophil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etaldehí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bacillus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ác. láctico, ác. acético, ác. gra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euconostoc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diacetilo, etan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Propionibacterium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ác. propióni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evaduras, hong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sacidificación, lipólisis,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proteó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CIÓN DE QU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enza con acidificación mediante conversión de lactosa en ácido láctico por acción de determinados microorganismos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o roquefort se obtiene por el crecimiento del hongo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icilium roquefor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ionibacterias producen ácido propiónico que se acumula en los hoyos del queso suiz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CIÓN DE QU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ificación de la leche permite que las proteínas coagul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agregar renina (proteasa) se forma el cuajo, que separado del suero forma requesón o queso fresco de ca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la crema en lugar de leche se cuaja el producto es queso cr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se puede hacer otros tipos de queso:  se calienta para eliminar la humedad y se deja madurar mediante actividad bacteriana adi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CIÓN DE QU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iendo del contenido de humedad es el tipo de queso que se obtien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M.O. usados para madurar el queso, hidrolizan proteínas y grasas y además dan determinados sabores, flavores y aspecto al que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. Brie y Camember son quesos su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DUCCIÓN DE YOGU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la leche puede ser acidificada y aromatizada mediante fermentación controlada para producir yogurt. 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tobacillus bulgaric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cocus termophil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viert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tosa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. láctico, acetaldehí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temperatura utilizada normalmente es 40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utilizan en una relación 1:1para obtener el flavor y la textura adecua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 termophilus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ría formiato el que estimularía el crecimiento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. bulgaric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ero no sería el único sustrato limitante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 FERMENT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a leche acidificada es el kefir, producida por la fermentación de bacterias del ácido láctico y levaduras que producen algo de alcoh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tequilla se obtiene por fermentación de nata de leche pasteurizada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aceti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roductos que se hacen por fermentación de leche, además de ser consumidos por su sabor o por su valor nutricional, también aportarían una acción antipatogénica sobre el intestino huma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he sin lact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TECNOLOGÍA EN PRODUCTOS LACTE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plica ingeniería genética con el objeto de mejorar la calidad de las proteínas (casei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Caseina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jora la cuaj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mentando el rendimiento en qu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BRICACIÓN DE PA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BRICACIÓN DE P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fabricación del pan se originó hace miles de años atrás y lo mismo que el vino, la cerveza, el queso y las leches fermentadas se encuentra entre los productos más antiguos modificados microbiológica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los pueblos (civilizaciones) más antiguos el pan fue la mas importante fuente nutricional y energética. (Egipto, Grecia, Babilonia y Rom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estas civilizaciones también avanzaron en el arte de hornear, de moler el trigo, etc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he como materia prima para la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lidad de la leche depende de la higiene y de la compo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higiene se relaciona con la calidad bacteriológica y con el contenido de células so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mposición de la leche se refiere a su contenido en: grasas, proteínas y sól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mposición de la leche se puede alter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manejo nutricional o por mejoramiento genét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BRICACIÓN DE P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trigo es el grano más importante en la fabricación del pan por su superior valor nutritivo y textura respecto de otros granos como cebada, avena, centeno, maíz y arro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mbién otros tipos de masas son preparados a partir de macerados de almidón provenientes de cassava y otras plantas o de legumbres (poroto de soya)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alquiera sea el grano utilizado y aunque es convertido en masa y horneado, siempre se encontrarán poblaciones de M.O. presentes, usualmente como habitantes nativos de las materias primas utiliz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s actividades fermentativas afectarán en distintos grados la textura, el flavor, color y características nutricionales del producto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especies microbianas y su concentración en la mezcla de fermentación puede cambiar con las diferentes harinas utilizadas, la naturaleza del  líquido y otras adiciones a la masa, así como la forma en que se maneja la masa antes de que sea calentada por vapor, horneada o fri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fermentaciones durante la fabricación del pan son producidas en la mayoría de los casos por unas relativamente pocas especies de levaduras y de ciertas bacterias formadoras de ácido láctico.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los M.O. fermentadores producen dióxido de carbono desde los azucares presentes o agregados a la masa, lo distribuyen en la masa generando celdillas que aclaran o alivianan la mas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os tipos de M.O. pueden ser usados para fermentar la masa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zclas de levaduras y bacterias que crecen espontáneamente en el batido y en la ma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iciadores ácidos para el hogar o pastelería que son mantenidos por transferencia a sustratos fresc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ltivos iniciadores comerciales para acidificar las masas obtenidos con monocultivos de cepas de lactobacilos heteroláctico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evadura de panificación “Saccharomyces cerevisiae”, la mas utilizada en el mund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adición intencional de cultivos conocidos de levaduras y/o bacterias a la masa de panificación ayuda a la masa a obtener un control sobre el ambiente microbiano, especialmente la regulación de la velocidad de fermentación y los cambios físicos que afectan la textura, el flavor, la apariencia del pan hornea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masa del pan blanco consiste de harina de trigo, agua, levadura y cloruro de sodio en la proporción de 100:65: 2: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pueden agregar otros ingredientes con el propósito de modificar el flavor o el valor nutricional. Entre estos están azucares (glucosa o sacarosa) leche no grasa en polvo y grasa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ido al contenido en gluten, proteína compleja del trigo, se forma una masa elástica, la cuál retiene los gases que se produc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acción de las levaduras resulta en la producción y migración de dióxido de carbono en una red de compartimentos celulares. Estos cambios aumentan el volumen de la masa y mejoran su palatabilidad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productos metabólicos de la fermentación y del proceso de horneado, contribuyen al aroma y flavor del pan horne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harina de trigo contiene alrededor de 0.5% de azúcares fermentables, especialmente glucosa, fructosa, sacarosa, maltosa y glucofructosanos en cantidades que son adecuados para una rápida y sostenida fermen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n ausencia de azúcares agregados, las levaduras rápidamente metabolizan glucosa, luego fructosa y malto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s maltosa llega a estar disponible desde la masa en las últimas etapas a través de la acción hidrolítica de las amilasas de la harina sobre el almidón contenido en los gránulos de almidón fracturados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ción de la leche se puede alterar para preservar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mediados del siglo 19 se comenzó a hacer procesos de evaporación, posteriormente de esterililiz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tiene leche fresca sin agitar es posible separar la crema, la que se va a procesar para producir mantequilla y queso, la parte de abajo con poca crema se lleva a deshidratación.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ioquímicamente el proceso de fermentación procede por la Vía de Emden-Mayerhof o vía glicolítica rindiendo aproximadamente 0.47g CO2 (270 ml) y 0.48 g de etanol por g de glucosa fermentada. Otros productos incluyen glicerol, ácido succínico y pequeñas cantidades de aldehídos, cetonas, éster etílico y otros componen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terias del ácido láctico siempre acompañan a las levaduras de panader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más altos números encontrados son 100 millones de células por gramo de levad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Ácidos láctico y acético se encuentran presente en las masas de pan blanco y son los más importantes ácidos residuales en el pan 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ácido láctico es un líquido sin color, casi sin olor con un fuerte gusto ácido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ácido acético se caracteriza como un ácido débil con un olor frutoso y sus diluciones tienen un gusto agrad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han reportado niveles de 50-100 mg de ácido láctico y 10 a 50 mg de ácido acético por libra de pa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esteres etílicos pueden también aument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flavor del p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ción normal de la le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6% grasa 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ácidos gras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% proteí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7% lact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minas, minerales, 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SAMIENTO DE LA LE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abricación de quesos se concentran proteínas y grasas, se reduce 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y se eliminan carbohidratos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rafiltración:  microfiltración a alta pr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a la composición (concentración de proteínas  y grasas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licación de calor 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oso ya que reduce la carga microbiana y elimina patóge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también perjudicial ya que desnaturaliza proteínas: inmunoglobulinas y enzimas. También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minuye actividad de las vitam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ENIDO DE COLESTEROL EN LA LE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15 mg/100ml le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-04% lip-t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% colesterol disuelto en la gr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 en membrana del glóbulo gr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% en leche descrem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 reducción es importante en la di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TAMIENTOS TÉRMICOS A LA LE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eurizacion de la leche: 72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 por 16 seg. o 63ºC  por  30 min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co efecto sobre la calidad de la le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rilización de la leche: 120ºC por 20 min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o U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5  - 145ºC por varios segun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roducen cambios en la leche:  las proteínas tienden a coagular, formar geles o precipitar durante el almacen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leche puede ser fermentada para producir queso, yogurt, crema ácida, o mantequilla por bacterias del ácido láctico y streptoco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 tienen menor contenido de agua (-a 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or facilidad para ser decompuestos por M.O. (mas est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ía el 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a duración comparada con la leche natu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he debe ser previamente pasteuriz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 obtenido depende del tipo de leche, de los M.O.inoculados y de las condiciones del proces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26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crecimiento de M.O. en la fermentación de la leche, no sólo sirve para preservarla al producir inicialmente ácido láctico desde lactosa sino también resulta en una variedad de productos metabólicos y actividades enzimáticas los cuales llevan a una vasta variedad de leches fermentadas y quesos disponibles hoy en dí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sustancias antagónicas que producen estas bacterias serían ácidos orgánicos: láctico, acético, propiónico, 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bajo pH, aw reducida en ques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ha demostrado actividad inhibidora sobre una variedad de M.O. patógenos: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almonell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. aureus, E. coli, Listeri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et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9:02:25Z</dcterms:created>
  <dc:creator>Blanca Escobar</dc:creator>
  <dc:description/>
  <dc:language>en-US</dc:language>
  <cp:lastModifiedBy>Blanca Escobar</cp:lastModifiedBy>
  <dcterms:modified xsi:type="dcterms:W3CDTF">2006-10-10T16:10:17Z</dcterms:modified>
  <cp:revision>26</cp:revision>
  <dc:subject/>
  <dc:title>BIOTECNOLOGIA MICROBIANA</dc:title>
</cp:coreProperties>
</file>