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CD2-45D0-4203-8B63-7872A98D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5D1-D57F-4C59-BB8D-C123B9DE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353-7FBB-46A4-82A3-804DEAAF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E26-1280-4EBE-8D9F-2714C82A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064-D630-4B0E-BED8-F56C66D3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C58-6673-4656-99DB-F9479D5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711-5368-4057-9D09-187EE3B1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392-1A37-4B61-8BE9-FD385C76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6B6-0822-4195-9169-1D36833A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FAE-4F22-4582-98F6-FFA4787E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822-3B1C-483D-B674-2B4C2EC8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93E-1BE7-4B73-8755-8039735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1C1E-1EC6-43BB-9F13-733A3BB04C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6-10-10T16:10:17Z</dcterms:modified>
  <cp:revision>26</cp:revision>
  <dc:subject/>
  <dc:title>BIOTECNOLOGIA MICROBIANA</dc:title>
</cp:coreProperties>
</file>