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16824-997B-473A-8D88-4772DEC33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96BB6-208E-4FC5-BD70-0557CD4EC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01BB8-EDCA-446B-843A-C0769EEFE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492BD-E8EE-46E0-8B2A-0FEB460F8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2071-CD57-49C5-A710-4E337738C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F85A6-253C-40CB-87C8-3A18CFCB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EE33E-CFCE-45A9-B77B-462A7BA88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96F3C-77B8-4EB0-A9E1-8917E1E6E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1699-568A-485D-9354-76317B7E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9185-C16B-4ED4-8DA9-B133557B4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DCDDC-4616-4AA9-A123-4058C0A52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1ECA3-1A7B-4B3D-B95A-C247E227A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EC5E-29C6-4484-BBD7-A25D6DD25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4-11-26T19:57:07Z</dcterms:modified>
  <cp:revision>26</cp:revision>
  <dc:subject/>
  <dc:title>FERMENTACIÓN DE VEGETALES</dc:title>
</cp:coreProperties>
</file>