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36D-5172-437B-9C01-8EB1C0E3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CC2-5613-4AC1-B623-8CA24F6A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8FE-8239-4C02-A7D9-F0E5D995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418-0372-40D3-804D-138F0870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5F3-D1BB-46EE-A738-9706D421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8D6-BFD7-493A-9142-DD830632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877-E6AD-4229-8856-515D4E22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5E3-CAFD-44B5-A726-A8E345E7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F83-DC5E-4A12-8A8A-3F00B54E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592-4E54-45A4-BDD1-0299DC9F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A23-7AF0-4D97-B0DB-5B24FD8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BE8-06D7-4E51-8B22-EE6857D3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655E-6199-4411-904B-88F1F20973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6-10-10T16:10:17Z</dcterms:modified>
  <cp:revision>26</cp:revision>
  <dc:subject/>
  <dc:title>BIOTECNOLOGIA MICROBIANA</dc:title>
</cp:coreProperties>
</file>