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1ED2-6C8D-4D32-9F54-D28B3D574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66CF-B78D-4CE8-B7DB-EBA5328AE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5510-2C1B-46B3-8635-93E2F97C3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9AAB-38BB-44B5-B6EF-B45D62D1C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7E98-6504-42D5-9B1E-6EA695A19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7774-C2AC-47A6-888B-F829163BE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04AE-0401-4434-BA84-EA336368A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0796-FA37-4861-B5B2-678C5B573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86C4-EA96-4FB8-9DAE-A1B60D8AE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B6CE-7AAD-4297-843C-0BE9FC258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F04E-CE25-4AB0-A750-C92762F06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2320-75FB-40EE-9560-BC095E603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3E217-AE32-4E50-ABD8-9F866D0CF0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EBIDAS ALCOHOLICAS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ODUCCIÓN DE VIN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CROORGANISMOS QUE PUEDEN PARTICIPAR EN LA FERMENTACIÓN DE LA U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ng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pergillus, Penicillium, Rhizopus, Muc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caso especial es :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trytis cinerea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l que puede producir vinos dul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factor que contribuye a la pérdida de la flora nativa 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temperatura &gt; 25º inhibe a muchos M.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ccharomyce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rece </a:t>
            </a: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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8º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CROORGANISMOS QUE PUEDEN PARTICIPAR EN LA FERMENTACIÓN DE LA U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algunos procesos se agrega extracto de levadur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mperatura se controla en algunas partes a 7 – 15º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gunas cepas de levaduras producen proteínas del tipo toxinas de 11 a 18 k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 agrega a la fruta para evitar pardeamiento enzimático, produce inhibición de M.O. no de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ccharomy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vaduras también producen SO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Bacteriófagos? sobre bacterias del ácido láctic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ERMENTACIÓN DE LA UV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rmentación procede en pocos dí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no blanco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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va blanca (sin pie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no tinto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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va rosada o negra (con pie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a vez fermentado el jugo debe ser clarificado, estabilizado y añejado.  (meses y año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go sufre una segunda fermentación, la fermentación malo – lácti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ERMENTACIÓN DE LA UV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nos espumosos  como champaña: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agrega mas azúcar, se produce una segunda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rmentación que produce mas CO</a:t>
            </a:r>
            <a:r>
              <a:rPr b="0" lang="en-US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que carbonata el vi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 final del proceso de vinificación se agrega SO</a:t>
            </a:r>
            <a:r>
              <a:rPr b="0" lang="en-US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 se filtra para evitar contaminación posteri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STFERMENTACIÓ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a contaminación del vino puede causar una variedad de problemas de pudrición o dañ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a turbidez o la carbonatación del vino embotellado se considera indese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os azucares residuales pueden provocar el desarrollo de levaduras causando nuevamente problemas de pudrición o dañ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PARACIÓN DE CERVEZ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 cervezas se hacen a partir de la fermentación del almidón presente en la cebad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almidón no es un azúcar ferment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producción de cerveza comienza con un malteado, proceso que consiste en hacer germinar artificialmente la cebada, humedeciendo los granos y luego calentándolos (tostado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rante este proceso los granos que germinan  producen enzimas que digieren el almidón a azúcares fermentables como glucosa y malto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PARACIÓN DE CERVEZ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También durante el malteado se producen proteasas.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inoculan con las respectivas cepas de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ccharomyces cerevisiae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fermentación demora entre 5 a 10 dí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 caldo de fermentación se agrega lúpulo, es antibacteriano, da sabor, arom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úpulo es una planta herbácea trepadora, cuyas flores se utilizan en elaboración de la cervez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PARACIÓN DE CERVEZ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 comienzo de la fermentación se realiza un proceso aeróbico, para generar biomasa de levaduras, luego se deja de agregar oxígeno y se transforma en un proceso anaeróbic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 final del proceso se filtra y se pasteuriz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gunos azúcares quedan sin fermentar, por lo que algunas cervezas tienen un cierto contenido en azucares. 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rvezas light se obtienen por fermentación de la cebada con otros M.O. además de levadur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TRAS BEBIDAS OBTENIDAS POR FERMENTACIÓ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ke es una bebida tipo cerveza, originaria de Japón que se bebe fría o templa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ke: bebida  tipo cerveza que se prepara con arroz fermentado con levadur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poder fermentar el almidón proveniente del arroz, debe ser transformado previamente, mediante la acción de las amilasas de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pergillus oryzae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que libera azúcares reductores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rmentaciones no alcanzan concentraciones de alcohol superiores a 14-18% para aumentarlo deben destilarse las solu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TRAS BEBIDAS OBTENIDAS POR FERMEN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dai: vino o cerveza que se obtiene por fermentación del maí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maíz no contiene azúcares fermentables por lo que debe ser tratado con amilasas las que a su vez generarán glucos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agregar amilasas se mastican los granos de maíz y así pasan las enzimas de la saliva al grano, luego se coloca en grandes tanques donde se produce una fermentación espontáne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Chile se prepara en la zona de la Araucanía (8ª a 9ª Regione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México se hace también una bebida similar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EBIDAS ALCOHOLICAS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mayoría se obtiene por actividad metabólica de </a:t>
            </a:r>
            <a:r>
              <a:rPr b="0" i="1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ccharomyces cerevisiae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vinos se preparan por acción directa de las levaduras sobre azucares en jugos de uv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PARACIÓN DE VINAG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nagre: vino agrio o ácido.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Su origen hay que buscarlo en Oriente hace 5.000 años, aunque fueron los romanos quienes expandieron su consumo por Europa y lo bautizaron como vinum acre (vino agrio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obtiene por oxidación incompleta del alcohol presente en el vin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inocula el vino con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etobacter aceticum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e en condiciones aeróbicas transforma el alcohol en ácido acétic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PARACIÓN DE VINAG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El ácido acético es un compuesto que, además de transformar el sabor, es el responsable de las propiedades antisépticas y conservantes del vinagre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e producto se obtiene por una doble fermentación, primero se produce el alcohol y luego el ácid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A pesar de su etimología, no todos los vinagres proceden de una segunda fermentación del vin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PARACIÓN DE VINAG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El amargo líquido admite diferentes paternidades (manzanas, frambuesas, caña de azúcar, maíz, malta, arroz) y las diferencias radican en la concentración de ácido acético que presenta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El vinagre blanco, el más usado en la producción de encurtidos y salsas envasadas, contiene altas dosis, lo que le confiere un sabor más fuerte y pronunciado y mayores propiedades preservan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De color casi transparente, procede de la caña de azúcar, el maíz o la melaza, y es el preferido en el continente american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VINAGRE DE MANZA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e obtiene por fermentación de la sidra de manzana. Tiene un menor contenido en ácido acético que el vinagre de vin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Las primeras noticias que se tienen sobre el vinagre de manzana provienen de Oriente y datan del año 5.000 antes de Crist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Este líquido aderezante de paladar áspero es el resultado de una doble fermentación alcohólica que convierte al contenido etílico en ácido acético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VINAGRE BALSÁMIC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El auténtico balsámico, con denominación de origen controlada, lleva el nombre tradizionale y se elabora en forma artesanal por una agrupación de selectos vinai (productores del vinagre) de la región de Modena o Reggio, Emilia en Itali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Se elabora a partir del jugo de uvas de la cepa Trebbiano, (no deriva del vino como los vinagres corrientes). </a:t>
            </a:r>
            <a:br>
              <a:rPr sz="2800"/>
            </a:br>
            <a:br>
              <a:rPr sz="2800"/>
            </a:b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VINAGRE BALSÁMIC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El jugo de uvas se hierve por varias horas y el concentrado líquido que resulta de esta cocción comienza el proceso de fermentació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El vinagre balsámico tradizionale debe envejecer por un período no inferior a 12 años. Durante este tiempo el vinagre es mezclado con vinagres mas jóvenes y trasvasijado a barricas de diferentes tipos de madera. </a:t>
            </a:r>
            <a:br>
              <a:rPr sz="2800"/>
            </a:b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El resultado final es un líquido denso, oscuro y brillante, de textura aterciopelada con un complejo sabor que es dulce y ácido a la vez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GLE CELL PROTEI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ELULAS DE UNICELULARES COMO ALIMEN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GLE CELL PROTE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n microorganismos crecidos en un medio nutritivo, en forma rápida como todos los M.O. que se pueden usar como alimentos para el hombre o para animal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M.O. contienen aproximadamente 50% de su peso seco como proteínas, en algunos casos pueden llegar a 8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mbién tienen tiempos de generación corto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empo de generación de bacterias menor a 1 h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empo de generación para levaduras 1-3 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empo de generación para algas 2-6 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GLE CELL PROTE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empo de generación de los hongos es más largo ya que son de crecimiento mas lentos 4-12 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animal vacuno de 500 k bien alimentado en 24 hrs. produce 0.5 k protein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0 k de levaduras producen en 24 hrs. 50 kilos de protein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i los M.O. se usarían como fuente alternativa de protein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stratos utilizados inicialmente: petróleo, pulpa de frutas, suero de leche, licor sulfitico (de la industria del papel), melazas del procesamiento de la remolacha o de azúcar de cañ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M.O. que se han utilizado son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gas, algunas especies de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irulin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vaduras: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ccharomyces, Rhodotorula, Candida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n problemas de digestibilidad por el alto contenido de ácidos nucleic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a buena solución es utilizarla para alimentar animales (tiene más proteinas y vitaminas que el past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BRICACIÓN DE VINO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vino es el producto de la fermentación microbiana del jugo de uv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jugos contienen los azucares fermentables:  glucosa y fructos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oorganismo mas importa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ccharomyces cerevisia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BRICACIÓN DE VINO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 no ser un proceso estéril se encuentran muchos otros M.O. los que pueden contribuir positiva o negativament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racterísticas organolépticas 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abilidad del vi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puede producir una segunda fermentación, que puede ser simultánea con la alcohólica o secundar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terias de la fermentación maloláctic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i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uconostoc, Lactobacillus y Pediococc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TERIAS DE LA FERMENTACIÓN MALOLÁCTICA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terias que transforman el ácido málico en ácido láctic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-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H –C-H     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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HOH   + CO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-C-H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minuye la acide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mbién ayuda ya que aumenta el flavor y aroma del produc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BRICACIÓN DE VIN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nos que han tenido esta fermentación son mas estab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jugo de la fruta es un ambiente hostil para muchos M.O. por su bajo pH: 3-3.5 y por el alto contenido de azucares 20- 23%  p/v (igual cantidad de fructosa que de glucosa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rmentación comienza aeróbica pero llega a ser anaeróbica por alta concentración de CO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veles de etanol llegan a ser inhibitorios para muchos M.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BRICACIÓN DE VIN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cohol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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1 – 14% v/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alto contenido de alcohol del vino impide su contaminación y degrad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niveles de nitrógeno son suficientes para soportar crecimiento de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acterias o M.O./m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mitad de la fermentación alcohólica se produce durante la fase estacionaria del crecimien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BRICACIÓN DE VIN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producción de vino a nivel industrial comienza con la trituración de la fruta con su piel formando una pulpa con 20% azucares ferment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bre esta fruta se encuentra una gran variedad de M.O. pero las condiciones se van desarrollando de modo de que solo algunos M.O. (levaduras y bacterias) se desarroll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almente se puede inocul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CROORGANISMOS QUE PUEDEN PARTICIPAR EN LA FERMENTACIÓN DE LA U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s especies de levadura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ccharomyces cerevisia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Kloeckera apicul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Candida pulcherr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Torulop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Rhodotoru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terias: especies de Pseudomonas, Bacillus, Lactobacterium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8T09:29:12Z</dcterms:created>
  <dc:creator>Blanca Escobar</dc:creator>
  <dc:description/>
  <dc:language>en-US</dc:language>
  <cp:lastModifiedBy>Blanca Escobar</cp:lastModifiedBy>
  <dcterms:modified xsi:type="dcterms:W3CDTF">2004-10-26T15:50:33Z</dcterms:modified>
  <cp:revision>19</cp:revision>
  <dc:subject/>
  <dc:title>BEBIDAS ALCOHOLICAS  </dc:title>
</cp:coreProperties>
</file>