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17F-1C18-47DF-A6A9-CF147467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AA2-DE62-4D91-A109-BECF35B9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C1D-3E32-4BC0-96C3-F3C580CA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9FD-C5E6-4E6C-B98E-33D1570C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BD7-C33D-4399-ADFC-42E323EF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3E2-E7E8-41B0-82FC-BF7C8F12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D1E-C73D-4333-8AE1-E739325C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DBB-3D2B-4FD0-83AE-AC48313A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BC8-5A49-4D88-9B66-3B87B08B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2D1-6DC8-4D5A-BAA6-43E1CAF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56F-7E2A-4BC3-AF93-76025713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D06-3CD0-4B67-946C-D1518F1F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AB5D-CDEB-4EDC-B9DA-1E3AF61A71F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6-10-10T16:10:17Z</dcterms:modified>
  <cp:revision>26</cp:revision>
  <dc:subject/>
  <dc:title>BIOTECNOLOGIA MICROBIANA</dc:title>
</cp:coreProperties>
</file>