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6E3F9-DAA4-4005-9A06-A52AB91B9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53542-210A-457F-831B-06A495922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24F72-A2B1-4269-A66D-25BF33DD0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921DC-27F8-4374-AD3B-BC3099321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36946-2B22-4617-AA48-2AFA5023B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01D14-5998-4E6B-AB08-2AB673CC7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536BE-B25A-4B22-B1A7-E924A57DF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DC22A-0291-4094-92C9-A6E08A1C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F311-822C-44FF-8E92-F009A5599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80C3-91C6-4C30-89C4-996B029DA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9D77-D084-46EF-85FF-ECEBEAD7E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7CC0-120F-48D5-8FD8-5EE2C0138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3501-8B4F-4D5A-965E-074B43917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4-11-26T19:57:07Z</dcterms:modified>
  <cp:revision>26</cp:revision>
  <dc:subject/>
  <dc:title>FERMENTACIÓN DE VEGETALES</dc:title>
</cp:coreProperties>
</file>