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4CA-1DCF-4911-8445-77DC7FCA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840-C0C8-432C-8E19-B7F73562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DD0-A114-43EC-8046-EA1AB0F3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F95-3CCE-4A77-9170-32DD949D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225-2DEF-499B-8DE4-7758FC80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7D5-5BED-4F03-ACCB-7B6639EF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F4A-31E7-4B7D-8412-120A2AA9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9CA-15C0-445D-9456-202E5637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13E-D0A1-42A9-9C4B-4C80EE5A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BD9-B392-4CDB-B757-6FFAC20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7A8-76F2-46B1-9AD7-D80E4B9F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156-2993-432E-A763-058D347A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1D73-4F0A-4927-876C-6575A348B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BIDAS ALCOHOLICA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CIÓN DE V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, Penicillium, Rhizopus, Mu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aso especial e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rytis cinere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que puede producir vinos dul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factor que contribuye a la pérdida de la flora nativa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mperatura &gt; 25º inhibe a muchos M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ccharomyc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c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8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lgunos procesos se agrega extract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se controla en algunas partes a 7 – 15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cepas de levaduras producen proteínas del tipo toxinas de 11 a 18 k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agrega a la fruta para evitar pardeamiento enzimático, produce inhibición de M.O. n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 también producen 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Bacteriófagos? sobre bacterias del ácido lác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procede en poc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blanc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blanca (si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tin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rosada o negra (co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fermentado el jugo debe ser clarificado, estabilizado y añejado.  (meses y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o sufre una segunda fermentación, la fermentación malo – lác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espumosos  como champaña: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mas azúcar, se produce una segund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que produce mas C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que carbonata el 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de vinificación se agrega S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e filtra para evitar contaminación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FERM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ntaminación del vino puede causar una variedad d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urbidez o la carbonatación del vino embotellado se considera indese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azucares residuales pueden provocar el desarrollo de levaduras causando nuevament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ervezas se hacen a partir de la fermentación del almidón presente en la ceb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midón no es un azúcar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cerveza comienza con un malteado, proceso que consiste en hacer germinar artificialmente la cebada, humedeciendo los granos y luego calentándolos (tos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este proceso los granos que germinan  producen enzimas que digieren el almidón a azúcares fermentables como glucosa y malto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durante el malteado se producen proteasas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n con las respectiv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ermentación demora entre 5 a 10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ldo de fermentación se agrega lúpulo, es antibacteriano, da sabor, ar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úpulo es una planta herbácea trepadora, cuyas flores se utilizan en elaboración de la cerve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de la fermentación se realiza un proceso aeróbico, para generar biomasa de levaduras, luego se deja de agregar oxígeno y se transforma en un proceso anaerób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se filtra y se pasteu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azúcares quedan sin fermentar, por lo que algunas cervezas tienen un cierto contenido en azucares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ezas light se obtienen por fermentación de la cebada con otros M.O. además de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 es una bebida tipo cerveza, originaria de Japón que se bebe fría o temp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: bebida  tipo cerveza que se prepara con arroz fermentado con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oder fermentar el almidón proveniente del arroz, debe ser transformado previamente, mediante la acción de las amilas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oryza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que libera azúcares reductor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ones no alcanzan concentraciones de alcohol superiores a 14-18% para aumentarlo deben destilarse la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dai: vino o cerveza que se obtiene por fermentación del maí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íz no contiene azúcares fermentables por lo que debe ser tratado con amilasas las que a su vez generarán glu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gregar amilasas se mastican los granos de maíz y así pasan las enzimas de la saliva al grano, luego se coloca en grandes tanques donde se produce una fermentación espontán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se prepara en la zona de la Araucanía (8ª a 9ª Reg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éxico se hace también una bebida simila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BIDAS ALCOHOLIC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se obtiene por actividad metabólica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vinos se preparan por acción directa de las levaduras sobre azucares en jugos de u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agre: vino agrio o ácido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u origen hay que buscarlo en Oriente hace 5.000 años, aunque fueron los romanos quienes expandieron su consumo por Europa y lo bautizaron como vinum acre (vino agri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por oxidación incompleta del alcohol presente en el vi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 el vino con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bacter acetic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en condiciones aeróbicas transforma el alcohol en ácido acét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ácido acético es un compuesto que, además de transformar el sabor, es el responsable de las propiedades antisépticas y conservantes del vinagr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producto se obtiene por una doble fermentación, primero se produce el alcohol y luego el ác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 pesar de su etimología, no todos los vinagres proceden de una segunda fermentación del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margo líquido admite diferentes paternidades (manzanas, frambuesas, caña de azúcar, maíz, malta, arroz) y las diferencias radican en la concentración de ácido acético que present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lanco, el más usado en la producción de encurtidos y salsas envasadas, contiene altas dosis, lo que le confiere un sabor más fuerte y pronunciado y mayores propiedades preser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e color casi transparente, procede de la caña de azúcar, el maíz o la melaza, y es el preferido en el continente americ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DE MANZ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obtiene por fermentación de la sidra de manzana. Tiene un menor contenido en ácido acético que el vinagre de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Las primeras noticias que se tienen sobre el vinagre de manzana provienen de Oriente y datan del año 5.000 antes de Cri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ste líquido aderezante de paladar áspero es el resultado de una doble fermentación alcohólica que convierte al contenido etílico en ácido acé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uténtico balsámico, con denominación de origen controlada, lleva el nombre tradizionale y se elabora en forma artesanal por una agrupación de selectos vinai (productores del vinagre) de la región de Modena o Reggio, Emilia en Ital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e elabora a partir del jugo de uvas de la cepa Trebbiano, (no deriva del vino como los vinagres corrientes)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jugo de uvas se hierve por varias horas y el concentrado líquido que resulta de esta cocción comienza el proceso de fermen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alsámico tradizionale debe envejecer por un período no inferior a 12 años. Durante este tiempo el vinagre es mezclado con vinagres mas jóvenes y trasvasijado a barricas de diferentes tipos de madera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resultado final es un líquido denso, oscuro y brillante, de textura aterciopelada con un complejo sabor que es dulce y ácido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ULAS DE UNICELULARES COMO AL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icroorganismos crecidos en un medio nutritivo, en forma rápida como todos los M.O. que se pueden usar como alimentos para el hombre o para ani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contienen aproximadamente 50% de su peso seco como proteínas, en algunos casos pueden llegar a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tienen tiempos de generación cort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bacterias menor a 1 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levaduras 1-3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algas 2-6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los hongos es más largo ya que son de crecimiento mas lentos 4-12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nimal vacuno de 500 k bien alimentado en 24 hrs. produce 0.5 k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k de levaduras producen en 24 hrs. 50 kilos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 los M.O. se usarían como fuente alternativa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s utilizados inicialmente: petróleo, pulpa de frutas, suero de leche, licor sulfitico (de la industria del papel), melazas del procesamiento de la remolacha o de azúcar de cañ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que se han utilizado s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as, algunas especie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ul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, Rhodotorula, Cand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n problemas de digestibilidad por el alto contenido de ácidos nucle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buena solución es utilizarla para alimentar animales (tiene más proteinas y vitaminas que el pa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ino es el producto de la fermentación microbiana del jugo de u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jugos contienen los azucares fermentables:  glucosa y fru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organismo ma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no ser un proceso estéril se encuentran muchos otros M.O. los que pueden contribuir positiva o negativ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organolépticas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ilidad del 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producir una segunda fermentación, que puede ser simultánea con la alcohólica o secund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conostoc, Lactobacillus y Pediococ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que transforman el ácido málico en ácido lác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–C-H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H   +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C-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la ac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ayuda ya que aumenta el flavor y aroma del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que han tenido esta fermentación son mas es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go de la fruta es un ambiente hostil para muchos M.O. por su bajo pH: 3-3.5 y por el alto contenido de azucares 20- 23%  p/v (igual cantidad de fructosa que de gluco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comienza aeróbica pero llega a ser anaeróbica por alta concentración de 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s de etanol llegan a ser inhibitorios para much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 – 14% v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to contenido de alcohol del vino impide su contaminación y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veles de nitrógeno son suficientes para soportar crecimiento d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s o M.O.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tad de la fermentación alcohólica se produce durante la fase estacionaria del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vino a nivel industrial comienza con la trituración de la fruta con su piel formando una pulpa con 20% azucares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ta fruta se encuentra una gran variedad de M.O. pero las condiciones se van desarrollando de modo de que solo algunos M.O. (levaduras y bacterias) se desarrol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 se puede ino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especies de levadur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Kloeckera apicu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Candida pulcher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Torulop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Rhodotor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: especies de Pseudomonas, Bacillus, Lactobacteriu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9:29:12Z</dcterms:created>
  <dc:creator>Blanca Escobar</dc:creator>
  <dc:description/>
  <dc:language>en-US</dc:language>
  <cp:lastModifiedBy>Blanca Escobar</cp:lastModifiedBy>
  <dcterms:modified xsi:type="dcterms:W3CDTF">2004-10-26T15:50:33Z</dcterms:modified>
  <cp:revision>19</cp:revision>
  <dc:subject/>
  <dc:title>BEBIDAS ALCOHOLICAS  </dc:title>
</cp:coreProperties>
</file>