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3AD39-54A4-48B3-AAC8-BD2B726D2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C914A-C4E4-4A07-9A64-0567B4977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C1183-AB33-499F-B037-B235D2A2E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4713F-3E61-4DAD-AB43-DBF196227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40998-4B99-48E0-AE9C-44FB7D9E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8B27F-C6E6-4699-B240-2923C8908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4C4A9-9DB6-449A-B77A-B24088089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11C91-66F2-4958-B90B-A192E4623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3CE46-4476-49E8-A726-3EE073854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6903-1E14-4D94-9F17-468C2E5A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F648-18CD-4C61-A33E-312DB5014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437A-107F-401B-963D-501688DCB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E0AA-27AC-4C72-B4D2-3001133C9F1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7-09-28T19:53:32Z</dcterms:modified>
  <cp:revision>31</cp:revision>
  <dc:subject/>
  <dc:title>METANOGENESIS </dc:title>
</cp:coreProperties>
</file>