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B31-D2BB-4CEC-A23F-81EEA11C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735-FBBA-4379-9732-98EF06B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6C3-F562-47AB-9D12-9BAC0729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224-BDA8-4A7C-B4D3-5F4F958A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D49-ADDF-43DC-A01D-8E0D9BB7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1EF-875C-4960-9F34-37C06709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B00-DAF3-4DEF-B24F-9369EA5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1CB-24FF-4ECF-8F87-F155729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343-0493-48DE-9735-5F1BF96C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5A7-DE42-48A5-AD20-32653DFC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9B6-FAC7-497E-B484-F351547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FCD-C7AE-4650-8184-88357538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6BAD-DB73-439A-80B0-F83BE0BAB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imas de cólera y otras enferme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miento rol de M.O. en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enzó construcción de plantas de tratamiento (siglo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15.000 pla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equeñ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 billones ga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tiene tratamiento microbioló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300 ml  +  Buffer  pH  7.2  +  Nut. inorgánicos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saturados con oxi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un cultivo de bacterias heterotró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seudomonas, Nocardia, Bacillus,   Streptom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inhibidor de bacterias nitrificantes ya que consumen 10mg/l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 cloro 6 triclorometil piri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incuba por 5 dias y se mide el oxigeno por análisis químico o mediante un aparato manomét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hace también sobre diluciones de la mu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=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1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-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/P(0.3l)= mg O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debiera hacerse siempre con M.O. adap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UMO DE OXIGENO POR HETERÓTROFOS Y AUTÓ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ipo de agua DBO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              0.75 a 1.5 m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co contaminada 5 a 50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negra municipal 100 a 400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Residuos industriales  5 00 a 10 000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EMANDA QUÍMICA DE OXI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necesaria para oxidar todo el carbono presente a C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N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mide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 g de Hidrato de Carbono o Proteína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1 g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i COD &gt;&gt; BOD significa que el agua contiene muchos compuestos no biodegra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ARBONO ORGÁNICO TOT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 orgánico total, se determina por oxidación con calor  +  O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 analiza por infrar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resumen se requiere varios métodos para determinar la calidad de las 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CIÓN DE HECES HUMANAS Y O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ces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ntidad/p/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-40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-1.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0-80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3-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(Fosfato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5.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5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-2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-5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-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/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2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TÍPICAS DE AGUAS SERVIDAS DOMÉSTICAS (mg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áme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orgán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tot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susp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POS DE ORGANISMOS DE SIGNIFICADO EN SALUD PUBLIC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acterias: Salmonella, Shigella, Vibrio coler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s :  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 : Giardia, Am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lmintos: Ascaria, T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DOSIS INFECCIOSAS MÍNIMAS PARA ALGUNOS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PATÓGENOS Y PARÁSIT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rganismo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almonella spp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higell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cherichia col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brio cholera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Giardia lambli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c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tamoeba coli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patitis a viru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  -  10  p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lencia: Potencial para causar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) Desechos domé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Desechos industriales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: Desechos no tóxicos (Industria de alimen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. Desechos tóx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.: Procesamiento de carbón, fenoles, amonio, cian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oquímica, Ind. Farmac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les tóxicos: Cd, Zn, Cu,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ES ACEPTABLE PARA BEBER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menos de 10 bacterias intestinales en cada litro de agu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esenta mal sabor, olor, color o turbied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contiene impurezas químicas en concentraciones que puedan ser peligrosas para la salud del consumido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son corrosivas con respecto al sistema de conducción del agua,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oviene de sistemas acuíferos sujetos a contaminación por aguas negras u otros contaminantes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fecto más perjudicial del agua contaminada ha sido la transmisión de enfermedades por microorganismos que pueden habitar en ella. Por ejempl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fiebre tifoidea causada por la bacteria Salmone lla typhi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cólera  causada por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sentería provocada por parásitos como las amebas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gell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gastroenteritis causada por virus, bacterias y protozoarios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hepatitis infecciosa causada por el virus de la hepatitis y la poliomielitis causada por el virus de la poliomieli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ibriocole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17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oeba" descr=""/>
          <p:cNvPicPr/>
          <p:nvPr/>
        </p:nvPicPr>
        <p:blipFill>
          <a:blip r:embed="rId1"/>
          <a:stretch/>
        </p:blipFill>
        <p:spPr>
          <a:xfrm>
            <a:off x="1816200" y="1981080"/>
            <a:ext cx="551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TRATAMIENTO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 AGUAS SERV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ratamientos 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ísicos o prim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: separación, sedimentación, filtración, fl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biológicos o secund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gradan la materia orgánica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químicos o terci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sinfección, adsorción, precipitación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Contaminación del agua por microorganismos patógen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00"/>
                </a:solidFill>
                <a:latin typeface="Comic Sans MS"/>
                <a:ea typeface="Arial Unicode MS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TRATAMIENTOS BI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gunas de es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ocesos de 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 de filtros por goteo (lombrifil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terciacios:  se utilizan para eliminar nutrientes, DBO, patógenos, parásitos y sustancias  tóx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 un tratamiento aeróbico mediante el cuál se oxida la materia orgánica a 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,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  y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introduce el aire mediante aireación  mecá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células forman flóculos que sedimentan en un tanque clarificador, una parte de estas se desechan, las otras regresan al tanque de ai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EACIÓN EN UNA PLANT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mina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 biodegrad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volat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recalcit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trientes (N y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ólidos suspend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ógenos microb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á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dad del lodo: tiempo de residencia media de los M.O. en el sistema puede ser dias (5-1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 = 1/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epende de la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odificaciones a este sistema permiten una mayor oxidación de la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mayores objetiv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O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xidación de la materia orgánica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2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F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culación (separación de la biom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contienen tanto bacterias como materia orgánica e in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tículas &lt; 1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-- 1.000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viables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5 –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se piensa también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1 – 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stituyen la mayor parte de los flóculos,  aproximadamente unas 300 cep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ducen polisacáridos y materiales polimé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Géneros mas ab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, Pseudomonas, Flavobacterias, Alcaligenes, Achromobacter, Corynebacteria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, etc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chos M.O. filament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nivel de aeróbicos decrece en la medida que el flóculo crece por problemas de difusión de oxi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gión interna del flóculo llega a ser anaerób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Aeróbicos totales 10</a:t>
            </a:r>
            <a:r>
              <a:rPr b="1" lang="es-ES" sz="28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UFC / mg de l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 ramiger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produce exopolímeros, se encuentra en aguas servidas y en otros ambientes, 0.1-1% del total de M.O. en  estos proces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Zooglea ramig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1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bac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s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ambién se encuentran varias especies que oxidan compuestos reducidos de azuf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o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casionalmente en los lodos crecen a pH bajos, baja toxicidad y desechos deficientes en nit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edadores en los lodos:  ciliados, flagelados, ameb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NUTRIE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ógeno 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Des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N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Procesos aeróbico y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Usan varios tan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Fósforo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étodos químicos, precipitación con Fe o Al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ireación y sedimentación afectan a M.O. patógenos y pará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actores ambientales: luz, pH, M.O. antagó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ormación de fló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ásitos se aglomeran en el fló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 – 99% de los M.O. indicadores son removidos.  Bacterias son fagocitadas por protozoos y adsorbidas en el flóculo.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Virus  &gt; 90% se asocia a sólidos, pueden también ser inactivados por bacterias y por ingestión por protozoos y nemá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son inactivados, pero floculan y sedimentan pasando a los lodos (concent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CIÓN DEL C ORGÁNICO EN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BLEMAS QUE PRESENTAN ESTAS PLA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lacionados con la separación de sólidos acti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recimiento disperso: los M.O. no forman flóculos, el efluente se ve turb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sa viscosa: mucho material extracelular,             se reduce velocidad de decantación y compac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la formación de un flóculo normal debe haber un balance entre bacterias floculantes y bacterias  filamentosas para mantener la integridad del fló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LAGUNAS DE ESTABILIZACIÓN O LAGUNAS DE TRATAMI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n en grandes extensiones de terreno,  de bajo precio y son el sistema mas antiguo y económico para tratar las aguas ser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facul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muy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de ma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7880" y="293760"/>
            <a:ext cx="8326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  <a:ea typeface="Arial Unicode MS"/>
              </a:rPr>
              <a:t>LAGUNAS FACULTA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ienen una profundidad de 1-2.5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ueden ser aeróbicas y anaerób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 agua permanece entre 5-30 d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 económicas y fáciles de opera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OT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as verdes y algas verde az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ductividad de 10-66 g de algas /m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/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lamyd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cenede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scill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prevalencia depende de la luz, T, nutrientes 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ezclado es importante para la manutención de las condicione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gas consumen N y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 aumenta  con la fotosíntesis lo que ayuda a precipitación de fosf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=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H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9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7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.O. que oxidan 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úmero de algas y bacterias fotosintéticas disminuye con el aumento de la ca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 mas importante en la degradación de la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ongos y protozoos parecen meno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Orgánica + 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tros nutrientes que serían usados por al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de bacterias muertas y de algas se van al fondo, sufriendo degrad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 el Carbono presente en la materia orgánica se transform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oxidación completa aerób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 respir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 que sedi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DEL ZOOPLANCT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nutre entre otros de bacterias y algas, controlando sus pobl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umentando o disminuyendo turbidez de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LA TEMPERATURA SOBRE LA OPERACIÓN DE LAS LAGUN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fecta en la fotosíntesis y a los heterótrofos aeróbicos y anaerób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debajo de 15ºC no se produce la reducción del Carbono y generación  de CH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 frío no hay fotosíntesis y no se produce oxigeno, por lo tanto no se produce degradación 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ucir el contenido orgánico (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5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moción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o inactivación de M.O. y    parásitos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odo el carbono orgánico particulado (60%) se puede separar por sed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SÓLIDOS SUSPENDI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N(40-80%)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bacterias nitrificantes y des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volatiliza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  +  Al  o  Fe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fosfatos insolubles 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(l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fundidad : 0.3 – 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iempo de residencia 3-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aguas son mezcladas para permitir penetración de la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 10 dí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 para desechos domé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n aireadas con difu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disminuir en 85% la DB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en 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2.5 -  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20 – 5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desechos orgánicos de alta DBO, conteniendo proteínas y grasas,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 orgánica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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CO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+ N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requieren aireación y generan pocos lodos, se detiene a 10ºC. De uso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terciarias o de mad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-2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2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rol es disminuir DBO, los sólidos  suspendidos y nutrientes, e inactivar patóg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rían responsables la temperatura, el pH, luz solar, acción lítica de bacteriófagos, predación, adherencia a sólidos decan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erte de E. coli aumenta con la T, tiempo de retención, pH decrece con un aumento de la DB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y con la profundidad de la lag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ireación, compuestos extracelulares de alga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OSIBLES EXPLICACIONES PARA LA REMO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rgo tiempo de retención usado en estas lag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o pH generado por la fotosíntesis y su relación con aguas tampo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edación por zooplan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fecto inactivante de la luz solar.  UV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80-320 mm) destruye las bacterias coliformes.  I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portante en la superfi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as concentraciones de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CIÓN DE VIRUS O INACTIV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mperatura y radiación solar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verano en 5 dias el número disminuye 2 logaritmos, en invierno requiere 25 d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rus se pueden absorber en sólidos y sedimentar, manteniéndose por mucho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gitación del sedimento ayuda a resuspender virus y bacterias pató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u remoción varia de 67 – 100% en lagunas 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esto los lodos contienen M.O. patógenos, protozoos y huevos de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lodos deben ser tra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n digestores anaer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tados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rededor de 1/5 del lodo es mantenido como inóculo para un nuevo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INO DE LOS L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provenientes de los tratamientos primario y secundario son tratados p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igestión anaeróbica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la que descompone la materia orgánica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metan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lodo no digerido (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estabilizad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) presenta problemas de dis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j. en EEUU a partir de 20.000 plantas de tratamiento de aguas servidas se generan 5-10 millones de ton. secas / año, est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quemados o enterrados, algo se seca y se aplica como fertilizante. (quedan algunos viru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odo el carbono orgánico particulado (60%) se puede separar por sed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es test se utilizan para determinación de carbono orgánico en aguas serv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,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  C O T  ,  y   DQO o C 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zas de orgánicos se determinan por cromatografía y espectrografía de mas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DEL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.O. patógenos disminuyen muy fuertemente al final del tratamiento secundario, son superados por los otros M.O. p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selección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os efluentes secundarios son usados por algunas comunidades para irrigar cosechas, ya que contienen grandes cantidades d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ósforo y N,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que se usan como fertilizantes y los M.O. ambientales digieren el resto de las soluciones orgá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ratamiento terciario elimina completamente la DBO y son procesos físicos y químicos que producen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agua limpia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AGUAS POR EL SISTEMA TOH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consta de 2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la primer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agua residual escurre por gravedad a través de un biofiltro constituído por 4 capas de diversos materiales y que contiene micro y macroorganismos. Aquí se absorbe y procesa la materia 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 la segun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apa del tratamiento, el efluente es derivado a una cámara de irradiación ultravioleta en donde se logra la eliminación de las bacterias patógenas en menos de 1 mi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CON BIOFILT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tratamiento global del agua servida, no habiendo tratamientos primarios, secundarios ni terci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ormación de lodos, ya que la materia orgánica es consu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se hace en un soporte sólido, implica menos 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iofiltro no se satura, debido a la acción de micro y ma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lógico porque no usa aditivos químicos no se producen residuos contaminantes, hay muy poco consumo de energía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ficiente porque se alcanza un alto grado de purificación con una remoción de hasta 96% de DBO y sólidos suspen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cesita poco espacio:  el agua servida de 5 personas requiere solo 2m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iofiltro para su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nómico porque los costos de construcción y mantenimiento son menores que en los sistemas tradicionales y el agua puede ser re-utilizada inmediatamente para regad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CIÓN DE LA CARGA MICROBIANA POR TRATAMIENTO CON LUZ ULTRAVI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s la cantidad de oxigeno disuelto consumido por M.O. para oxidación bioquímica de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 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BO</a:t>
            </a:r>
            <a:r>
              <a:rPr b="1" lang="es-ES" sz="2800" spc="-1" strike="noStrike" u="sng" baseline="-30000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5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 carb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utilizada por una población heterotrófica de M.O. que oxidan compuestos orgánicos en la obscuridad a 20ºc por 5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  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eterótro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mp. Org. + 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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+ N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MOCIÓN DE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4" marL="1830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iom. bacterias + O</a:t>
            </a:r>
            <a:r>
              <a:rPr b="0" lang="es-ES" sz="3200" spc="-1" strike="noStrike" baseline="-25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 B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om.Protoz.+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0.78mg protoz/1mg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CIÓN DEL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82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5:21:58Z</dcterms:created>
  <dc:creator>Blanca Escobar</dc:creator>
  <dc:description/>
  <dc:language>en-US</dc:language>
  <cp:lastModifiedBy>Blanca Escobar</cp:lastModifiedBy>
  <dcterms:modified xsi:type="dcterms:W3CDTF">2007-09-06T17:38:04Z</dcterms:modified>
  <cp:revision>37</cp:revision>
  <dc:subject/>
  <dc:title> TRATAMIENTO DE AGUAS SERVIDAS</dc:title>
</cp:coreProperties>
</file>