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CFBF-D6CD-4DD5-8B6F-E438A413F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5844-A247-403F-885B-99F0020C0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E1D1-5380-47E1-B21D-7E681C1C5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DFA4-02DC-4827-B0DA-BEF681B2E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28F4-BB74-4829-B619-9AAB611E3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CB7D-019B-4754-9076-D4FCFE2FA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4165-DAFC-4C4D-81E7-B158C8038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D9DF-59F8-4E42-9170-18FE1D3AE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B32A-9A21-4DAC-82F1-BC14613A6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33E9-02C7-44EC-AC0B-4561E28BB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A8D0-17A2-480B-8879-5100E269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DE50-2C3B-48CE-B98C-A6CB2ACE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91356-15A5-4A83-8ACE-ACB7525C7A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-53388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TRATAMIENTO DE AGUAS SERVID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ctimas de cólera y otras enfermeda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ocimiento rol de M.O. en enferme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comenzó construcción de plantas de tratamiento (siglo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A 15.000 pla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% pequeñas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7 billones gal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% tiene tratamiento microbiológ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EMANDA BIOQUÍMICA DE OXIGENO DBO</a:t>
            </a:r>
            <a:r>
              <a:rPr b="1" lang="en-US" sz="36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-</a:t>
            </a:r>
            <a:r>
              <a:rPr b="0" lang="en-GB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 </a:t>
            </a:r>
            <a:r>
              <a:rPr b="1" lang="en-GB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   </a:t>
            </a:r>
            <a:r>
              <a:rPr b="1" lang="en-GB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300 ml  +  Buffer  pH  7.2  +  Nut. inorgánicos  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y saturados con oxige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e puede agregar un cultivo de bacterias heterotróf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seudomonas, Nocardia, Bacillus,   Streptomi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e puede agregar inhibidor de bacterias nitrificantes ya que consumen 10mg/l de oxíge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 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(2 cloro 6 triclorometil piridin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EMANDA BIOQUÍMICA DE OXIGENO DBO</a:t>
            </a:r>
            <a:r>
              <a:rPr b="1" lang="en-US" sz="36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e incuba por 5 dias y se mide el oxigeno por análisis químico o mediante un aparato manométr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e hace también sobre diluciones de la muest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 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DBO</a:t>
            </a:r>
            <a:r>
              <a:rPr b="1" lang="es-ES" sz="28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5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=D</a:t>
            </a:r>
            <a:r>
              <a:rPr b="1" lang="es-ES" sz="2800" spc="-1" strike="noStrike" baseline="-25000">
                <a:solidFill>
                  <a:srgbClr val="003399"/>
                </a:solidFill>
                <a:latin typeface="Times New Roman"/>
                <a:ea typeface="Arial Unicode MS"/>
              </a:rPr>
              <a:t>1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-D</a:t>
            </a:r>
            <a:r>
              <a:rPr b="1" lang="es-ES" sz="2800" spc="-1" strike="noStrike" baseline="-25000">
                <a:solidFill>
                  <a:srgbClr val="003399"/>
                </a:solidFill>
                <a:latin typeface="Times New Roman"/>
                <a:ea typeface="Arial Unicode MS"/>
              </a:rPr>
              <a:t>5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/P(0.3l)= mg O/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DBO</a:t>
            </a:r>
            <a:r>
              <a:rPr b="1" lang="es-ES" sz="28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5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debiera hacerse siempre con M.O. adap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NSUMO DE OXIGENO POR HETERÓTROFOS Y AUTÓTROF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8534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EMANDA BIOQUÍMICA DE OXIGENO DBO</a:t>
            </a:r>
            <a:r>
              <a:rPr b="1" lang="en-US" sz="36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Tipo de agua DBO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Agua potable               0.75 a 1.5 mg/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Agua poco contaminada 5 a 50       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Agua potable negra municipal 100 a 400 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Residuos industriales  5 00 a 10 000   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DEMANDA QUÍMICA DE OXIGE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Cantidad de oxigeno necesaria para oxidar todo el carbono presente a CO</a:t>
            </a:r>
            <a:r>
              <a:rPr b="1" lang="en-US" sz="28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, H</a:t>
            </a:r>
            <a:r>
              <a:rPr b="1" lang="en-US" sz="28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O</a:t>
            </a:r>
            <a:r>
              <a:rPr b="1" lang="en-US" sz="28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 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y NH</a:t>
            </a:r>
            <a:r>
              <a:rPr b="1" lang="en-US" sz="28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4</a:t>
            </a:r>
            <a:r>
              <a:rPr b="1" lang="en-US" sz="2800" spc="-1" strike="noStrike" baseline="30000">
                <a:solidFill>
                  <a:srgbClr val="003399"/>
                </a:solidFill>
                <a:latin typeface="Times New Roman"/>
                <a:ea typeface="Arial Unicode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e mide química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1 g de Hidrato de Carbono o Proteína </a:t>
            </a:r>
            <a:r>
              <a:rPr b="1" lang="en-US" sz="28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1 g C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i COD &gt;&gt; BOD significa que el agua contiene muchos compuestos no biodegrad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CARBONO ORGÁNICO TOTAL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C orgánico total, se determina por oxidación con calor  +  O</a:t>
            </a:r>
            <a:r>
              <a:rPr b="0" lang="en-US" sz="3200" spc="-1" strike="noStrike" baseline="-30000">
                <a:solidFill>
                  <a:srgbClr val="003399"/>
                </a:solidFill>
                <a:latin typeface="Arial Unicode MS"/>
                <a:ea typeface="Arial Unicode MS"/>
              </a:rPr>
              <a:t>2</a:t>
            </a: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CO</a:t>
            </a:r>
            <a:r>
              <a:rPr b="0" lang="en-US" sz="3200" spc="-1" strike="noStrike" baseline="-25000">
                <a:solidFill>
                  <a:srgbClr val="003399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CO</a:t>
            </a:r>
            <a:r>
              <a:rPr b="0" lang="en-US" sz="3200" spc="-1" strike="noStrike" baseline="-25000">
                <a:solidFill>
                  <a:srgbClr val="003399"/>
                </a:solidFill>
                <a:latin typeface="Times New Roman"/>
                <a:ea typeface="Times New Roman"/>
              </a:rPr>
              <a:t>2   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e analiza por infrarroj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En resumen se requiere varios métodos para determinar la calidad de las aguas servi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MPOSICIÓN DE HECES HUMANAS Y ORI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mponente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eces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r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antidad/p/d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00-400g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-1.3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Humedad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70-80%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93-96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5-7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5-1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 (Fosfato)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3.0-5.4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2.5-5.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.0-2.5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3.0-4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44-55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1-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4.5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4.5-6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BO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5/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/d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5-20g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0g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CARACTERÍSTICAS TÍPICAS DE AGUAS SERVIDAS DOMÉSTICAS (mg/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arámetr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lta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edia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Ba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BO5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400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220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D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500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2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N orgánic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-N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N total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85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 total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ólidos tot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200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720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3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ólidos susp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350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220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TIPOS DE ORGANISMOS DE SIGNIFICADO EN SALUD PUBLICA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21333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Bacterias: Salmonella, Shigella, Vibrio colera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Virus :  Hepat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Protozoos : Giardia, Ameb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Helmintos: Ascaria, Ten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Courier New"/>
                <a:ea typeface="Arial Unicode MS"/>
              </a:rPr>
              <a:t>DOSIS INFECCIOSAS MÍNIMAS PARA ALGUNOS</a:t>
            </a:r>
            <a:r>
              <a:rPr b="1" lang="en-US" sz="3200" spc="-1" strike="noStrike">
                <a:solidFill>
                  <a:srgbClr val="003399"/>
                </a:solidFill>
                <a:latin typeface="Courier New"/>
                <a:ea typeface="Arial Unicode MS"/>
              </a:rPr>
              <a:t>	</a:t>
            </a:r>
            <a:r>
              <a:rPr b="1" lang="en-US" sz="3200" spc="-1" strike="noStrike">
                <a:solidFill>
                  <a:srgbClr val="003399"/>
                </a:solidFill>
                <a:latin typeface="Courier New"/>
                <a:ea typeface="Arial Unicode MS"/>
              </a:rPr>
              <a:t>PATÓGENOS Y PARÁSIT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Organismo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D.I.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Salmonella spp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10</a:t>
            </a:r>
            <a:r>
              <a:rPr b="0" lang="es-ES" sz="2800" spc="-1" strike="noStrike" baseline="30000">
                <a:solidFill>
                  <a:srgbClr val="003399"/>
                </a:solidFill>
                <a:latin typeface="Arial Unicode MS"/>
                <a:ea typeface="Arial Unicode MS"/>
              </a:rPr>
              <a:t>4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 -  10</a:t>
            </a:r>
            <a:r>
              <a:rPr b="0" lang="es-ES" sz="2800" spc="-1" strike="noStrike" baseline="30000">
                <a:solidFill>
                  <a:srgbClr val="003399"/>
                </a:solidFill>
                <a:latin typeface="Arial Unicode MS"/>
                <a:ea typeface="Arial Unicode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Shigella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10</a:t>
            </a:r>
            <a:r>
              <a:rPr b="0" lang="es-ES" sz="2800" spc="-1" strike="noStrike" baseline="30000">
                <a:solidFill>
                  <a:srgbClr val="003399"/>
                </a:solidFill>
                <a:latin typeface="Arial Unicode MS"/>
                <a:ea typeface="Arial Unicode MS"/>
              </a:rPr>
              <a:t>1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 -  10</a:t>
            </a:r>
            <a:r>
              <a:rPr b="0" lang="es-ES" sz="2800" spc="-1" strike="noStrike" baseline="30000">
                <a:solidFill>
                  <a:srgbClr val="003399"/>
                </a:solidFill>
                <a:latin typeface="Arial Unicode MS"/>
                <a:ea typeface="Arial Unicode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Escherichia coli</a:t>
            </a:r>
            <a:r>
              <a:rPr b="0" lang="en-GB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10</a:t>
            </a:r>
            <a:r>
              <a:rPr b="0" lang="en-GB" sz="2800" spc="-1" strike="noStrike" baseline="30000">
                <a:solidFill>
                  <a:srgbClr val="003399"/>
                </a:solidFill>
                <a:latin typeface="Arial Unicode MS"/>
                <a:ea typeface="Arial Unicode MS"/>
              </a:rPr>
              <a:t>6</a:t>
            </a:r>
            <a:r>
              <a:rPr b="0" lang="en-GB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 -  10</a:t>
            </a:r>
            <a:r>
              <a:rPr b="0" lang="en-GB" sz="2800" spc="-1" strike="noStrike" baseline="30000">
                <a:solidFill>
                  <a:srgbClr val="003399"/>
                </a:solidFill>
                <a:latin typeface="Arial Unicode MS"/>
                <a:ea typeface="Arial Unicode MS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Vibrio cholerae</a:t>
            </a:r>
            <a:r>
              <a:rPr b="0" lang="en-GB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10</a:t>
            </a:r>
            <a:r>
              <a:rPr b="0" lang="en-GB" sz="2800" spc="-1" strike="noStrike" baseline="30000">
                <a:solidFill>
                  <a:srgbClr val="003399"/>
                </a:solidFill>
                <a:latin typeface="Arial Unicode MS"/>
                <a:ea typeface="Arial Unicode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Giardia lamblia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10</a:t>
            </a:r>
            <a:r>
              <a:rPr b="0" lang="es-ES" sz="2800" spc="-1" strike="noStrike" baseline="30000">
                <a:solidFill>
                  <a:srgbClr val="003399"/>
                </a:solidFill>
                <a:latin typeface="Arial Unicode MS"/>
                <a:ea typeface="Arial Unicode MS"/>
              </a:rPr>
              <a:t>1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 -  10</a:t>
            </a:r>
            <a:r>
              <a:rPr b="0" lang="es-ES" sz="2800" spc="-1" strike="noStrike" baseline="30000">
                <a:solidFill>
                  <a:srgbClr val="003399"/>
                </a:solidFill>
                <a:latin typeface="Arial Unicode MS"/>
                <a:ea typeface="Arial Unicode MS"/>
              </a:rPr>
              <a:t>2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 cy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Entamoeba coli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10</a:t>
            </a:r>
            <a:r>
              <a:rPr b="0" lang="es-ES" sz="2800" spc="-1" strike="noStrike" baseline="30000">
                <a:solidFill>
                  <a:srgbClr val="003399"/>
                </a:solidFill>
                <a:latin typeface="Arial Unicode MS"/>
                <a:ea typeface="Arial Unicode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Hepatitis a virus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1  -  10  pf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Virulencia: Potencial para causar enferme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TRATAMIENTO DE AGUAS SERVID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) Desechos domést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2) Desechos industriales (D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D.I: Desechos no tóxicos (Industria de alimento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D.I. Desechos tóxico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j.: Procesamiento de carbón, fenoles, amonio, cianur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etroquímica, Ind. Farmacéu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etales tóxicos: Cd, Zn, Cu, 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AGUA ES ACEPTABLE PARA BEBER SI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tiene menos de 10 bacterias intestinales en cada litro de agua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 no presenta mal sabor, olor, color o turbiedad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 no contiene impurezas químicas en concentraciones que puedan ser peligrosas para la salud del consumidor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 no son corrosivas con respecto al sistema de conducción del agua, 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 no proviene de sistemas acuíferos sujetos a contaminación por aguas negras u otros contaminantes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efecto más perjudicial del agua contaminada ha sido la transmisión de enfermedades por microorganismos que pueden habitar en ella. Por ejemplo: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La fiebre tifoidea causada por la bacteria Salmone lla typhi 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l cólera  causada por la bacteria </a:t>
            </a:r>
            <a:r>
              <a:rPr b="1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brio cholerae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La disentería provocada por parásitos como las amebas </a:t>
            </a:r>
            <a:r>
              <a:rPr b="1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amoeba histolítica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la bacteria </a:t>
            </a:r>
            <a:r>
              <a:rPr b="1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igella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La gastroenteritis causada por virus, bacterias y protozoarios, 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La hepatitis infecciosa causada por el virus de la hepatitis y la poliomielitis causada por el virus de la poliomieliti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brio cholera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vibriocole" descr=""/>
          <p:cNvPicPr/>
          <p:nvPr/>
        </p:nvPicPr>
        <p:blipFill>
          <a:blip r:embed="rId1"/>
          <a:stretch/>
        </p:blipFill>
        <p:spPr>
          <a:xfrm>
            <a:off x="2971800" y="2057400"/>
            <a:ext cx="4172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amoeba histolít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amoeba" descr=""/>
          <p:cNvPicPr/>
          <p:nvPr/>
        </p:nvPicPr>
        <p:blipFill>
          <a:blip r:embed="rId1"/>
          <a:stretch/>
        </p:blipFill>
        <p:spPr>
          <a:xfrm>
            <a:off x="1816200" y="1981080"/>
            <a:ext cx="5510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IPOS DE TRATAMIENTO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ARA AGUAS SERVIDA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 u="sng">
                <a:solidFill>
                  <a:srgbClr val="003399"/>
                </a:solidFill>
                <a:uFillTx/>
                <a:latin typeface="Times New Roman"/>
                <a:ea typeface="Times New Roman"/>
              </a:rPr>
              <a:t>Tratamientos </a:t>
            </a:r>
            <a:r>
              <a:rPr b="0" lang="es-ES" sz="2800" spc="-1" strike="noStrike" u="sng">
                <a:solidFill>
                  <a:srgbClr val="003399"/>
                </a:solidFill>
                <a:uFillTx/>
                <a:latin typeface="Arial Unicode MS"/>
                <a:ea typeface="Arial Unicode MS"/>
              </a:rPr>
              <a:t>físicos o primarios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: separación, sedimentación, filtración, flo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 u="sng">
                <a:solidFill>
                  <a:srgbClr val="003399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0" lang="es-ES" sz="2800" spc="-1" strike="noStrike" u="sng">
                <a:solidFill>
                  <a:srgbClr val="003399"/>
                </a:solidFill>
                <a:uFillTx/>
                <a:latin typeface="Arial Unicode MS"/>
                <a:ea typeface="Arial Unicode MS"/>
              </a:rPr>
              <a:t>ratamientos biológicos o secundarios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: degradan la materia orgánica</a:t>
            </a:r>
            <a:r>
              <a:rPr b="0" lang="es-E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 u="sng">
                <a:solidFill>
                  <a:srgbClr val="003399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0" lang="es-ES" sz="2800" spc="-1" strike="noStrike" u="sng">
                <a:solidFill>
                  <a:srgbClr val="003399"/>
                </a:solidFill>
                <a:uFillTx/>
                <a:latin typeface="Arial Unicode MS"/>
                <a:ea typeface="Arial Unicode MS"/>
              </a:rPr>
              <a:t>ratamientos químicos o terciarios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: desinfección, adsorción, precipitación</a:t>
            </a:r>
            <a:r>
              <a:rPr b="1" lang="es-ES" sz="2800" spc="-1" strike="noStrike">
                <a:solidFill>
                  <a:srgbClr val="ffffff"/>
                </a:solidFill>
                <a:latin typeface="Comic Sans MS"/>
                <a:ea typeface="Arial Unicode MS"/>
              </a:rPr>
              <a:t> Contaminación del agua por microorganismos patógenos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cc00"/>
                </a:solidFill>
                <a:latin typeface="Comic Sans MS"/>
                <a:ea typeface="Arial Unicode MS"/>
              </a:rPr>
              <a:t>      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-</a:t>
            </a:r>
            <a:r>
              <a:rPr b="0" lang="es-E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         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-</a:t>
            </a:r>
            <a:r>
              <a:rPr b="0" lang="es-E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        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Courier New"/>
                <a:ea typeface="Arial Unicode MS"/>
              </a:rPr>
              <a:t>TRATAMIENTOS BIOLÓGICO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T. Secundari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L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agunas de est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P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rocesos de lodos activ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U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o de filtros por goteo (lombrifiltr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T. terciacios:  se utilizan para eliminar nutrientes, DBO, patógenos, parásitos y sustancias  tóx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O DE LODOS ACTIVADO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Es un tratamiento aeróbico mediante el cuál se oxida la materia orgánica a CO</a:t>
            </a:r>
            <a:r>
              <a:rPr b="0" lang="es-ES" sz="3200" spc="-1" strike="noStrike" baseline="-30000">
                <a:solidFill>
                  <a:srgbClr val="003399"/>
                </a:solidFill>
                <a:latin typeface="Arial Unicode MS"/>
                <a:ea typeface="Arial Unicode MS"/>
              </a:rPr>
              <a:t>2,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, H</a:t>
            </a:r>
            <a:r>
              <a:rPr b="0" lang="es-ES" sz="3200" spc="-1" strike="noStrike" baseline="-30000">
                <a:solidFill>
                  <a:srgbClr val="003399"/>
                </a:solidFill>
                <a:latin typeface="Arial Unicode MS"/>
                <a:ea typeface="Arial Unicode MS"/>
              </a:rPr>
              <a:t>2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O  y NH</a:t>
            </a:r>
            <a:r>
              <a:rPr b="0" lang="es-ES" sz="3200" spc="-1" strike="noStrike" baseline="-30000">
                <a:solidFill>
                  <a:srgbClr val="003399"/>
                </a:solidFill>
                <a:latin typeface="Arial Unicode MS"/>
                <a:ea typeface="Arial Unicode MS"/>
              </a:rPr>
              <a:t>4</a:t>
            </a:r>
            <a:r>
              <a:rPr b="0" lang="es-ES" sz="3200" spc="-1" strike="noStrike" baseline="30000">
                <a:solidFill>
                  <a:srgbClr val="003399"/>
                </a:solidFill>
                <a:latin typeface="Arial Unicode MS"/>
                <a:ea typeface="Arial Unicode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Se introduce el aire mediante aireación  mecán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Las células forman flóculos que sedimentan en un tanque clarificador, una parte de estas se desechan, las otras regresan al tanque de aire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315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80010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IREACIÓN EN UNA PLANTA DE LODOS ACTIVA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71629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Arial Unicode MS"/>
                <a:ea typeface="Times New Roman"/>
              </a:rPr>
              <a:t>TRATAMIENTO DE AGUAS SERVID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ontaminan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rgánicos  biodegrad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rgánicos volat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rgánicos recalcitra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utrientes (N y 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ólidos suspend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atógenos microbia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arási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O DE LODOS ACTIVA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Edad del lodo: tiempo de residencia media de los M.O. en el sistema puede ser dias (5-15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T = 1/</a:t>
            </a:r>
            <a:r>
              <a:rPr b="1" lang="es-ES" sz="2800" spc="-1" strike="noStrike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Depende de la época del añ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Modificaciones a este sistema permiten una mayor oxidación de la materia orgán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IOLOGÍA DE LODOS ACTIVADO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Los mayores objetivos s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1)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  O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xidación de la materia orgánica </a:t>
            </a:r>
            <a:r>
              <a:rPr b="1" lang="es-ES" sz="28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biom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2)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   F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loculación (separación de la biomas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Lodos contienen tanto bacterias como materia orgánica e inorgán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artículas &lt; 1 </a:t>
            </a:r>
            <a:r>
              <a:rPr b="1" lang="es-ES" sz="2800" spc="-1" strike="noStrike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m-- 1.000 </a:t>
            </a:r>
            <a:r>
              <a:rPr b="1" lang="es-ES" sz="2800" spc="-1" strike="noStrike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Células viables </a:t>
            </a:r>
            <a:r>
              <a:rPr b="1" lang="es-ES" sz="28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5 – 2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(se piensa también  </a:t>
            </a:r>
            <a:r>
              <a:rPr b="1" lang="es-ES" sz="28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1 – 3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IOLOGÍA DE LODOS ACTIVADO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Bacter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Constituyen la mayor parte de los flóculos,  aproximadamente unas 300 cepas difer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roducen polisacáridos y materiales poliméric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3399"/>
                </a:solidFill>
                <a:uFillTx/>
                <a:latin typeface="Times New Roman"/>
                <a:ea typeface="Arial Unicode MS"/>
              </a:rPr>
              <a:t>Géneros mas abunda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Zooglea, Pseudomonas, Flavobacterias, Alcaligenes, Achromobacter, Corynebacterias,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inetobacter, etc.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IOLOGÍA DE LODOS ACTIVADO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Muchos M.O. filamentos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El nivel de aeróbicos decrece en la medida que el flóculo crece por problemas de difusión de oxige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Región interna del flóculo llega a ser anaerób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Times New Roman"/>
              </a:rPr>
              <a:t>Aeróbicos totales 10</a:t>
            </a:r>
            <a:r>
              <a:rPr b="1" lang="es-ES" sz="2800" spc="-1" strike="noStrike" baseline="30000">
                <a:solidFill>
                  <a:srgbClr val="3333cc"/>
                </a:solidFill>
                <a:latin typeface="Times New Roman"/>
              </a:rPr>
              <a:t>8</a:t>
            </a:r>
            <a:r>
              <a:rPr b="1" lang="es-ES" sz="2800" spc="-1" strike="noStrike">
                <a:solidFill>
                  <a:srgbClr val="3333cc"/>
                </a:solidFill>
                <a:latin typeface="Times New Roman"/>
              </a:rPr>
              <a:t> UFC / mg de lo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Zooglea ramigera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produce exopolímeros, se encuentra en aguas servidas y en otros ambientes, 0.1-1% del total de M.O. en  estos procesos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Zooglea ramige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64166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IOLOGÍA DE LODOS ACTIVA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Bacterias Nitrifica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Nitrobact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                       </a:t>
            </a: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NH</a:t>
            </a:r>
            <a:r>
              <a:rPr b="1" lang="es-ES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4</a:t>
            </a:r>
            <a:r>
              <a:rPr b="1" lang="es-ES" sz="3200" spc="-1" strike="noStrike" baseline="30000">
                <a:solidFill>
                  <a:srgbClr val="003399"/>
                </a:solidFill>
                <a:latin typeface="Times New Roman"/>
                <a:ea typeface="Arial Unicode MS"/>
              </a:rPr>
              <a:t>+</a:t>
            </a: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+  O</a:t>
            </a:r>
            <a:r>
              <a:rPr b="1" lang="es-ES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</a:t>
            </a:r>
            <a:r>
              <a:rPr b="1" lang="es-ES" sz="32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NO</a:t>
            </a:r>
            <a:r>
              <a:rPr b="1" lang="es-ES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1" lang="es-ES" sz="3200" spc="-1" strike="noStrike" baseline="30000">
                <a:solidFill>
                  <a:srgbClr val="003399"/>
                </a:solidFill>
                <a:latin typeface="Times New Roman"/>
                <a:ea typeface="Arial Unicode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Nitrosomo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                       </a:t>
            </a: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NO</a:t>
            </a:r>
            <a:r>
              <a:rPr b="1" lang="es-ES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1" lang="es-ES" sz="3200" spc="-1" strike="noStrike" baseline="30000">
                <a:solidFill>
                  <a:srgbClr val="003399"/>
                </a:solidFill>
                <a:latin typeface="Times New Roman"/>
                <a:ea typeface="Arial Unicode MS"/>
              </a:rPr>
              <a:t>-</a:t>
            </a: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+  O</a:t>
            </a:r>
            <a:r>
              <a:rPr b="1" lang="es-ES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</a:t>
            </a:r>
            <a:r>
              <a:rPr b="1" lang="es-ES" sz="32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 NO</a:t>
            </a:r>
            <a:r>
              <a:rPr b="1" lang="es-ES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3</a:t>
            </a:r>
            <a:r>
              <a:rPr b="1" lang="es-ES" sz="3200" spc="-1" strike="noStrike" baseline="30000">
                <a:solidFill>
                  <a:srgbClr val="003399"/>
                </a:solidFill>
                <a:latin typeface="Times New Roman"/>
                <a:ea typeface="Arial Unicode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También se encuentran varias especies que oxidan compuestos reducidos de azuf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LOGÍA DE LODOS ACTIVA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Hong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Ocasionalmente en los lodos crecen a pH bajos, baja toxicidad y desechos deficientes en nitróge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Protozo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 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Predadores en los lodos:  ciliados, flagelados, ameb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REMOCIÓN DE NUTRIENTE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Nitrógeno : por métodos químicos o por métodos biológi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or Nitrificacion </a:t>
            </a:r>
            <a:r>
              <a:rPr b="1" lang="es-ES" sz="28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Desnitrificacion </a:t>
            </a:r>
            <a:r>
              <a:rPr b="1" lang="es-ES" sz="28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N</a:t>
            </a:r>
            <a:r>
              <a:rPr b="1" lang="es-ES" sz="28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  Procesos aeróbico y anaerób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Usan varios tan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Fósforo: por métodos químicos o por métodos biológi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Métodos químicos, precipitación con Fe o Al</a:t>
            </a:r>
            <a:r>
              <a:rPr b="1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 </a:t>
            </a:r>
            <a:r>
              <a:rPr b="1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REMOCIÓN DE PATÓGENO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Aireación y sedimentación afectan a M.O. patógenos y parási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 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Factores ambientales: luz, pH, M.O. antagónic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Formación de flócu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Arial Unicode MS"/>
                <a:ea typeface="Arial Unicode MS"/>
              </a:rPr>
              <a:t>Parásitos se aglomeran en el flócu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80 – 99% de los M.O. indicadores son removidos.  Bacterias son fagocitadas por protozoos y adsorbidas en el flóculo.</a:t>
            </a: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REMOCIÓN DE PATÓGEN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Virus  &gt; 90% se asocia a sólidos, pueden también ser inactivados por bacterias y por ingestión por protozoos y nemáto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rotozo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No son inactivados, pero floculan y sedimentan pasando a los lodos (concentrad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ISTRIBUCIÓN DEL C ORGÁNICO EN AGUAS SERVID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78483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ROBLEMAS QUE PRESENTAN ESTAS PLANT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Relacionados con la separación de sólidos activ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Crecimiento disperso: los M.O. no forman flóculos, el efluente se ve turb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Masa viscosa: mucho material extracelular,             se reduce velocidad de decantación y compact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ara la formación de un flóculo normal debe haber un balance entre bacterias floculantes y bacterias  filamentosas para mantener la integridad del flócu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Courier New"/>
                <a:ea typeface="Arial Unicode MS"/>
              </a:rPr>
              <a:t>LAGUNAS DE ESTABILIZACIÓN O LAGUNAS DE TRATAMIENTO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e utilizan en grandes extensiones de terreno,  de bajo precio y son el sistema mas antiguo y económico para tratar las aguas servid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Lagunas facultativ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Lagunas aerób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Lagunas muy airea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Lagunas anaerób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Lagunas de madu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07880" y="293760"/>
            <a:ext cx="8326440" cy="62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urier New"/>
                <a:ea typeface="Arial Unicode MS"/>
              </a:rPr>
              <a:t>LAGUNAS FACULTATIVA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Tienen una profundidad de 1-2.5 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Pueden ser aeróbicas y anaerób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El agua permanece entre 5-30 dí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on económicas y fáciles de operar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Courier New"/>
                <a:ea typeface="Arial Unicode MS"/>
              </a:rPr>
              <a:t>ACTIVIDAD EN LA ZONA FOTICA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Algas verdes y algas verde az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Productividad de 10-66 g de algas /m</a:t>
            </a:r>
            <a:r>
              <a:rPr b="0" lang="es-ES" sz="3200" spc="-1" strike="noStrike" baseline="30000">
                <a:solidFill>
                  <a:srgbClr val="003399"/>
                </a:solidFill>
                <a:latin typeface="Arial Unicode MS"/>
                <a:ea typeface="Arial Unicode MS"/>
              </a:rPr>
              <a:t>2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/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Clamydomo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Eugl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Scenedesm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Oscillat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Su prevalencia depende de la luz, T, nutrientes y g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Courier New"/>
                <a:ea typeface="Arial Unicode MS"/>
              </a:rPr>
              <a:t>ACTIVIDAD EN LA ZONA FÓT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Mezclado es importante para la manutención de las condiciones aerób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Algas consumen N y 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H aumenta  con la fotosíntesis lo que ayuda a precipitación de fosfa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CO</a:t>
            </a:r>
            <a:r>
              <a:rPr b="1" lang="en-GB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3</a:t>
            </a:r>
            <a:r>
              <a:rPr b="1" lang="en-GB" sz="3200" spc="-1" strike="noStrike" baseline="30000">
                <a:solidFill>
                  <a:srgbClr val="003399"/>
                </a:solidFill>
                <a:latin typeface="Times New Roman"/>
                <a:ea typeface="Arial Unicode MS"/>
              </a:rPr>
              <a:t>=</a:t>
            </a:r>
            <a:r>
              <a:rPr b="1" lang="en-GB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+  H</a:t>
            </a:r>
            <a:r>
              <a:rPr b="1" lang="en-GB" sz="3200" spc="-1" strike="noStrike" baseline="30000">
                <a:solidFill>
                  <a:srgbClr val="003399"/>
                </a:solidFill>
                <a:latin typeface="Times New Roman"/>
                <a:ea typeface="Arial Unicode MS"/>
              </a:rPr>
              <a:t>+</a:t>
            </a:r>
            <a:r>
              <a:rPr b="1" lang="en-GB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</a:t>
            </a:r>
            <a:r>
              <a:rPr b="1" lang="es-ES" sz="32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HCO</a:t>
            </a:r>
            <a:r>
              <a:rPr b="1" lang="en-GB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3</a:t>
            </a:r>
            <a:r>
              <a:rPr b="1" lang="en-GB" sz="3200" spc="-1" strike="noStrike" baseline="30000">
                <a:solidFill>
                  <a:srgbClr val="003399"/>
                </a:solidFill>
                <a:latin typeface="Times New Roman"/>
                <a:ea typeface="Arial Unicode MS"/>
              </a:rPr>
              <a:t>-</a:t>
            </a:r>
            <a:r>
              <a:rPr b="1" lang="en-GB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+  H</a:t>
            </a:r>
            <a:r>
              <a:rPr b="1" lang="en-GB" sz="3200" spc="-1" strike="noStrike" baseline="30000">
                <a:solidFill>
                  <a:srgbClr val="003399"/>
                </a:solidFill>
                <a:latin typeface="Times New Roman"/>
                <a:ea typeface="Arial Unicode MS"/>
              </a:rPr>
              <a:t>+</a:t>
            </a:r>
            <a:r>
              <a:rPr b="1" lang="en-GB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</a:t>
            </a:r>
            <a:r>
              <a:rPr b="1" lang="en-GB" sz="32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CO</a:t>
            </a:r>
            <a:r>
              <a:rPr b="1" lang="en-GB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1" lang="en-GB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+  H</a:t>
            </a:r>
            <a:r>
              <a:rPr b="1" lang="en-GB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1" lang="en-GB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H: 9</a:t>
            </a: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H:7</a:t>
            </a: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H: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M.O. que oxidan H</a:t>
            </a:r>
            <a:r>
              <a:rPr b="1" lang="es-ES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 importa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Número de algas y bacterias fotosintéticas disminuye con el aumento de la car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Courier New"/>
                <a:ea typeface="Arial Unicode MS"/>
              </a:rPr>
              <a:t>ACTIVIDAD EN LA ZONA HETEROTRÓF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La mas importante en la degradación de la materia orgán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Hongos y protozoos parecen menos import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Materia Orgánica + O</a:t>
            </a:r>
            <a:r>
              <a:rPr b="1" lang="en-US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</a:t>
            </a:r>
            <a:r>
              <a:rPr b="1" lang="en-US" sz="32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CO</a:t>
            </a:r>
            <a:r>
              <a:rPr b="1" lang="en-US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+  otros nutrientes que serían usados por alg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Células de bacterias muertas y de algas se van al fondo, sufriendo degradación anaerób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Courier New"/>
                <a:ea typeface="Arial Unicode MS"/>
              </a:rPr>
              <a:t>ACTIVIDAD EN LA ZONA HETEROTRÓF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do el Carbono presente en la materia orgánica se transforma 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 oxidación completa aeróbic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r respiración anaerób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masa que sedime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Courier New"/>
                <a:ea typeface="Arial Unicode MS"/>
              </a:rPr>
              <a:t>ACTIVIDAD DEL ZOOPLANCTO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Se nutre entre otros de bacterias y algas, controlando sus poblacio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Aumentando o disminuyendo turbidez del agu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ECTO DE LA TEMPERATURA SOBRE LA OPERACIÓN DE LAS LAGUNA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Afecta en la fotosíntesis y a los heterótrofos aeróbicos y anaeróbic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or debajo de 15ºC no se produce la reducción del Carbono y generación  de CH</a:t>
            </a:r>
            <a:r>
              <a:rPr b="1" lang="en-US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4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Con frío no hay fotosíntesis y no se produce oxigeno, por lo tanto no se produce degradación aerób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OBJETIVOS DE LOS PROCESOS DE TRAT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Re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ducir el contenido orgánico (DBO</a:t>
            </a:r>
            <a:r>
              <a:rPr b="0" lang="es-ES" sz="3200" spc="-1" strike="noStrike" baseline="-30000">
                <a:solidFill>
                  <a:srgbClr val="003399"/>
                </a:solidFill>
                <a:latin typeface="Arial Unicode MS"/>
                <a:ea typeface="Arial Unicode MS"/>
              </a:rPr>
              <a:t>5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R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emoción de nutri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Remoción o inactivación de M.O. y    parásitos patóge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Todo el carbono orgánico particulado (60%) se puede separar por sediment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OCIÓN DE SÓLIDOS SUSPENDIDO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N(40-80%)  </a:t>
            </a:r>
            <a:r>
              <a:rPr b="0" lang="es-ES" sz="32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 bacterias nitrificantes y desnitrifica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Se volatiliza NH</a:t>
            </a:r>
            <a:r>
              <a:rPr b="0" lang="es-ES" sz="3200" spc="-1" strike="noStrike" baseline="-30000">
                <a:solidFill>
                  <a:srgbClr val="003399"/>
                </a:solidFill>
                <a:latin typeface="Arial Unicode MS"/>
                <a:ea typeface="Arial Unicode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P  +  Al  o  Fe  </a:t>
            </a:r>
            <a:r>
              <a:rPr b="0" lang="es-ES" sz="32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fosfatos insolubles  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(len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ROS TIPOS DE LAGUNA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Lagunas aerób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Profundidad : 0.3 – 0.5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Tiempo de residencia 3-5 dí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Las aguas son mezcladas para permitir penetración de la lu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ROS TIPOS DE LAGUN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gunas airea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rofundidad 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6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Tiempo de residencia 10 dí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e utiliza para desechos domést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on aireadas con difus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e puede disminuir en 85% la DBO</a:t>
            </a:r>
            <a:r>
              <a:rPr b="0" lang="en-US" sz="3200" spc="-1" strike="noStrike" baseline="-25000">
                <a:solidFill>
                  <a:srgbClr val="003399"/>
                </a:solidFill>
                <a:latin typeface="Times New Roman"/>
                <a:ea typeface="Arial Unicode MS"/>
              </a:rPr>
              <a:t>5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en 5 dí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ROS TIPOS DE LAGUN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Lagunas anaeróbic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rofundidad : 2.5 -  9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Tiempo de residencia: 20 – 50 d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ara desechos orgánicos de alta DBO, conteniendo proteínas y grasas, sóli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0" lang="en-GB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Materia  orgánica  </a:t>
            </a:r>
            <a:r>
              <a:rPr b="0" lang="es-ES" sz="3200" spc="-1" strike="noStrike">
                <a:solidFill>
                  <a:srgbClr val="003399"/>
                </a:solidFill>
                <a:latin typeface="Symbol"/>
                <a:ea typeface="Symbol"/>
              </a:rPr>
              <a:t></a:t>
            </a:r>
            <a:r>
              <a:rPr b="0" lang="en-GB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CH</a:t>
            </a:r>
            <a:r>
              <a:rPr b="0" lang="en-GB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4</a:t>
            </a:r>
            <a:r>
              <a:rPr b="0" lang="en-GB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+ CO</a:t>
            </a:r>
            <a:r>
              <a:rPr b="0" lang="en-GB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0" lang="en-GB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+ H</a:t>
            </a:r>
            <a:r>
              <a:rPr b="0" lang="en-GB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0" lang="en-GB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 + NH</a:t>
            </a:r>
            <a:r>
              <a:rPr b="0" lang="en-GB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No requieren aireación y generan pocos lodos, se detiene a 10ºC. De uso industri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ROS TIPOS DE LAGUN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Lagunas terciarias o de madura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rofundidad : 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1-2</a:t>
            </a: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Tiempo de residencia: 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20 d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Su rol es disminuir DBO, los sólidos  suspendidos y nutrientes, e inactivar patógen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OCIÓN DE PATÓGENO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erían responsables la temperatura, el pH, luz solar, acción lítica de bacteriófagos, predación, adherencia a sólidos decantab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Muerte de E. coli aumenta con la T, tiempo de retención, pH decrece con un aumento de la DBO</a:t>
            </a:r>
            <a:r>
              <a:rPr b="1" lang="es-ES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5</a:t>
            </a: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y con la profundidad de la lagu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Aireación, compuestos extracelulares de algas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POSIBLES EXPLICACIONES PARA LA REMOCIÓ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Largo tiempo de retención usado en estas lagun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Alto pH generado por la fotosíntesis y su relación con aguas tamponad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redación por zooplant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Efecto inactivante de la luz solar.  UV</a:t>
            </a:r>
            <a:r>
              <a:rPr b="1" lang="en-GB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(280-320 mm) destruye las bacterias coliformes.  I</a:t>
            </a: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mportante en la superfic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Altas concentraciones de oxíge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MOCIÓN DE VIRUS O INACTIVACIÓ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emperatura y radiación solar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n verano en 5 dias el número disminuye 2 logaritmos, en invierno requiere 25 dí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Virus se pueden absorber en sólidos y sedimentar, manteniéndose por mucho tiemp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gitación del sedimento ayuda a resuspender virus y bacterias patóge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OZOO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u remoción varia de 67 – 100% en lagunas  aire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or esto los lodos contienen M.O. patógenos, protozoos y huevos de parási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Los lodos deben ser tra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ec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En digestores anaerób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Tratados química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Alrededor de 1/5 del lodo es mantenido como inóculo para un nuevo proce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STINO DE LOS LO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Lodos provenientes de los tratamientos primario y secundario son tratados por 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Times New Roman"/>
                <a:ea typeface="Arial Unicode MS"/>
              </a:rPr>
              <a:t>digestión anaeróbica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la que descompone la materia orgánica a 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Times New Roman"/>
                <a:ea typeface="Arial Unicode MS"/>
              </a:rPr>
              <a:t>metano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El lodo no digerido (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Times New Roman"/>
                <a:ea typeface="Arial Unicode MS"/>
              </a:rPr>
              <a:t>estabilizado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) presenta problemas de dispos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Ej. en EEUU a partir de 20.000 plantas de tratamiento de aguas servidas se generan 5-10 millones de ton. secas / año, estas s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quemados o enterrados, algo se seca y se aplica como fertilizante. (quedan algunos virus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OBJETIVOS DE LOS PROCESOS DE TRAT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Todo el carbono orgánico particulado (60%) se puede separar por sedime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Tres test se utilizan para determinación de carbono orgánico en aguas servid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DBO</a:t>
            </a:r>
            <a:r>
              <a:rPr b="0" lang="es-ES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5,</a:t>
            </a: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,   C O T  ,  y   DQO o C O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 </a:t>
            </a: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Trazas de orgánicos se determinan por cromatografía y espectrografía de masa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AL DEL PROCE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M.O. patógenos disminuyen muy fuertemente al final del tratamiento secundario, son superados por los otros M.O. por 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 Unicode MS"/>
                <a:ea typeface="Arial Unicode MS"/>
              </a:rPr>
              <a:t>selección natur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Los efluentes secundarios son usados por algunas comunidades para irrigar cosechas, ya que contienen grandes cantidades de 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 Unicode MS"/>
                <a:ea typeface="Arial Unicode MS"/>
              </a:rPr>
              <a:t>fósforo y N,</a:t>
            </a:r>
            <a:r>
              <a:rPr b="0" lang="en-U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que se usan como fertilizantes y los M.O. ambientales digieren el resto de las soluciones orgán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Tratamiento terciario elimina completamente la DBO y son procesos físicos y químicos que producen 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 Unicode MS"/>
                <a:ea typeface="Arial Unicode MS"/>
              </a:rPr>
              <a:t>agua limpia</a:t>
            </a:r>
            <a:r>
              <a:rPr b="0" lang="en-U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TAMIENTO DE AGUAS POR EL SISTEMA TOHA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sistema consta de 2 etap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n la primera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l agua residual escurre por gravedad a través de un biofiltro constituído por 4 capas de diversos materiales y que contiene micro y macroorganismos. Aquí se absorbe y procesa la materia orgán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 la segunda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tapa del tratamiento, el efluente es derivado a una cámara de irradiación ultravioleta en donde se logra la eliminación de las bacterias patógenas en menos de 1 minu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STEMA CON BIOFILTR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67053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STEMA TOHA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ACTERÍSTICAS ESPECIAL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un tratamiento global del agua servida, no habiendo tratamientos primarios, secundarios ni terciari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hay formación de lodos, ya que la materia orgánica es consum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tratamiento se hace en un soporte sólido, implica menos espa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biofiltro no se satura, debido a la acción de micro y macroorganism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STEMA TOHA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ACTERÍSTICAS ESPECIAL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ecológico porque no usa aditivos químicos no se producen residuos contaminantes, hay muy poco consumo de energía.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eficiente porque se alcanza un alto grado de purificación con una remoción de hasta 96% de DBO y sólidos suspendi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necesita poco espacio:  el agua servida de 5 personas requiere solo 2m</a:t>
            </a:r>
            <a:r>
              <a:rPr b="1" lang="es-E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biofiltro para su trata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económico porque los costos de construcción y mantenimiento son menores que en los sistemas tradicionales y el agua puede ser re-utilizada inmediatamente para regadí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OLUCIÓN DE LA CARGA MICROBIANA POR TRATAMIENTO CON LUZ ULTRAVIOL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75438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EMANDA BIOQUÍMICA DE OXIGENO DBO</a:t>
            </a:r>
            <a:r>
              <a:rPr b="1" lang="en-US" sz="36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Es la cantidad de oxigeno disuelto consumido por M.O. para oxidación bioquímica de orgáni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3399"/>
                </a:solidFill>
                <a:uFillTx/>
                <a:latin typeface="Times New Roman"/>
                <a:ea typeface="Arial Unicode MS"/>
              </a:rPr>
              <a:t> </a:t>
            </a:r>
            <a:r>
              <a:rPr b="1" lang="es-ES" sz="2800" spc="-1" strike="noStrike" u="sng">
                <a:solidFill>
                  <a:srgbClr val="003399"/>
                </a:solidFill>
                <a:uFillTx/>
                <a:latin typeface="Times New Roman"/>
                <a:ea typeface="Arial Unicode MS"/>
              </a:rPr>
              <a:t>DBO</a:t>
            </a:r>
            <a:r>
              <a:rPr b="1" lang="es-ES" sz="2800" spc="-1" strike="noStrike" u="sng" baseline="-30000">
                <a:solidFill>
                  <a:srgbClr val="003399"/>
                </a:solidFill>
                <a:uFillTx/>
                <a:latin typeface="Times New Roman"/>
                <a:ea typeface="Arial Unicode MS"/>
              </a:rPr>
              <a:t>5</a:t>
            </a:r>
            <a:r>
              <a:rPr b="1" lang="es-ES" sz="2800" spc="-1" strike="noStrike" u="sng">
                <a:solidFill>
                  <a:srgbClr val="003399"/>
                </a:solidFill>
                <a:uFillTx/>
                <a:latin typeface="Times New Roman"/>
                <a:ea typeface="Arial Unicode MS"/>
              </a:rPr>
              <a:t> carbón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Cantidad de oxigeno utilizada por una población heterotrófica de M.O. que oxidan compuestos orgánicos en la obscuridad a 20ºc por 5 dí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                           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heterótrof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Comp. Org. + O</a:t>
            </a:r>
            <a:r>
              <a:rPr b="1" lang="es-ES" sz="28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 </a:t>
            </a:r>
            <a:r>
              <a:rPr b="1" lang="es-ES" sz="2800" spc="-1" strike="noStrike">
                <a:solidFill>
                  <a:srgbClr val="003399"/>
                </a:solidFill>
                <a:latin typeface="Symbol"/>
                <a:ea typeface="Symbol"/>
              </a:rPr>
              <a:t>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CO</a:t>
            </a:r>
            <a:r>
              <a:rPr b="1" lang="es-ES" sz="28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+  H</a:t>
            </a:r>
            <a:r>
              <a:rPr b="1" lang="es-ES" sz="28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O  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+ NH</a:t>
            </a:r>
            <a:r>
              <a:rPr b="1" lang="es-ES" sz="28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4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+ biom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REMOCIÓN DE CARBONO ORGÁN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lvl="4" marL="183096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protozo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Biom. bacterias + O</a:t>
            </a:r>
            <a:r>
              <a:rPr b="0" lang="es-ES" sz="3200" spc="-1" strike="noStrike" baseline="-25000">
                <a:solidFill>
                  <a:srgbClr val="003399"/>
                </a:solidFill>
                <a:latin typeface="Arial Unicode MS"/>
                <a:ea typeface="Arial Unicode MS"/>
              </a:rPr>
              <a:t>2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</a:t>
            </a:r>
            <a:r>
              <a:rPr b="0" lang="es-ES" sz="32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Times New Roman"/>
              </a:rPr>
              <a:t> B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iom.Protoz.+ 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CO</a:t>
            </a:r>
            <a:r>
              <a:rPr b="0" lang="es-ES" sz="3200" spc="-1" strike="noStrike" baseline="-30000">
                <a:solidFill>
                  <a:srgbClr val="003399"/>
                </a:solidFill>
                <a:latin typeface="Arial Unicode MS"/>
                <a:ea typeface="Arial Unicode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Conversión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0.78mg protoz/1mg bacter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MOCIÓN DEL CARBONO ORGÁN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9829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5T05:21:58Z</dcterms:created>
  <dc:creator>Blanca Escobar</dc:creator>
  <dc:description/>
  <dc:language>en-US</dc:language>
  <cp:lastModifiedBy>Blanca Escobar</cp:lastModifiedBy>
  <dcterms:modified xsi:type="dcterms:W3CDTF">2007-09-06T17:38:04Z</dcterms:modified>
  <cp:revision>37</cp:revision>
  <dc:subject/>
  <dc:title> TRATAMIENTO DE AGUAS SERVIDAS</dc:title>
</cp:coreProperties>
</file>