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63C7-A73F-4575-8C12-A1B5F9B1C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3C20-DC9B-4AD8-91E1-3F66D0A9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7152-1B7F-4B63-BD1C-79EAECB71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8E75-5099-4487-91E0-67CD52687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B14F-99C1-4998-9111-ECB673F8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D5A9-F9C0-4F72-9F64-BEB901C7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82FC-1617-4DAD-9CBA-04204643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AC80-B147-43EF-BAE7-3484803C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9A79-DC03-4B47-8E16-0CFFEA4C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9D23-CF4D-4E6B-82F2-74AACB43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2326-40FF-4F21-B10F-A4C07342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9A54-29FB-405D-96AA-3E820B83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5757-47ED-474E-B55E-B61FCFC45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53388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TRATAMIENTO DE AGUAS SERV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timas de cólera y otras enferme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ocimiento rol de M.O. en enferme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menzó construcción de plantas de tratamiento (siglo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 15.000 pla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% pequeña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7 billones gal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% tiene tratamiento microbiológ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MANDA BIOQUÍMICA DE OXIGENO DBO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-</a:t>
            </a:r>
            <a:r>
              <a:rPr b="0" lang="en-GB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  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300 ml  +  Buffer  pH  7.2  +  Nut. inorgánicos  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y saturados con oxig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puede agregar un cultivo de bacterias heterotróf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seudomonas, Nocardia, Bacillus,   Streptom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puede agregar inhibidor de bacterias nitrificantes ya que consumen 10mg/l de oxí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(2 cloro 6 triclorometil piridi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MANDA BIOQUÍMICA DE OXIGENO DBO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incuba por 5 dias y se mide el oxigeno por análisis químico o mediante un aparato manométr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hace también sobre diluciones de la muest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DBO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5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=D</a:t>
            </a:r>
            <a:r>
              <a:rPr b="1" lang="es-ES" sz="2800" spc="-1" strike="noStrike" baseline="-25000">
                <a:solidFill>
                  <a:srgbClr val="003399"/>
                </a:solidFill>
                <a:latin typeface="Times New Roman"/>
                <a:ea typeface="Arial Unicode MS"/>
              </a:rPr>
              <a:t>1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-D</a:t>
            </a:r>
            <a:r>
              <a:rPr b="1" lang="es-ES" sz="2800" spc="-1" strike="noStrike" baseline="-25000">
                <a:solidFill>
                  <a:srgbClr val="003399"/>
                </a:solidFill>
                <a:latin typeface="Times New Roman"/>
                <a:ea typeface="Arial Unicode MS"/>
              </a:rPr>
              <a:t>5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/P(0.3l)= mg O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DBO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5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debiera hacerse siempre con M.O. adap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SUMO DE OXIGENO POR HETERÓTROFOS Y AUTÓTROF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534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MANDA BIOQUÍMICA DE OXIGENO DBO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Tipo de agua DBO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Agua potable               0.75 a 1.5 mg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Agua poco contaminada 5 a 50       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Agua potable negra municipal 100 a 400 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Residuos industriales  5 00 a 10 000   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DEMANDA QUÍMICA DE OXIG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antidad de oxigeno necesaria para oxidar todo el carbono presente a CO</a:t>
            </a:r>
            <a:r>
              <a:rPr b="1" lang="en-U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, H</a:t>
            </a:r>
            <a:r>
              <a:rPr b="1" lang="en-U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O</a:t>
            </a:r>
            <a:r>
              <a:rPr b="1" lang="en-U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y NH</a:t>
            </a:r>
            <a:r>
              <a:rPr b="1" lang="en-U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4</a:t>
            </a:r>
            <a:r>
              <a:rPr b="1" lang="en-US" sz="28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mide quím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1 g de Hidrato de Carbono o Proteína </a:t>
            </a:r>
            <a:r>
              <a:rPr b="1" lang="en-U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1 g C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i COD &gt;&gt; BOD significa que el agua contiene muchos compuestos no biodegrad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CARBONO ORGÁNICO TOTA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C orgánico total, se determina por oxidación con calor  +  O</a:t>
            </a:r>
            <a:r>
              <a:rPr b="0" lang="en-U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C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C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2  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 analiza por infrarro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n resumen se requiere varios métodos para determinar la calidad de las aguas serv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OSICIÓN DE HECES HUMANAS Y OR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ponente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eces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r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ntidad/p/d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00-400g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-1.3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Humedad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70-80%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93-96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5-7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5-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 (Fosfato)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0-5.4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.5-5.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0-2.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0-4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4-5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1-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.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.5-6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B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5/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/d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5-20g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0g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CARACTERÍSTICAS TÍPICAS DE AGUAS SERVIDAS DOMÉSTICAS (mg/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áme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lta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dia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BO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0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2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D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 orgánic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N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 total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8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 total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ólidos tot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20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72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ólidos susp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5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2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IPOS DE ORGANISMOS DE SIGNIFICADO EN SALUD PUBLICA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Bacterias: Salmonella, Shigella, Vibrio colera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Virus :  Hepat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rotozoos : Giardia, Ameb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Helmintos: Ascaria, Te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DOSIS INFECCIOSAS MÍNIMAS PARA ALGUNOS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	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PATÓGENOS Y PARÁSIT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Organismo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D.I.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almonella spp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4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-  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higella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1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-  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scherichia coli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0</a:t>
            </a:r>
            <a:r>
              <a:rPr b="0" lang="en-GB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6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-  10</a:t>
            </a:r>
            <a:r>
              <a:rPr b="0" lang="en-GB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Vibrio cholerae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0</a:t>
            </a:r>
            <a:r>
              <a:rPr b="0" lang="en-GB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Giardia lamblia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1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-  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cy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ntamoeba coli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0</a:t>
            </a:r>
            <a:r>
              <a:rPr b="0" lang="es-ES" sz="28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Hepatitis a virus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  -  10  pf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Virulencia: Potencial para causar enferme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TRATAMIENTO DE AGUAS SERV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) Desechos domés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) Desechos industriales (D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.I: Desechos no tóxicos (Industria de alimento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.I. Desechos tóxic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j.: Procesamiento de carbón, fenoles, amonio, cianu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etroquímica, Ind. Farmacéu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tales tóxicos: Cd, Zn, Cu, 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AGUA ES ACEPTABLE PARA BEBER SI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iene menos de 10 bacterias intestinales en cada litro de agua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no presenta mal sabor, olor, color o turbiedad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no contiene impurezas químicas en concentraciones que puedan ser peligrosas para la salud del consumidor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no son corrosivas con respecto al sistema de conducción del agua, 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no proviene de sistemas acuíferos sujetos a contaminación por aguas negras u otros contaminantes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efecto más perjudicial del agua contaminada ha sido la transmisión de enfermedades por microorganismos que pueden habitar en ella. Por ejemplo: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a fiebre tifoidea causada por la bacteria Salmone lla typhi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l cólera  causada por la bacteria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brio cholerae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a disentería provocada por parásitos como las amebas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amoeba histolítica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la bacteria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gella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a gastroenteritis causada por virus, bacterias y protozoarios,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a hepatitis infecciosa causada por el virus de la hepatitis y la poliomielitis causada por el virus de la poliomieli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brio cholera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vibriocole" descr=""/>
          <p:cNvPicPr/>
          <p:nvPr/>
        </p:nvPicPr>
        <p:blipFill>
          <a:blip r:embed="rId1"/>
          <a:stretch/>
        </p:blipFill>
        <p:spPr>
          <a:xfrm>
            <a:off x="2971800" y="2057400"/>
            <a:ext cx="4172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amoeba histolí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amoeba" descr=""/>
          <p:cNvPicPr/>
          <p:nvPr/>
        </p:nvPicPr>
        <p:blipFill>
          <a:blip r:embed="rId1"/>
          <a:stretch/>
        </p:blipFill>
        <p:spPr>
          <a:xfrm>
            <a:off x="1816200" y="1981080"/>
            <a:ext cx="5510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IPOS DE TRATAMIENTO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RA AGUAS SERVID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Tratamientos </a:t>
            </a:r>
            <a:r>
              <a:rPr b="0" lang="es-ES" sz="2800" spc="-1" strike="noStrike" u="sng">
                <a:solidFill>
                  <a:srgbClr val="003399"/>
                </a:solidFill>
                <a:uFillTx/>
                <a:latin typeface="Arial Unicode MS"/>
                <a:ea typeface="Arial Unicode MS"/>
              </a:rPr>
              <a:t>físicos o primarios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: separación, sedimentación, filtración, flo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0" lang="es-ES" sz="2800" spc="-1" strike="noStrike" u="sng">
                <a:solidFill>
                  <a:srgbClr val="003399"/>
                </a:solidFill>
                <a:uFillTx/>
                <a:latin typeface="Arial Unicode MS"/>
                <a:ea typeface="Arial Unicode MS"/>
              </a:rPr>
              <a:t>ratamientos biológicos o secundarios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: degradan la materia orgánica</a:t>
            </a:r>
            <a:r>
              <a:rPr b="0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0" lang="es-ES" sz="2800" spc="-1" strike="noStrike" u="sng">
                <a:solidFill>
                  <a:srgbClr val="003399"/>
                </a:solidFill>
                <a:uFillTx/>
                <a:latin typeface="Arial Unicode MS"/>
                <a:ea typeface="Arial Unicode MS"/>
              </a:rPr>
              <a:t>ratamientos químicos o terciarios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: desinfección, adsorción, precipitación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  <a:ea typeface="Arial Unicode MS"/>
              </a:rPr>
              <a:t> Contaminación del agua por microorganismos patógenos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cc00"/>
                </a:solidFill>
                <a:latin typeface="Comic Sans MS"/>
                <a:ea typeface="Arial Unicode MS"/>
              </a:rPr>
              <a:t>     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-</a:t>
            </a:r>
            <a:r>
              <a:rPr b="0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        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-</a:t>
            </a:r>
            <a:r>
              <a:rPr b="0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       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TRATAMIENTOS BIOLÓGIC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. Secundari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L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gunas de est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rocesos de lodos activ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U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o de filtros por goteo (lombrifiltr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. terciacios:  se utilizan para eliminar nutrientes, DBO, patógenos, parásitos y sustancias  tóx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O DE LODOS ACTIVAD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s un tratamiento aeróbico mediante el cuál se oxida la materia orgánica a CO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2,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, H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O  y NH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4</a:t>
            </a:r>
            <a:r>
              <a:rPr b="0" lang="es-ES" sz="32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e introduce el aire mediante aireación  mecán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Las células forman flóculos que sedimentan en un tanque clarificador, una parte de estas se desechan, las otras regresan al tanque de aire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8001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IREACIÓN EN UNA PLANTA DE LODOS ACTIV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1629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Arial Unicode MS"/>
                <a:ea typeface="Times New Roman"/>
              </a:rPr>
              <a:t>TRATAMIENTO DE AGUAS SERV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ntaminan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rgánicos  biodegrad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rgánicos volat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rgánicos recalcitr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utrientes (N y 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ólidos suspend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atógenos microbi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arási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O DE LODOS ACTIV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dad del lodo: tiempo de residencia media de los M.O. en el sistema puede ser dias (5-15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 = 1/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Depende de la época del a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odificaciones a este sistema permiten una mayor oxidación de la materia orgá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IOLOGÍA DE LODOS ACTIVAD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os mayores objetivo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1)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 O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xidación de la materia orgánica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bio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2)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  F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oculación (separación de la bioma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odos contienen tanto bacterias como materia orgánica e inorgán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artículas &lt; 1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-- 1.000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élulas viables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5 – 2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(se piensa también 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1 – 3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IOLOGÍA DE LODOS ACTIVAD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Bacte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onstituyen la mayor parte de los flóculos,  aproximadamente unas 300 cepas difer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oducen polisacáridos y materiales polimér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Géneros mas abund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Zooglea, Pseudomonas, Flavobacterias, Alcaligenes, Achromobacter, Corynebacterias,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netobacter, etc.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IOLOGÍA DE LODOS ACTIVAD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uchos M.O. filamentos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l nivel de aeróbicos decrece en la medida que el flóculo crece por problemas de difusión de oxi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Región interna del flóculo llega a ser anaerób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Aeróbicos totales 10</a:t>
            </a:r>
            <a:r>
              <a:rPr b="1" lang="es-ES" sz="2800" spc="-1" strike="noStrike" baseline="30000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 UFC / mg de lo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Zooglea ramigera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produce exopolímeros, se encuentra en aguas servidas y en otros ambientes, 0.1-1% del total de M.O. en  estos procesos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Zooglea ramig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416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IOLOGÍA DE LODOS ACTIV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Bacterias Nitrific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itrobact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                       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H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4</a:t>
            </a:r>
            <a:r>
              <a:rPr b="1" lang="es-ES" sz="32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+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O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</a:t>
            </a:r>
            <a:r>
              <a:rPr b="1" lang="es-E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NO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32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itrosomo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                       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O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32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-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O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</a:t>
            </a:r>
            <a:r>
              <a:rPr b="1" lang="es-E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 NO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3</a:t>
            </a:r>
            <a:r>
              <a:rPr b="1" lang="es-ES" sz="32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ambién se encuentran varias especies que oxidan compuestos reducidos de azuf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ÍA DE LODOS ACTIV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Hon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Ocasionalmente en los lodos crecen a pH bajos, baja toxicidad y desechos deficientes en nitróge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rotozo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redadores en los lodos:  ciliados, flagelados, ameb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REMOCIÓN DE NUTRIENT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itrógeno : por métodos químicos o por métodos biológ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or Nitrificacion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Desnitrificacion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N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  Procesos aeróbico y anaerób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Usan varios tan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Fósforo: por métodos químicos o por métodos biológ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étodos químicos, precipitación con Fe o Al</a:t>
            </a:r>
            <a:r>
              <a:rPr b="1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</a:t>
            </a:r>
            <a:r>
              <a:rPr b="1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REMOCIÓN DE PATÓGEN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Aireación y sedimentación afectan a M.O. patógenos y parási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Factores ambientales: luz, pH, M.O. antagón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Formación de flócu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Parásitos se aglomeran en el flócu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80 – 99% de los M.O. indicadores son removidos.  Bacterias son fagocitadas por protozoos y adsorbidas en el flóculo.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REMOCIÓN DE PATÓGE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Virus  &gt; 90% se asocia a sólidos, pueden también ser inactivados por bacterias y por ingestión por protozoos y nemáto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otozo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o son inactivados, pero floculan y sedimentan pasando a los lodos (concentrad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STRIBUCIÓN DEL C ORGÁNICO EN AGUAS SERV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848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OBLEMAS QUE PRESENTAN ESTAS PLANT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Relacionados con la separación de sólidos activ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recimiento disperso: los M.O. no forman flóculos, el efluente se ve turb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asa viscosa: mucho material extracelular,             se reduce velocidad de decantación y compac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ara la formación de un flóculo normal debe haber un balance entre bacterias floculantes y bacterias  filamentosas para mantener la integridad del flócu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LAGUNAS DE ESTABILIZACIÓN O LAGUNAS DE TRATAMIENT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utilizan en grandes extensiones de terreno,  de bajo precio y son el sistema mas antiguo y económico para tratar las aguas servi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gunas facult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gunas aerób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gunas muy aire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gunas anaerób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gunas de madu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07880" y="293760"/>
            <a:ext cx="832644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urier New"/>
                <a:ea typeface="Arial Unicode MS"/>
              </a:rPr>
              <a:t>LAGUNAS FACULTATIVA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Tienen una profundidad de 1-2.5 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Pueden ser aeróbicas y anaerób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El agua permanece entre 5-30 dí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on económicas y fáciles de operar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ACTIVIDAD EN LA ZONA FOTIC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Algas verdes y algas verde az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roductividad de 10-66 g de algas /m</a:t>
            </a:r>
            <a:r>
              <a:rPr b="0" lang="es-ES" sz="3200" spc="-1" strike="noStrike" baseline="30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/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Clamydomo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ugl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cenedesm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Oscillat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u prevalencia depende de la luz, T, nutrientes y g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ACTIVIDAD EN LA ZONA FÓ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ezclado es importante para la manutención de las condiciones aerób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lgas consumen N y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H aumenta  con la fotosíntesis lo que ayuda a precipitación de fosf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O</a:t>
            </a:r>
            <a:r>
              <a:rPr b="1" lang="en-GB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3</a:t>
            </a:r>
            <a:r>
              <a:rPr b="1" lang="en-GB" sz="32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=</a:t>
            </a:r>
            <a:r>
              <a:rPr b="1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H</a:t>
            </a:r>
            <a:r>
              <a:rPr b="1" lang="en-GB" sz="32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+</a:t>
            </a:r>
            <a:r>
              <a:rPr b="1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</a:t>
            </a:r>
            <a:r>
              <a:rPr b="1" lang="es-E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HCO</a:t>
            </a:r>
            <a:r>
              <a:rPr b="1" lang="en-GB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3</a:t>
            </a:r>
            <a:r>
              <a:rPr b="1" lang="en-GB" sz="32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-</a:t>
            </a:r>
            <a:r>
              <a:rPr b="1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H</a:t>
            </a:r>
            <a:r>
              <a:rPr b="1" lang="en-GB" sz="3200" spc="-1" strike="noStrike" baseline="30000">
                <a:solidFill>
                  <a:srgbClr val="003399"/>
                </a:solidFill>
                <a:latin typeface="Times New Roman"/>
                <a:ea typeface="Arial Unicode MS"/>
              </a:rPr>
              <a:t>+</a:t>
            </a:r>
            <a:r>
              <a:rPr b="1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</a:t>
            </a:r>
            <a:r>
              <a:rPr b="1" lang="en-GB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CO</a:t>
            </a:r>
            <a:r>
              <a:rPr b="1" lang="en-GB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H</a:t>
            </a:r>
            <a:r>
              <a:rPr b="1" lang="en-GB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H: 9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H:7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H: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.O. que oxidan H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 import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úmero de algas y bacterias fotosintéticas disminuye con el aumento de la car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ACTIVIDAD EN LA ZONA HETEROTRÓF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 mas importante en la degradación de la materia orgá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Hongos y protozoos parecen menos impor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ateria Orgánica + O</a:t>
            </a:r>
            <a:r>
              <a:rPr b="1" lang="en-U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</a:t>
            </a:r>
            <a:r>
              <a:rPr b="1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CO</a:t>
            </a:r>
            <a:r>
              <a:rPr b="1" lang="en-U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otros nutrientes que serían usados por al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élulas de bacterias muertas y de algas se van al fondo, sufriendo degradac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ACTIVIDAD EN LA ZONA HETEROTRÓF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o el Carbono presente en la materia orgánica se transforma 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 oxidación completa aerób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r respirac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masa que sedime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urier New"/>
                <a:ea typeface="Arial Unicode MS"/>
              </a:rPr>
              <a:t>ACTIVIDAD DEL ZOOPLANCT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e nutre entre otros de bacterias y algas, controlando sus pobl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Aumentando o disminuyendo turbidez del 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CTO DE LA TEMPERATURA SOBRE LA OPERACIÓN DE LAS LAGUNA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fecta en la fotosíntesis y a los heterótrofos aeróbicos y anaerób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or debajo de 15ºC no se produce la reducción del Carbono y generación  de CH</a:t>
            </a:r>
            <a:r>
              <a:rPr b="1" lang="en-U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4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on frío no hay fotosíntesis y no se produce oxigeno, por lo tanto no se produce degradación 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OBJETIVOS DE LOS PROCESOS DE TRAT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e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ducir el contenido orgánico (DBO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5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moción de nutr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Remoción o inactivación de M.O. y    parásitos patóge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Todo el carbono orgánico particulado (60%) se puede separar por sedimen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CIÓN DE SÓLIDOS SUSPENDID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N(40-80%)  </a:t>
            </a:r>
            <a:r>
              <a:rPr b="0" lang="es-E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 bacterias nitrificantes y desnitrific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e volatiliza NH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  +  Al  o  Fe  </a:t>
            </a:r>
            <a:r>
              <a:rPr b="0" lang="es-E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fosfatos insolubles  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(len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OS TIPOS DE LAGUNA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Lagunas aerób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rofundidad : 0.3 – 0.5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Tiempo de residencia 3-5 d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Las aguas son mezcladas para permitir penetración de la lu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OS TIPOS DE LAGUN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gunas aire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ofundidad 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6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iempo de residencia 10 dí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utiliza para desechos domést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on aireadas con difus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 puede disminuir en 85% la DB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  <a:ea typeface="Arial Unicode MS"/>
              </a:rPr>
              <a:t>5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en 5 d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OS TIPOS DE LAGUN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gunas anaeróbic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ofundidad : 2.5 -  9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iempo de residencia: 20 – 50 d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ara desechos orgánicos de alta DBO, conteniendo proteínas y grasas, sóli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ateria  orgánica  </a:t>
            </a:r>
            <a:r>
              <a:rPr b="0" lang="es-ES" sz="3200" spc="-1" strike="noStrike">
                <a:solidFill>
                  <a:srgbClr val="003399"/>
                </a:solidFill>
                <a:latin typeface="Symbol"/>
                <a:ea typeface="Symbol"/>
              </a:rPr>
              <a:t></a:t>
            </a: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CH</a:t>
            </a:r>
            <a:r>
              <a:rPr b="0" lang="en-GB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4</a:t>
            </a: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+ CO</a:t>
            </a:r>
            <a:r>
              <a:rPr b="0" lang="en-GB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+ H</a:t>
            </a:r>
            <a:r>
              <a:rPr b="0" lang="en-GB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0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 + NH</a:t>
            </a:r>
            <a:r>
              <a:rPr b="0" lang="en-GB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No requieren aireación y generan pocos lodos, se detiene a 10ºC. De uso industr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OS TIPOS DE LAGUN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Lagunas terciarias o de madur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ofundidad : 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1-2</a:t>
            </a: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iempo de residencia: 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20 d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u rol es disminuir DBO, los sólidos  suspendidos y nutrientes, e inactivar patógen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CIÓN DE PATÓGEN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rían responsables la temperatura, el pH, luz solar, acción lítica de bacteriófagos, predación, adherencia a sólidos decant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uerte de E. coli aumenta con la T, tiempo de retención, pH decrece con un aumento de la DBO</a:t>
            </a:r>
            <a:r>
              <a:rPr b="1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5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y con la profundidad de la lagu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ireación, compuestos extracelulares de algas</a:t>
            </a:r>
            <a:r>
              <a:rPr b="0" lang="es-E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OSIBLES EXPLICACIONES PARA LA REMOCIÓ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argo tiempo de retención usado en estas lagun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lto pH generado por la fotosíntesis y su relación con aguas tampona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redación por zooplan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fecto inactivante de la luz solar.  UV</a:t>
            </a:r>
            <a:r>
              <a:rPr b="1" lang="en-GB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(280-320 mm) destruye las bacterias coliformes.  I</a:t>
            </a: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mportante en la superfic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ltas concentraciones de oxíg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OCIÓN DE VIRUS O INACTIV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emperatura y radiación solar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n verano en 5 dias el número disminuye 2 logaritmos, en invierno requiere 25 dí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Virus se pueden absorber en sólidos y sedimentar, manteniéndose por mucho tiemp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gitación del sedimento ayuda a resuspender virus y bacterias patóge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ZO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u remoción varia de 67 – 100% en lagunas  aire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Por esto los lodos contienen M.O. patógenos, protozoos y huevos de parási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os lodos deben ser tra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Se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n digestores anaerób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ratados quím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Alrededor de 1/5 del lodo es mantenido como inóculo para un nuevo proce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TINO DE LOS LO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Lodos provenientes de los tratamientos primario y secundario son tratados por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digestión anaeróbica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la que descompone la materia orgánica a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metano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l lodo no digerido (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estabilizado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) presenta problemas de dis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j. en EEUU a partir de 20.000 plantas de tratamiento de aguas servidas se generan 5-10 millones de ton. secas / año, esta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quemados o enterrados, algo se seca y se aplica como fertilizante. (quedan algunos virus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OBJETIVOS DE LOS PROCESOS DE TRAT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odo el carbono orgánico particulado (60%) se puede separar por sedi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res test se utilizan para determinación de carbono orgánico en aguas servid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DBO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5,</a:t>
            </a: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,   C O T  ,  y   DQO o C O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 </a:t>
            </a:r>
            <a:r>
              <a:rPr b="0" lang="es-ES" sz="32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Trazas de orgánicos se determinan por cromatografía y espectrografía de masa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AL DEL PROC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M.O. patógenos disminuyen muy fuertemente al final del tratamiento secundario, son superados por los otros M.O. por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 Unicode MS"/>
                <a:ea typeface="Arial Unicode MS"/>
              </a:rPr>
              <a:t>selección natu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Los efluentes secundarios son usados por algunas comunidades para irrigar cosechas, ya que contienen grandes cantidades de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 Unicode MS"/>
                <a:ea typeface="Arial Unicode MS"/>
              </a:rPr>
              <a:t>fósforo y N,</a:t>
            </a: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que se usan como fertilizantes y los M.O. ambientales digieren el resto de las soluciones orgán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Tratamiento terciario elimina completamente la DBO y son procesos físicos y químicos que producen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 Unicode MS"/>
                <a:ea typeface="Arial Unicode MS"/>
              </a:rPr>
              <a:t>agua limpia</a:t>
            </a: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TAMIENTO DE AGUAS POR EL SISTEMA TOH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sistema consta de 2 etap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n la primera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l agua residual escurre por gravedad a través de un biofiltro constituído por 4 capas de diversos materiales y que contiene micro y macroorganismos. Aquí se absorbe y procesa la materia orgán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 la segunda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tapa del tratamiento, el efluente es derivado a una cámara de irradiación ultravioleta en donde se logra la eliminación de las bacterias patógenas en menos de 1 minu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TEMA CON BIOFILTR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6705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TOH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ACTERÍSTICAS ESPECIAL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 tratamiento global del agua servida, no habiendo tratamientos primarios, secundarios ni terciar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formación de lodos, ya que la materia orgánica es consum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tratamiento se hace en un soporte sólido, implica menos espa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biofiltro no se satura, debido a la acción de micro y macroorganism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TOH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ACTERÍSTICAS ESPECIAL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ecológico porque no usa aditivos químicos no se producen residuos contaminantes, hay muy poco consumo de energía.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eficiente porque se alcanza un alto grado de purificación con una remoción de hasta 96% de DBO y sólidos suspend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necesita poco espacio:  el agua servida de 5 personas requiere solo 2m</a:t>
            </a:r>
            <a:r>
              <a:rPr b="1" lang="es-E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biofiltro para su trat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económico porque los costos de construcción y mantenimiento son menores que en los sistemas tradicionales y el agua puede ser re-utilizada inmediatamente para regadí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OLUCIÓN DE LA CARGA MICROBIANA POR TRATAMIENTO CON LUZ ULTRAVIOL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543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MANDA BIOQUÍMICA DE OXIGENO DBO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Es la cantidad de oxigeno disuelto consumido por M.O. para oxidación bioquímica de orgán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 </a:t>
            </a:r>
            <a:r>
              <a:rPr b="1" lang="es-ES" sz="28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DBO</a:t>
            </a:r>
            <a:r>
              <a:rPr b="1" lang="es-ES" sz="2800" spc="-1" strike="noStrike" u="sng" baseline="-30000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5</a:t>
            </a:r>
            <a:r>
              <a:rPr b="1" lang="es-ES" sz="2800" spc="-1" strike="noStrike" u="sng">
                <a:solidFill>
                  <a:srgbClr val="003399"/>
                </a:solidFill>
                <a:uFillTx/>
                <a:latin typeface="Times New Roman"/>
                <a:ea typeface="Arial Unicode MS"/>
              </a:rPr>
              <a:t> carbó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antidad de oxigeno utilizada por una población heterotrófica de M.O. que oxidan compuestos orgánicos en la obscuridad a 20ºc por 5 dí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                           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heterótrof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Comp. Org. + O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 </a:t>
            </a:r>
            <a:r>
              <a:rPr b="1" lang="es-ES" sz="2800" spc="-1" strike="noStrike">
                <a:solidFill>
                  <a:srgbClr val="003399"/>
                </a:solidFill>
                <a:latin typeface="Symbol"/>
                <a:ea typeface="Symbol"/>
              </a:rPr>
              <a:t>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CO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 H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2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O  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	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+ NH</a:t>
            </a:r>
            <a:r>
              <a:rPr b="1" lang="es-ES" sz="2800" spc="-1" strike="noStrike" baseline="-30000">
                <a:solidFill>
                  <a:srgbClr val="003399"/>
                </a:solidFill>
                <a:latin typeface="Times New Roman"/>
                <a:ea typeface="Arial Unicode MS"/>
              </a:rPr>
              <a:t>4</a:t>
            </a:r>
            <a:r>
              <a:rPr b="1" lang="es-ES" sz="28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  + bio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MOCIÓN DE CARBONO ORGÁN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4" marL="18309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protozo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Biom. bacterias + O</a:t>
            </a:r>
            <a:r>
              <a:rPr b="0" lang="es-ES" sz="3200" spc="-1" strike="noStrike" baseline="-25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 </a:t>
            </a:r>
            <a:r>
              <a:rPr b="0" lang="es-ES" sz="32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Times New Roman"/>
              </a:rPr>
              <a:t> B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iom.Protoz.+ 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CO</a:t>
            </a:r>
            <a:r>
              <a:rPr b="0" lang="es-ES" sz="3200" spc="-1" strike="noStrike" baseline="-30000">
                <a:solidFill>
                  <a:srgbClr val="003399"/>
                </a:solidFill>
                <a:latin typeface="Arial Unicode MS"/>
                <a:ea typeface="Arial Unicode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Conversión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	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0.78mg protoz/1mg bacte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MOCIÓN DEL CARBONO ORGÁN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829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5T05:21:58Z</dcterms:created>
  <dc:creator>Blanca Escobar</dc:creator>
  <dc:description/>
  <dc:language>en-US</dc:language>
  <cp:lastModifiedBy>Blanca Escobar</cp:lastModifiedBy>
  <dcterms:modified xsi:type="dcterms:W3CDTF">2007-09-06T17:38:04Z</dcterms:modified>
  <cp:revision>37</cp:revision>
  <dc:subject/>
  <dc:title> TRATAMIENTO DE AGUAS SERVIDAS</dc:title>
</cp:coreProperties>
</file>