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DF3-F0DD-483B-91F0-06143B5D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898-5F52-4556-9B21-78BEC74A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783-0DE1-4F64-A7D3-6FE6EF01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041-3BB6-44DD-831A-5AE871A1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797-C055-4149-BD95-2621E4F9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822-46D5-4A9C-B382-B063D3DF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DC1-C9B3-42A5-A658-8843D8D0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403-75C2-4882-AF53-6F980E86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D42-FBCC-40AF-8E4A-314A6E9C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7E7-EADB-435F-AEE0-11554089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719-0A6E-485D-B8D5-47AE4C0D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4D4-D80E-4C3A-BDF5-DFD7BEED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AA94-D702-4B27-AA35-ECDB9F56C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CIÓN DE AGUAS ÁCI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FESORA BLANCA ESCOBAR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l potencial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de oxidación se mantiene, se producirá la oxidación de Fe(II) a Fe(III), consumiendo parte de la acidez produc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Reacción espontánea a pH superiores 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ón espontánea a pH superiores a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eacción espontánea a pH superiores + 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ón  catalizada por 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4Fe+3  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EEs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c) + 4H+   </a:t>
            </a:r>
            <a:r>
              <a:rPr b="0" lang="el-GR" sz="32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0" lang="el-GR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 + 2H</a:t>
            </a:r>
            <a:r>
              <a:rPr b="0" lang="el-GR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BACTERIAS PUEDEN HACER ESTA REAC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acterias involucrad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Otras e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 pH superiores a 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3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Fe(OH)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s)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H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demás el Fe(III) oxidará la pirita segú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SO4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Fe(II) resultante será nuevamente oxidado a Fe(III), el que a su vez puede oxidar más pirita (autocatális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oxígeno molecular en el agua sirve como el agente oxidante en las reacciones de oxidación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Azufre elemental puede ser oxidado por bacteria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 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½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 +H</a:t>
            </a:r>
            <a:r>
              <a:rPr b="0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é b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cteri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n hacer esta reacción?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Acidithiobacillu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Acidithiobacillu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thi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tras e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ulfuros metálicos (MeS), pueden contribuir a la disolución de iones metálicos (Me: Fe, Zn, Cd, Pb, Cu, Ni, et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bacterias también pueden cataliz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s reacciones haciéndolas más rápida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resumen, de las reacciones importantes en la generación de acidez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4Fe+3 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oxidación de Fe(II) no requiere la participación de bacterias, pero si ellas se encuentran presentes, esta reacción puede ser 10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veces más ráp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S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 ½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 +H</a:t>
            </a:r>
            <a:r>
              <a:rPr b="0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oxidación de azufre sólo se produce en presencia de bacteri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ulfuros metálicos (MeS), pueden contribuir a la disolución de iones metálicos (Me: Fe, Zn, Cd, Pb, Cu, Ni, et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bacterias también pueden cataliz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s reacciones haciéndolas más rápida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HIDRÓLISIS DE IONES METÁL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os iones metálicos pueden generar acidez protónica, si el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e hidroliza, de acuerd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 Me(OH)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(s)  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Por lo tanto, los iones metálicos pueden produc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Iones hidrógen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por hidrólisis (pH superiores, y disminuyendo el p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aminació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i se disuelven (pH entre 4.5 a 7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ESENCIA DE ARSENOPI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arsenopirita se encuentra presente se oxidará directa o indirectam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AsS(s)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 1/2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HAs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AsS(s)+ 2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4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4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pueden ser procesos catalizados biológ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FECTO DE LA TEMPERATURA EN LA VELOCIDAD DE OXIDACIÓN BIOLÓGICA Y QUÍMICA DE LA PI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g1" descr=""/>
          <p:cNvPicPr/>
          <p:nvPr/>
        </p:nvPicPr>
        <p:blipFill>
          <a:blip r:embed="rId1"/>
          <a:stretch/>
        </p:blipFill>
        <p:spPr>
          <a:xfrm>
            <a:off x="2481120" y="1981080"/>
            <a:ext cx="418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QUÉ CARACTERÍSTICAS PRESENTAN LAS AGUAS ÁCIDA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aguas ácidas present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es de pH por debajo de 7 hasta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calinidad decreciente y acidez cre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ulf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metales (disueltos o tot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ólidos disueltos to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FECTO DEL PH EN LA VELOCIDAD DE OXIDACIÓN BIOLÓGICA DE LA PI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2" descr=""/>
          <p:cNvPicPr/>
          <p:nvPr/>
        </p:nvPicPr>
        <p:blipFill>
          <a:blip r:embed="rId1"/>
          <a:stretch/>
        </p:blipFill>
        <p:spPr>
          <a:xfrm>
            <a:off x="2270160" y="1981080"/>
            <a:ext cx="460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NEUTRALIZACIÓN DEL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inerales consumidores de ácido, como carbonatos, usualmente coexisten con los sulfuros. Estos reaccionarán con el ácido neutralizando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 calcita dará la siguiente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2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 Ca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ácido carbónico es inestable y se descompone dan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H 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    pH&gt;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+ 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pH&lt;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concentraciones de estas especies dependen del pH y las respectivas constantes de acidez del ácido carbón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ÓN DE ALUMINOSILIC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os aluminosilicatos, como los K-feldespatos reaccionarán, consumiendo iones hidrógeno, liberando Al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y ácido silícico (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 medida que el ácido se consume el pH aumenta y los iones metálicos comienzan a precipitar en forma de hidróxidos, produciendo nuevamente iones hidró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ÓN DE ALUMINOSILIC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lt;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4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 pH &lt; 4.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KAlSi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4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Al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3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 pH &gt; 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KAlSi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7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Al(OH)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+  3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4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+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gt; 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7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(OH)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 + 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lt;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4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4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+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TRAS REA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Fe(III) puede precipitar a pH superiores a 2 en forma de sulfatos básicos o jarosi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 el tiempo, las características del drenaje pueden cambiar, de ligeramente alcalino hasta casi neutro y finalmente ácido.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-2 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Fe 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+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3F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2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-2 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7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(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)Fe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) (OH)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+ 5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Fe (OH)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7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)Fe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) (OH)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drenaje ácido de minas se observa como un proceso en tres etapas, definidas por el pH del agua en el microambiente de los minerales sulfur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tapa I,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e genera acidez y rápidamente se neutraliza en las etapas iniciales. El drenaje de agua es casi  neu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apa II,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continúa la generación de ácido y se agotan los minerales carbonatados, el pH del agua disminuye y el proceso se encamina hacia su segunda etapa.  Bajo pH 4.5  ocurren reacciones de oxidación (químicas y biológica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apa III,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medida que los minerales alcalinos se consumen, se produce acidez a mayor velocidad que el consumo, por lo que el pH continua disminuyend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genera acidez y rápidamente se neutraliza en las etapas iniciales cuando la roca que contiene minerales sulfurados es expuesta al oxígeno y al agua. El drenaje de agua es casi neu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fundamentalmente un período de oxidación química. El oxígeno es el oxidante principal, al producir sulfato y acidez a partir de la oxidación de los minerales sulfurad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minerales carbonatados, como la calcita (CaCO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resente en la roca, neutralizan esta acidez y mantienen condiciones que van de neutras a alcalinas (pH &gt;7) en el agua que fluye desde la ro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oxidación química del hierro ferroso es rápida a un pH igual o superior a 7 y el hierro férrico se precipita de la solución como un hidróxi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velocidad de oxidación química de la pirita es relativamente baja, comparada con las etapas posteriores de oxidación, ya que el hierro férrico no contribuye como oxid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el agua de drenaje se caracteriza generalmente por niveles elevados de sulfato, con pH cercano al neutr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é son las aguas ácid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agu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e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 producen com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resultado de la oxidación química y biológica de sulfuros metálicos, especialmente pirita o pirrotita, que s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n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tr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presentes o formando parte de  botaderos, relaves, basuras municipal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oxidación se produce cuando las rocas conteniendo sulfuros son expuestas al aire y al a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continúa la generación de ácido y se agotan o se vuelven inaccesibles los minerales carbonatados, el pH del agua disminuye y el proceso se encamina hacia su segunda etapa.  Cuando el pH del microambiente disminuye por debajo de 4,5  ocurren reacciones de oxidación tanto químicas como biológic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la velocidad de generación de ácido se acelera en las etapas II y III, el pH disminuye progresiva y grad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niveles de pH relativamente constantes representan la disolución de un mineral neutralizante que se vuelve soluble a ese nivel de 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la oxidación continúa hasta que se haya agotado todo el potencial de neutralización, se presentarán valores de pH alrededor de 2.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estos  pH el Fe(III) no precipitará como hidróxido y por lo tanto se mantendrá en solución, actuando en las reacciones de oxidación indirec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los minerales alcalinos se consumen, se produce acidez a mayor velocidad que alcalinidad, el pH se vuelve áci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acciones dominantes se transforman de oxidación química a principalmente oxidación biológicamente catalizad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as reacciones de oxidación sulfurosa, se produce hierro ferroso, que se oxida biológicamente y se convierte en hierro férrico.  Este, a su vez, reemplaza el oxígeno como el oxidante princip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la velocidad de oxidación es considerablemente más rápida que en la Etapa 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descenso del pH incrementa la velocidad de oxidación con un aumento de velocidades de 10 a un millón de veces más que aquéllas generadas por oxidación químic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el agua de drenaje es generalmente ácida, caracterizada por sulfatos y metales disueltos en concentraciones elevadas.  El hierro disuelto se presenta como hierro ferroso y fér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algún momento en el futuro, décadas y –posiblemente- siglos después del inicio de la generación de estos ácidos, la velocidad disminuirá con la oxidación completa de los sulfuros más reactivos y el pH se incrementará hasta que la roca se torne sólo ligeramente reactiva y el pH del agua de drenaje no sea afec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tiempo para cada etapa sucesiva puede variar de un período de días a cientos de años, dependiendo de los factores que controlen la generación de á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QUÉ CARACTERÍSTICAS PRESENTAN LAS AGUAS ÁCIDA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aguas ácidas present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es de pH por debajo de 7 hasta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calinidad decreciente y acidez cre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ulf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metales (disueltos o tot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ólidos disueltos to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NTES PRINCIPALES DE GENERACIÓN DE AGUAS Á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otaderos de material estéril (&lt;0.2% Cu). Actualmente en Chile, se generan más de 3.000.000 ton/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otaderos de sulfuros de baja ley (0.2- 0.4% C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laves y eventuales derrames de concentrados. En Chile se generan 650.000 ton/dia de relaves de flo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Zonas fracturadas (cráter) en superficies de minas subterrán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andes rajos de la minería a cielo abi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oceso de generación de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renaje ác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min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M es dependiente del tiempo e involuc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cesos de oxidación (química y biológi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nómenos físicoquímicos (ejemplo: precipit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generación de aguas ácidas es el r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sultado de una serie compleja de reacciones químicas que in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uc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Generación de ácido sulfúrico, debido a 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xidación de los sulfuros por acción combinada de agua y oxígeno. Reacciones autocatalíticas y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y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velocidad es acelerada por actividad bacteri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7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2Fe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nsumo del ácido generado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(neutralización)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por l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mponente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es en el mismo material que son consumidores.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one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an como resultad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precipitación de sulfato de calcio e hidróxidos metálicos, oxi-hidróxidos y otros compue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calcita dará la siguiente reac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s)  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 Ca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la capacidad de consumo de ácido es mas alta que la generación de ácido, es posible que el drenaje sea neutro o alcal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la capacidad de consumo de ácido es ma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ja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que la generación de ácido, es posible que el drenaje se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á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ión química que da cuenta de la generación de ácido sulfúrico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a partir de pirita (sumando ambas reaccion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7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2Fe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Esta reacción produce acide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21:36:03Z</dcterms:created>
  <dc:creator>Blanca Escobar</dc:creator>
  <dc:description/>
  <dc:language>en-US</dc:language>
  <cp:lastModifiedBy>Blanca Escobar</cp:lastModifiedBy>
  <dcterms:modified xsi:type="dcterms:W3CDTF">2007-08-07T22:04:10Z</dcterms:modified>
  <cp:revision>15</cp:revision>
  <dc:subject/>
  <dc:title>GENERACIÓN DE AGUAS ÁCIDAS </dc:title>
</cp:coreProperties>
</file>