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3EF-64CC-4F83-ABEC-2FFFCA16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4E0-6E24-448E-BBBD-6E95152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635-028F-4FA6-AC54-FAD02B25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BB4-2A52-41B5-A60C-30AAA2D2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079-E2AC-47CF-BEEC-FB35A6BE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ED9-8181-43BE-98DE-DD5A02F4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C65-6F1A-4368-9F85-685DDC27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3F9-BA5E-452D-BD62-9FA35147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DFB-DB1B-4447-A92B-0BE7BE4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C9B-031D-4BEE-B0FB-5BC470F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220-113B-42D5-84C8-2AE3F2D1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EB3-99CF-4727-B068-FD86424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EE54-3F6B-479E-8B23-E7BB898A9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DE AGUAS ÁC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ORA BLANCA ESCOBAR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potencial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de oxidación se mantiene, se producirá la oxidación de Fe(II) a Fe(III), consumiendo parte de la acidez produ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Reacción espontánea a pH superiores 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espontánea a pH superiores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eacción espontánea a pH superiores + 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 catalizada por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E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c) + 4H+   </a:t>
            </a:r>
            <a:r>
              <a:rPr b="0" lang="el-GR" sz="32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BACTERIAS PUEDEN HACER ESTA REAC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acterias involucrad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pH superiores a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3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F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H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demás el Fe(III) oxidará la pirita segú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SO4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) resultante será nuevamente oxidado a Fe(III), el que a su vez puede oxidar más pirita (autocatális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oxígeno molecular en el agua sirve como el agente oxidante en las reacciones de oxida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zufre elemental puede ser oxidado por bacteria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é b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cteri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hacer esta reacción?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thi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resumen, de las reacciones importantes en la generación de acid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Fe(II) no requiere la participación de bacterias, pero si ellas se encuentran presentes, esta reacción puede ser 10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veces más ráp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azufre sólo se produce en presencia de bacteri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DRÓLISIS DE IONES METÁ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os iones metálicos pueden generar acidez protónica, si el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e hidroliza, de acuerd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M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Por lo tanto, los iones metálicos pueden produc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es hidrógen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or hidrólisis (pH superiores, y disminuyendo el p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minació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i se disuelven (pH entre 4.5 a 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CIA DE ARSENO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arsenopirita se encuentra presente se oxidará directa o indirect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 1/2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As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+ 2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4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4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pueden ser procesos catalizados biológ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O DE LA TEMPERATURA EN LA VELOCIDAD DE OXIDACIÓN BIOLÓGICA Y QUÍMICA DE LA PI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1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418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DEL PH EN LA VELOCIDAD DE OXIDACIÓN BIOLÓGICA DE LA 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2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NEUTRALIZACIÓN DEL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inerales consumidores de ácido, como carbonatos, usualmente coexisten con los sulfuros. Estos reaccionarán con el ácido neutralizand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ácido carbónico es inestable y se descompone d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   pH&g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+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pH&lt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concentraciones de estas especies dependen del pH y las respectivas constantes de acidez del ácido carbó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os aluminosilicatos, como los K-feldespatos reaccionarán, consumiendo iones hidrógeno, liberando Al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y ácido silícico (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medida que el ácido se consume el pH aumenta y los iones metálicos comienzan a precipitar en forma de hidróxidos, produciendo nuevamente iones hid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lt; 4.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4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gt;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+ 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gt;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 + 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TRAS RE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I) puede precipitar a pH superiores a 2 en forma de sulfatos básicos o jarosi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 el tiempo, las características del drenaje pueden cambiar, de ligeramente alcalino hasta casi neutro y finalmente ácido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Fe 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F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(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)Fe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 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5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 (OH)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)Fe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 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drenaje ácido de minas se observa como un proceso en tres etapas, definidas por el pH del agua en el microambiente de los minerales sulfu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tapa I,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. El drenaje de agua es casi  neu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,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continúa la generación de ácido y se agotan los minerales carbonatados, el pH del agua disminuye y el proceso se encamina hacia su segunda etapa.  Bajo pH 4.5  ocurren reacciones de oxidación (químicas y biológic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I,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medida que los minerales alcalinos se consumen, se produce acidez a mayor velocidad que el consumo, por lo que el pH continua disminuyen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 cuando la roca que contiene minerales sulfurados es expuesta al oxígeno y al agua. El drenaje de agua es casi ne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fundamentalmente un período de oxidación química. El oxígeno es el oxidante principal, al producir sulfato y acidez a partir de la oxidación de los minerales sulfu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minerales carbonatados, como la calcita (Ca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resente en la roca, neutralizan esta acidez y mantienen condiciones que van de neutras a alcalinas (pH &gt;7) en el agua que fluye desde la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química del hierro ferroso es rápida a un pH igual o superior a 7 y el hierro férrico se precipita de la solución como un hidróx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velocidad de oxidación química de la pirita es relativamente baja, comparada con las etapas posteriores de oxidación, ya que el hierro férrico no contribuye como oxid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se caracteriza generalmente por niveles elevados de sulfato, con pH cercano al neutr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son las aguas áci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agu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 producen com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resultado de la oxidación química y biológica de sulfuros metálicos, especialmente pirita o pirrotita, que s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n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resentes o formando parte de  botaderos, relaves, basuras municip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se produce cuando las rocas conteniendo sulfuros son expuestas al aire y al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continúa la generación de ácido y se agotan o se vuelven inaccesibles los minerales carbonatados, el pH del agua disminuye y el proceso se encamina hacia su segunda etapa.  Cuando el pH del microambiente disminuye por debajo de 4,5  ocurren reacciones de oxidación tanto químicas como biológic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a velocidad de generación de ácido se acelera en las etapas II y III, el pH disminuye progresiva y gra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niveles de pH relativamente constantes representan la disolución de un mineral neutralizante que se vuelve soluble a ese nivel d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la oxidación continúa hasta que se haya agotado todo el potencial de neutralización, se presentarán valores de pH alrededor de 2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estos  pH el Fe(III) no precipitará como hidróxido y por lo tanto se mantendrá en solución, actuando en las reacciones de oxidación indirec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os minerales alcalinos se consumen, se produce acidez a mayor velocidad que alcalinidad, el pH se vuelve ác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acciones dominantes se transforman de oxidación química a principalmente oxidación biológicamente catalizad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as reacciones de oxidación sulfurosa, se produce hierro ferroso, que se oxida biológicamente y se convierte en hierro férrico.  Este, a su vez, reemplaza el oxígeno como el oxidante prin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la velocidad de oxidación es considerablemente más rápida que en la Etapa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descenso del pH incrementa la velocidad de oxidación con un aumento de velocidades de 10 a un millón de veces más que aquéllas generadas por oxidación quím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es generalmente ácida, caracterizada por sulfatos y metales disueltos en concentraciones elevadas.  El hierro disuelto se presenta como hierro ferroso y fér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algún momento en el futuro, décadas y –posiblemente- siglos después del inicio de la generación de estos ácidos, la velocidad disminuirá con la oxidación completa de los sulfuros más reactivos y el pH se incrementará hasta que la roca se torne sólo ligeramente reactiva y el pH del agua de drenaje no sea af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tiempo para cada etapa sucesiva puede variar de un período de días a cientos de años, dependiendo de los factores que controlen la generación de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PRINCIPALES DE GENERACIÓN DE AGUA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material estéril (&lt;0.2% Cu). Actualmente en Chile, se generan más de 3.000.000 ton/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sulfuros de baja ley (0.2- 0.4% 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ves y eventuales derrames de concentrados. En Chile se generan 650.000 ton/dia de relaves de flo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Zonas fracturadas (cráter) en superficies de minas subterrá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ndes rajos de la minería a cielo ab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oceso de generación d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enaje 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min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M es dependiente del tiempo e involuc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cesos de oxidación (química y biológ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nómenos físicoquímicos (ejemplo: precipit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generación de aguas ácidas es el 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sultado de una serie compleja de reacciones químicas que in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uc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Generación de ácido sulfúrico, debido a 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xidación de los sulfuros por acción combinada de agua y oxígeno. Reacciones autocatalíticas y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y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velocidad es acelerada por actividad bacter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nsumo del ácido generad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neutralización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por 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mponent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es en el mismo material que son consumidores.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on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n como resultad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precipitación de sulfato de calcio e hidróxidos metálicos, oxi-hidróxidos y otros compue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alta que la generación de ácido, es posible que el drenaje sea neutro o alcal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que la generación de ácido, es posible que el drenaje se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á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ión química que da cuenta de la generación de ácido sulfúrico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a partir de pirita (sumando ambas reaccion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Esta reacción produce acid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1:36:03Z</dcterms:created>
  <dc:creator>Blanca Escobar</dc:creator>
  <dc:description/>
  <dc:language>en-US</dc:language>
  <cp:lastModifiedBy>Blanca Escobar</cp:lastModifiedBy>
  <dcterms:modified xsi:type="dcterms:W3CDTF">2007-08-07T22:04:10Z</dcterms:modified>
  <cp:revision>15</cp:revision>
  <dc:subject/>
  <dc:title>GENERACIÓN DE AGUAS ÁCIDAS </dc:title>
</cp:coreProperties>
</file>