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6088-2C99-41BB-9924-C7870E0DD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EDA3-208A-4502-BDB2-D12B2BBB1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F05D-5A49-4622-A4D2-15C1EAF8B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1605-E463-4864-8BC4-254ECB349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B267-EC88-4032-AC46-9F4AE1A3E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355D-D999-4B37-9DD0-7AD8A61C8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57C0-9BE8-4B85-8633-B4EE5AFF6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EB4E-9279-4D62-B459-8C664E7B0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F11D-17B1-468B-936F-805CD297D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AD6D-0BBF-41AC-9AF1-4AACB426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BD19-8868-42A3-99CB-4B7E892F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5D74-7C94-410F-8CD3-7EE293BF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DBF97-F6E8-4024-8AB5-1F72D70CE4A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N MICROORGANISMOS ACIDÓFIL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l pH en el cuál se desarrollan fluctúa entre 1.5 y 2.5, con pH óptimo que depende de la fuente de energía que estén utilizando, Fe(II) o azufre reduci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¿Qué se obtiene a bajos p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olubilización de sustrat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FeS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 +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Fe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(Fe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ERÓBICOS ESTRICTOS O FACULTATIVO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sí estos M.O. serían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anaerobios facultativ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por lo que serían capaces de oxidar los minerales en ausencia de oxíge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uS + 8Fe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+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u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8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8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ecanismo propue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uS + 2Fe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+3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u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S + 2 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 + 2Fe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+3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+ 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6 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8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S DE LIXIVIACIÓ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ixiviación ác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S +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 consume el ácido, se detiene la reacción y el pH sub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S DE LIXIVI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ixiviación fér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s el mecanismo más efectivo de lixiviación, disuelve los sulfuros metálicos, pero genera una capa de S elemental, que impide que este proceso contin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emás cuando se consume el Fe(III), se detiene la rea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S EN PRESENCIA DE BACTERI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artir de 1960 cuando recién comenzaron estudios biológicos sobre participación de M.O. en lixiviación de minerales sulfurados se consideró que los M.O. actuaban mediante alguno o los dos mecanismos siguien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 DIRE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M.O. se adhieren al sólido, generando un biofilm, luego comienzan a disolver directamente el sulfuro o el S elemental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S  +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3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+ 2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2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ste mecanismo sólo lo ejercen los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.O. capaces de oxidar compuestos reducidos de 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 INDIRE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os M.O. adheridos así como los que se encuentran en solución, en presencia de oxígeno y de H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pueden oxidar el Fe(II) a Fe(III), segú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2Fe 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+1/2 O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+ 2H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2 Fe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O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sta reacción consume H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or lo que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puede producir precipitación de Fe(OH)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s-E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Fe(OH)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+ 3H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 INDIRE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eacción que sería 1.000.000 de veces más rápida que la reacción en ausencia de bacter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Fe(III) es un muy buen oxidante de sulfur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F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Fe(II) resultante de esta reacción puede ser nuevamente oxidado a Fe(III) por las bacterias, así esta cadena de reacciones: oxidación de Fe(II) por bacterias y oxidación de los sulfuros por el Fe(III)  puede continuar dando lugar a la disolución de los sulfuros metálicos mediante la 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cción indirecta de los M.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ACCIONES ASOCIADAS A LOS PROCESOS DE BIOLIXIVI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1. Lixiviación férrica (producto de la acción bacteriana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F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. Consumo de ácido por oxidación de Fe(I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. Precipitación de Fe(OH)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y generación de ácido asociada a esta rea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. Oxidación de S y generación d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CANISMOS DE ACCIÓN DE ALGUNOS MICROORGANIS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ecanismo Directo: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Acidithiobacillus ferrooxida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Acidithiobacillus thiooxida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tros M.O. con capacidad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e oxidar compuestos de S reduci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ecanismo Indire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Acidithiobacillus ferrooxid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eptospirillum ferrooxid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tros M.O. con capacidad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e oxidar Fe(I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UEVOS MECANISM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studios realizados a partir de 1995, por W. Sand han determinado o demostrado que el mecanismo directo de oxidación de sulfuros no existiría. Es decir, no existirían mecanismos en ausencia de Fe(III), para disolución de sulfu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c. Glucurónico de los LPS de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At. ferrooxidan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se uniría a Fe(III) formando complejos los cuales se encontrarían en el biofilm que producen las células al adherirse al mineral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N MICROORGANISMOS ACIDÓFIL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antención de sustratos en forma solu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 más alto pH menor cantidad de Fe(II) disponible por precipitación de Fe(OH)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, por la oxidación del Fe(II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2Fe 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+1/2 O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+ 2H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2 Fe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O  (químic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s-E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Fe(OH)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+ 3H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 partir de pH 1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UEVOS MECANISM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s células que no contienen LPS no pueden adherirse al mineral y tampoco pueden disolver los sulfur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élulas  + Mineral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herencia (L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acuerdo a esta teoría células crecidas en S no se adhieren a pirita (Fe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y tampoco la oxidarí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UEVOS MECANISM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roposición de W. Sand en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e acuerdo a estudios cristalográficos de los sulfuros metálicos, existirían dos grupos de sulfur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ulfuros constituídos por cristales que pueden ser solubilizados sólo por Fe(III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ulfuros constituídos por cristales que pueden ser solubilizados por Fe(III) y H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S PROPUESTOS POR W. S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canismo del tiosulfat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os sulfuros que serían disueltos sólo por Fe(III) serían FeS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MoS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WS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y un producto intermedio importante sería el tiosulf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n este mecanismo de lixiviación química y bacteriana, a partir del sulfuro se produce tiosulfato, tetrationato y sulfato como producto fi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FeS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+  Fe 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Fe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+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–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2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n presencia de oxígen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 DEL TIOSULFA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449440" y="1981080"/>
          <a:ext cx="42433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49440" y="1981080"/>
                    <a:ext cx="42433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canismo del polisulfu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os sulfuros que serían disueltos por Fe(III) y H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serían CuFeS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CuS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y un producto intermedio importante sería el polisulfu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n este mecanismo de lixiviación química y bacteriana, a partir del sulfuro se produce polisulfuro, S elemental y sulfato como producto fi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uFeS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+ Fe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Cu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F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+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2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n presencia de oxígen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S PROPUESTOS POR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. S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 DEL POLISULFU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314440" y="1981080"/>
          <a:ext cx="45133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4440" y="1981080"/>
                    <a:ext cx="45133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UEVOS MECANISM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roposición de H. Tributsch en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 partir de estudios de microscopia electrónica se ha demostrado que para que se produzca la oxidación del sulfuro es necesario que las bacterias se contacten a través de los EPS con el sulfur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ra el caso de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At. ferrooxidan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las bacterias almacenarían el S en el biofilm (EP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ra el caso de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eptospirillum ferrooxidan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las bacterias almacenarían fragmentos de pirita en el biofilm (EPS-F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S PROPUESTOS POR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. TRIBUTS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gún Tributsch existirían tres mecanismo utilizados por las bacterias para la disolución de los sulfur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ixiviación por contact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ixiviación indirect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eS + Fe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+ H2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F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ixiviación cooperativa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producen simultáneamente ambos mecanismos: por contacto e indirecto; bacterias utilizarían nutrientes solubilizados desde el miner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1219320" y="914400"/>
          <a:ext cx="6553080" cy="5029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914400"/>
                    <a:ext cx="655308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1295280" y="990720"/>
          <a:ext cx="6477120" cy="5029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990720"/>
                    <a:ext cx="64771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N MICROORGANISMOS ACIDÓFIL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membrana celular de estos M.O. es impermeable a los protones, que se encuentran en el medio de cultivo. (pH 1.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H al interior del citoplasma es alrededor de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Bacterias acidófilas requieren una diferencia de pH entre el medio y el citoplasma, para generar energía (ATP) por fosforilación oxidati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LAS REACCIONES QUÍMICAS DE GENERACIÓN DE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e(III) COMO SULFATO FÉRRICO (F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EXPLICAN LA ACTIVIDAD OXIDATIVA DE ESTAS BACTERIAS SOBRE LOS SULFUROS METÁLICOS</a:t>
            </a:r>
            <a:br>
              <a:rPr sz="3600"/>
            </a:b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LIXIVIACIÓN BACTERIANA DE MINERALES SULFURADOS ES UN PROCESO NATURAL EN EL CUAL PUEDEN PARTICIPAR BACTERIAS, LAS QUE ACTÚAN COMO CATALIZADORES Y LO HACEN ACTIVAMENTE CUANDO EN EL AMBIENTE EN EL CUÁL ELLAS SE ENCUENTRAN, SE DAN CIERTAS CONDICIONES COMO HUMEDAD, TEMPERATURA, DISPONIBILIDAD DE NUTRIENTES, AUSENCIA 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MPUESTOS TÓXICO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ETC.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9240" y="0"/>
            <a:ext cx="870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N MICROORGANISMOS ACIDÓFIL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 transferencia de electrones y protones desde el medio al interior de la célula lleva a la generación de un potencial electroquímico de transmembrana debido a lo cuál se produce síntesis de 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ADP + Pi   </a:t>
            </a:r>
            <a:r>
              <a:rPr b="0" lang="es-E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ATP + H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N MICROORGANISMOS ACIDÓFIL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 oxidación de S o sulfuros genera ácido, por lo que el pH del medio ambiente puede ser más alt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3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+ 2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2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ha descrito crecimiento en medio S algo menor para cultivos a pH 5.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PACIDAD DE FIJAR NITRÓGE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ha demostrado que un gran número de cepas que participan en los procesos de biolixiviación son capaces de fijar nitrógeno. Esta característica es debida a la presencia de Nitrogena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2 N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 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Nitrogen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Aminoácidos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teí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Bases orgánica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idos nucle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PACIDAD DE FIJAR NITRÓGE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sta capacidad se ha demostrado en cepas 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Acidithiobacillus ferrooxid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Leptospirillum ferrooxid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Acidithiobacillus thiooxidans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o está comprob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e encuentra presente en la gan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¿AERÓBICOS ESTRICTOS O FACULTATIVO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e ha demostrado que los M.O. como 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Acidithiobacillus ferrooxidans, Sulfobacillus thermosulfidooxidans y Sulfolobus metallicus,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que oxidan compuestos de S reducido en condiciones aeróbicas, también lo pueden hacer en ausencia de oxígeno, pero en presencia de Fe(III), que actuaría como aceptor de los electrone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10:24:11Z</dcterms:created>
  <dc:creator>Blanca Escobar</dc:creator>
  <dc:description/>
  <dc:language>en-US</dc:language>
  <cp:lastModifiedBy>Blanca Escobar</cp:lastModifiedBy>
  <dcterms:modified xsi:type="dcterms:W3CDTF">2007-07-27T15:31:43Z</dcterms:modified>
  <cp:revision>1</cp:revision>
  <dc:subject/>
  <dc:title> SON MICROORGANISMOS ACIDÓFILOS</dc:title>
</cp:coreProperties>
</file>