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3DB-B8FB-4561-A17A-84AE52DB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4F9-ACD0-484F-BFF6-EBECBE9C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453-AC33-4C97-B43E-D668395C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C56-F947-45A1-B3B2-DCAA99C7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A56-621C-4B8D-BFE6-D38AFEB6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202-15A3-4284-B84F-741D8EDB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55D-C0CE-4236-A839-B170DF85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CE8-84FE-4001-926C-E6CE1B6B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DE0-DED0-4C8B-BB84-21006D91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CC8-4A7B-453F-99CF-E2DF6127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BD9-D27B-40FF-B973-727EE681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1FEF-3C83-46B0-824F-4E368284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D51A-9D4F-4D5C-86FC-6806CBA4E4A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pH en el cuál se desarrollan fluctúa entre 1.5 y 2.5, con pH óptimo que depende de la fuente de energía que estén utilizando, Fe(II) o azufre redu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Qué se obtiene a bajos 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olubilización de sustra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e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(F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í estos M.O. serían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naerobios faculta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or lo que serían capaces de oxidar los minerales en ausencia de oxí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8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pro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 + 2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ixiviación á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 consume el ácido, se detiene la reacción y el pH sub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xiviación fér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el mecanismo más efectivo de lixiviación, disuelve los sulfuros metálicos, pero genera una capa de S elemental, que impide que este proceso contin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más cuando se consume el Fe(III), se detiene l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EN PRESENCIA DE BACTE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r de 1960 cuando recién comenzaron estudios biológicos sobre participación de M.O. en lixiviación de minerales sulfurados se consideró que los M.O. actuaban mediante alguno o los dos mecanismos sigui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M.O. se adhieren al sólido, generando un biofilm, luego comienzan a disolver directamente el sulfuro o el S elemental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S  +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e mecanismo sólo lo ejercen lo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.O. capaces de oxidar compuestos reducidos de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M.O. adheridos así como los que se encuentran en solución, en presencia de oxígeno y de 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pueden oxidar el Fe(II) a Fe(III), segú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 reacción consume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or lo qu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uede producir precipitación de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acción que sería 1.000.000 de veces más rápida que la reacción en ausencia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I) es un muy buen oxidante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) resultante de esta reacción puede ser nuevamente oxidado a Fe(III) por las bacterias, así esta cadena de reacciones: oxidación de Fe(II) por bacterias y oxidación de los sulfuros por el Fe(III)  puede continuar dando lugar a la disolución de los sulfuros metálicos mediante l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ción indirecta de l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CIONES ASOCIADAS A LOS PROCESOS DE BIO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Lixiviación férrica (producto de la acción bacterian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 Consumo de ácido por oxidación de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 Precipitación de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generación de ácido asociada a est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 Oxidación de S y generación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CANISMOS DE ACCIÓN DE ALGUNOS MICROORGANI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Directo: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compuestos de S redu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udios realizados a partir de 1995, por W. Sand han determinado o demostrado que el mecanismo directo de oxidación de sulfuros no existiría. Es decir, no existirían mecanismos en ausencia de Fe(III), para disolución de sulf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. Glucurónico de los LP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uniría a Fe(III) formando complejos los cuales se encontrarían en el biofilm que producen las células al adherirse al mineral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tención de sustratos en forma sol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más alto pH menor cantidad de Fe(II) disponible por precipitación de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por la oxidación del Fe(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 (quím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partir de pH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células que no contienen LPS no pueden adherirse al mineral y tampoco pueden disolver los sulfur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élulas  + Mineral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herencia (L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 esta teoría células crecidas en S no se adhieren a pirita (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y tampoco la oxidarí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W. Sand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acuerdo a estudios cristalográficos de los sulfuros metálicos, existirían dos grupos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sólo por Fe(II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tiosulfa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sólo por Fe(III) serían 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Mo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W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tiosulf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tiosulfato, tetrationato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 Fe 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TIOSULF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449440" y="1981080"/>
          <a:ext cx="424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981080"/>
                    <a:ext cx="424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polisulf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rían Cu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Cu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polisulf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polisulfuro, S elemental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u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POLISULF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314440" y="1981080"/>
          <a:ext cx="451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4440" y="1981080"/>
                    <a:ext cx="451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H. Tributsch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partir de estudios de microscopia electrónica se ha demostrado que para que se produzca la oxidación del sulfuro es necesario que las bacterias se contacten a través de los EPS con el sulfu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el S en el biofilm (EP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fragmentos de pirita en el biofilm (EPS-F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. TRIBUTS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gún Tributsch existirían tres mecanismo utilizados por las bacterias para la disolución de los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por contac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indirec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S + 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H2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cooperativ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ducen simultáneamente ambos mecanismos: por contacto e indirecto; bacterias utilizarían nutrientes solubilizados desde el mi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219320" y="914400"/>
          <a:ext cx="655308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6553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295280" y="990720"/>
          <a:ext cx="647712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477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membrana celular de estos M.O. es impermeable a los protones, que se encuentran en el medio de cultivo. (pH 1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H al interior del citoplasma es alrededor de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cterias acidófilas requieren una diferencia de pH entre el medio y el citoplasma, para generar energía (ATP) por fosforilación oxid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LAS REACCIONES QUÍMICAS DE GENERACIÓN D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(III) COMO SULFATO FÉRRICO (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EXPLICAN LA ACTIVIDAD OXIDATIVA DE ESTAS BACTERIAS SOBRE LOS SULFUROS METÁLICOS</a:t>
            </a:r>
            <a:br>
              <a:rPr sz="3600"/>
            </a:b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LIXIVIACIÓN BACTERIANA DE MINERALES SULFURADOS ES UN PROCESO NATURAL EN EL CUAL PUEDEN PARTICIPAR BACTERIAS, LAS QUE ACTÚAN COMO CATALIZADORES Y LO HACEN ACTIVAMENTE CUANDO EN EL AMBIENTE EN EL CUÁL ELLAS SE ENCUENTRAN, SE DAN CIERTAS CONDICIONES COMO HUMEDAD, TEMPERATURA, DISPONIBILIDAD DE NUTRIENTES, AUSENCIA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UESTOS TÓXIC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TC.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240" y="0"/>
            <a:ext cx="87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ransferencia de electrones y protones desde el medio al interior de la célula lleva a la generación de un potencial electroquímico de transmembrana debido a lo cuál se produce síntesis de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DP + Pi  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ATP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oxidación de S o sulfuros genera ácido, por lo que el pH del medio ambiente puede ser más al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ha descrito crecimiento en medio S algo menor para cultivos a pH 5.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que un gran número de cepas que participan en los procesos de biolixiviación son capaces de fijar nitrógeno. Esta característica es debida a la presencia de Nitrogen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it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minoácidos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ases orgánic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idos nucle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a capacidad se ha demostrado en cepas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o está comprob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encuentra presente en la gan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ha demostrado que los M.O. como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, Sulfobacillus thermosulfidooxidans y Sulfolobus metallicus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que oxidan compuestos de S reducido en condiciones aeróbicas, también lo pueden hacer en ausencia de oxígeno, pero en presencia de Fe(III), que actuaría como aceptor de los electron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0:24:11Z</dcterms:created>
  <dc:creator>Blanca Escobar</dc:creator>
  <dc:description/>
  <dc:language>en-US</dc:language>
  <cp:lastModifiedBy>Blanca Escobar</cp:lastModifiedBy>
  <dcterms:modified xsi:type="dcterms:W3CDTF">2007-07-27T15:31:43Z</dcterms:modified>
  <cp:revision>1</cp:revision>
  <dc:subject/>
  <dc:title> SON MICROORGANISMOS ACIDÓFILOS</dc:title>
</cp:coreProperties>
</file>