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018-16E4-403B-A9B2-0A6159D5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FFC-2A56-4937-A227-CE624586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A07-C004-4389-9A9B-7106B72C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208-A8E7-49EF-983A-EE5AC40A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0D7-C544-4D5D-816B-C9700408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999-D278-4FB5-8B44-47591AD7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113-3300-46F4-BD28-065E2434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F3C-599C-4CA6-913E-98A5F142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29F-715B-40B7-8D96-1A7EB667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B25-B29B-4E1F-8C69-A36F554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E53-E747-4D90-873C-9BD8D796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74C-DD33-4747-9A79-EBE794E0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DADF-6BEC-464B-A75A-D4CB62959B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encuentra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Blanca Escobar</cp:lastModifiedBy>
  <dcterms:modified xsi:type="dcterms:W3CDTF">2007-07-27T15:31:43Z</dcterms:modified>
  <cp:revision>1</cp:revision>
  <dc:subject/>
  <dc:title> SON MICROORGANISMOS ACIDÓFILOS</dc:title>
</cp:coreProperties>
</file>