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6A2-325F-40C9-B107-0B16223A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69F-8A37-43ED-B026-9BD7A4C4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1BC-4B0B-40C4-B2BA-F1AD6386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C71-C717-435C-9F6B-72AA4FC2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040-B8FB-4430-A77A-53AF2C21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CB6-229F-4841-9FFC-97432AB0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C01-4914-4E00-9E6C-2700D20A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F3BC-F7A0-4292-98CD-4DA2C126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715-4518-4198-BB12-357CFD44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05E-76FB-4F21-BE69-B40F18EE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54A-BF82-461D-A918-E921B4F9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C1B-2C8E-439A-A7DA-628D28EA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AF0D-BC7B-4B24-B5F1-09D2C9C21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85080" y="61920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  3  5   5   9   9   12  12 40 40 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21:28:00Z</dcterms:created>
  <dc:creator>INTA</dc:creator>
  <dc:description/>
  <dc:language>en-US</dc:language>
  <cp:lastModifiedBy>INTA</cp:lastModifiedBy>
  <dcterms:modified xsi:type="dcterms:W3CDTF">2007-10-08T21:28:27Z</dcterms:modified>
  <cp:revision>1</cp:revision>
  <dc:subject/>
  <dc:title>Diapositiva 1</dc:title>
</cp:coreProperties>
</file>