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70E-5364-4F30-BE0E-93724DB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600-5175-402A-AC1D-CBAD8FF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5E7-2798-4F26-A6EC-9CAB239C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9D7-CF23-4426-AC78-AB726342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CEC-9ABA-4AB2-8CD6-97B9618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743-278F-4D10-AA54-A3D37FA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6CD-3A15-4A25-8E5C-7A2F2A0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826-9728-4218-9728-E9BE86B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940-CB7A-4625-B938-1973F843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3D1-C5A4-4352-B887-B3B6B48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F16-04F0-468B-A868-73035D1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744-B736-43F4-8867-EB7D392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D7B-41D9-41AC-AFAF-C07E444D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5080" y="6192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3  5   5   9   9   12  12 40 40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8:00Z</dcterms:created>
  <dc:creator>INTA</dc:creator>
  <dc:description/>
  <dc:language>en-US</dc:language>
  <cp:lastModifiedBy>INTA</cp:lastModifiedBy>
  <dcterms:modified xsi:type="dcterms:W3CDTF">2007-10-08T21:28:27Z</dcterms:modified>
  <cp:revision>1</cp:revision>
  <dc:subject/>
  <dc:title>Diapositiva 1</dc:title>
</cp:coreProperties>
</file>