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8C8-4D48-4097-B016-4717384D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F58-DB47-4DCF-9738-E8F0264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BF9-0054-45C5-80ED-A631B6C5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B79-6F16-4482-ABAA-A2B54770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9E2-A8B1-4C7D-845D-D0A3E12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9FD-DD7F-4B4F-BD36-32C1E81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818-BAA0-4B27-8AC8-175242C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4D1-92B7-4EF6-BE8A-BCD349D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930-CCD3-4F40-A174-2331F6A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A6F-4506-4EA1-9FAF-2086378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CF6-270B-41EC-899B-6555976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F83-A997-4AB9-A68D-A58112F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F3C-FD91-4BC5-9D95-6C695DDB3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5080" y="6192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3  5   5   9   9   12  12 40 40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8:00Z</dcterms:created>
  <dc:creator>INTA</dc:creator>
  <dc:description/>
  <dc:language>en-US</dc:language>
  <cp:lastModifiedBy>INTA</cp:lastModifiedBy>
  <dcterms:modified xsi:type="dcterms:W3CDTF">2007-10-08T21:28:27Z</dcterms:modified>
  <cp:revision>1</cp:revision>
  <dc:subject/>
  <dc:title>Diapositiva 1</dc:title>
</cp:coreProperties>
</file>