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A8BB-697A-4D24-A158-BF5650BC5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0800-B469-4389-BBB3-A1D7256C2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5C61-51D0-49A8-9371-B8B0D3903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E383-5E55-49C2-AA0B-65D5D6C43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A5EE-C711-4275-BD82-47E99514B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EA6A-C907-4415-849D-6D68785CD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DD36-CC2D-432F-BA32-34188B633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42CB-C352-41AB-B80B-51A1B08C4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4C34-B671-4839-8FD4-0C7B15BA1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D28E-3198-4987-95F7-27F95B41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D30C-E7BA-428D-A9D2-D96187E9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5B1F-ADCC-411F-A6D9-9B135D0C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DB9A0-5F72-4E94-B584-D2D9700A9A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585080" y="619200"/>
            <a:ext cx="28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   3  5   5   9   9   12  12 40 40 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8T21:28:00Z</dcterms:created>
  <dc:creator>INTA</dc:creator>
  <dc:description/>
  <dc:language>en-US</dc:language>
  <cp:lastModifiedBy>INTA</cp:lastModifiedBy>
  <dcterms:modified xsi:type="dcterms:W3CDTF">2007-10-08T21:28:27Z</dcterms:modified>
  <cp:revision>1</cp:revision>
  <dc:subject/>
  <dc:title>Diapositiva 1</dc:title>
</cp:coreProperties>
</file>