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FEF-1F58-49ED-93F7-EBFDA201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713-EA0D-4042-917E-674B496F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1D4-23C3-489E-B362-CEC07EE2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13E-ABF4-4089-A2B1-4EED0669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42E-FBF0-4C96-A281-E9C8F6CE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6C6-BF58-4D29-9915-5234CF01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45B-AA3D-415F-9F8A-F793E183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4CE-51F9-49BE-8AF2-8FB25874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D4A-A3E8-4FE4-AD9E-024A2F96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513-8BC0-4F85-9FC9-5F975312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99E-DAD1-4BE2-A75F-F3ACCE92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7AF-31DE-4762-AA3E-43D5F5CF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C7E6-C230-4B77-AE07-D83E986CE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85080" y="619200"/>
            <a:ext cx="28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   3  5   5   9   9   12  12 40 40 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21:28:00Z</dcterms:created>
  <dc:creator>INTA</dc:creator>
  <dc:description/>
  <dc:language>en-US</dc:language>
  <cp:lastModifiedBy>INTA</cp:lastModifiedBy>
  <dcterms:modified xsi:type="dcterms:W3CDTF">2007-10-08T21:28:27Z</dcterms:modified>
  <cp:revision>1</cp:revision>
  <dc:subject/>
  <dc:title>Diapositiva 1</dc:title>
</cp:coreProperties>
</file>