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1536-48E9-4624-B075-34748007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F31A-F7E0-4FE0-8E0D-4D53A1CC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AC62-7A64-4594-A684-A764068A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D010-EE3F-45A4-BDA0-225513AA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F98D-A61D-4511-B244-F90B3B8E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C149-0CD8-47C6-9C49-42FBC1E0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1FDC-987E-4236-ABBC-F1BBFEC8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86E-C2CE-4EF3-9CCF-263FBBBE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C588-0438-422C-A4A3-4805A8F9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7C58-834B-48AC-AC12-640BDCE8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8CAE-3AA0-4201-A308-9D1CF644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6077-1085-4BBC-BEE6-A2348F3E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3F0F-F04F-4B8A-AF17-94C2CA33AB4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828800" y="6019920"/>
            <a:ext cx="4191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Oval 5"/>
          <p:cNvSpPr/>
          <p:nvPr/>
        </p:nvSpPr>
        <p:spPr>
          <a:xfrm>
            <a:off x="1219320" y="4114800"/>
            <a:ext cx="5029200" cy="1752480"/>
          </a:xfrm>
          <a:prstGeom prst="ellipse">
            <a:avLst/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572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umentando la traducción: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cuencia de Shine Dalga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5720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encia en el mRNA, complementaria a región del 16S rRNA de la subunidad pequeña del riboso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>
            <a:off x="838080" y="17524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1143000" y="39625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6172200" y="39625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2956680" y="3733920"/>
            <a:ext cx="19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UAAGGAG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UUCC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4876920" y="3962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5335920" y="37339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688320" y="373392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8003520" y="373392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460800" y="320040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17"/>
          <p:cNvSpPr/>
          <p:nvPr/>
        </p:nvSpPr>
        <p:spPr>
          <a:xfrm>
            <a:off x="2184480" y="4317840"/>
            <a:ext cx="830160" cy="1028880"/>
          </a:xfrm>
          <a:prstGeom prst="pie">
            <a:avLst/>
          </a:pr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reeform 18"/>
          <p:cNvSpPr/>
          <p:nvPr/>
        </p:nvSpPr>
        <p:spPr>
          <a:xfrm>
            <a:off x="4030560" y="4335480"/>
            <a:ext cx="1086120" cy="1235160"/>
          </a:xfrm>
          <a:prstGeom prst="pie">
            <a:avLst/>
          </a:pr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2094840" y="518148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3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4498200" y="533412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2670120" y="518148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16S r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908000" y="601992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ribosomal sub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23"/>
          <p:cNvSpPr/>
          <p:nvPr/>
        </p:nvSpPr>
        <p:spPr>
          <a:xfrm rot="16200000">
            <a:off x="3619440" y="285696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rategias utilizadas para reducir la formación de cuerpos de incl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-expresión de chaperonas mole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o de cepas huésped deficientes 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tioredoxina y/o tioredoxina reductasa para mantener un potencial redox favorable (cepas de E. coli “Origami”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Crecimiento de los cultivos bacterianos a bajas temperaturas (20-25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Fusión a polipéptidos altamente solubles (como MB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Aunque estas estrategias han aumentado la producción de varias proteínas recombinantes, su éxito parece ser específico de cada proteína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Gulim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entajas de los cuerpos de inclu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Se acumulan en el citoplasma en mucho mayor nivel (mayor del 25%)  que la proteína en su forma solu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Son purificados por un procedimiento de centrifugación.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o de pocas de etapas para la purificación de la P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(3) No tienen actividad biológica. En la producción de proteínas tóxicas 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E. col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, ésta puede ser la única estrategia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(4) Son agragados amorfos resistentes a proteasas d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E. col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1357200" y="300024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tinación de la proteína de inter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38080" y="2133720"/>
            <a:ext cx="762012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 citoplasma -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. col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 espacio periplasmático. Se requiere señal de exportación-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. co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 medio extracelul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acterias Gram + como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B. subti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ongos filamentosos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pergillus nidula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canismo de secreción de proteínas en 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214200" y="1928880"/>
            <a:ext cx="4368960" cy="3316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4648320" y="1884240"/>
            <a:ext cx="44956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  <a:ea typeface="Arial"/>
              </a:rPr>
              <a:t>Ventajas de la secreción</a:t>
            </a: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minución de efectos negativos de proteínas tóxicas sobre el crecimiento 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or estabilidad de la pro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 separación de proteasas del citoplas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estabilidad de la proinsulina humana recombinante (rh-proinsulin) aumenta 10 veces cuando es secret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ínas solubles, activa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800" indent="-60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 formación de puentes S-S facilitada por ambiente menos reductor en periplasma y Sobrenad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proteína podría ser más fácil de purific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8001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ína recombinante producida como una fusión a nivel del DNA, de dos (o mas) proteínas o pép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ón de una proteína heteróloga a una secuencia señal de exportación al medio extra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ón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que permiten la purificación por cromatografía de afini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ón de una proteína heteróloga inestable a una proteína que la estabili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447920" y="30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eínas de Fu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57200" y="6094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Arial"/>
              </a:rPr>
              <a:t>Secuencia de exportación o secuencia señal de expor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encia de un Péptido 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 en la PR, para ir a la membrana plasmática y pasar a través de ella. Se agrega al extremo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la proteína (extremo 5’ del ge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1146240" y="3886200"/>
            <a:ext cx="7264080" cy="510480"/>
            <a:chOff x="1146240" y="3886200"/>
            <a:chExt cx="7264080" cy="510480"/>
          </a:xfrm>
        </p:grpSpPr>
        <p:sp>
          <p:nvSpPr>
            <p:cNvPr id="123" name="Rectangle 6"/>
            <p:cNvSpPr/>
            <p:nvPr/>
          </p:nvSpPr>
          <p:spPr>
            <a:xfrm>
              <a:off x="2055960" y="3922560"/>
              <a:ext cx="160020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8080"/>
                  </a:solidFill>
                  <a:latin typeface="Arial"/>
                </a:rPr>
                <a:t>sign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7"/>
            <p:cNvSpPr/>
            <p:nvPr/>
          </p:nvSpPr>
          <p:spPr>
            <a:xfrm>
              <a:off x="3656160" y="3922560"/>
              <a:ext cx="3429000" cy="4572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8080"/>
                  </a:solidFill>
                  <a:latin typeface="Arial"/>
                </a:rPr>
                <a:t>protein of interes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8"/>
            <p:cNvSpPr/>
            <p:nvPr/>
          </p:nvSpPr>
          <p:spPr>
            <a:xfrm>
              <a:off x="1903320" y="415116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>
              <a:off x="7161120" y="415116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1146240" y="393696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NH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11"/>
            <p:cNvSpPr/>
            <p:nvPr/>
          </p:nvSpPr>
          <p:spPr>
            <a:xfrm>
              <a:off x="7315200" y="38862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CO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Text Box 12"/>
          <p:cNvSpPr/>
          <p:nvPr/>
        </p:nvSpPr>
        <p:spPr>
          <a:xfrm>
            <a:off x="1295280" y="48769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encias 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 de genes ompA y pe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3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533520" y="2133720"/>
            <a:ext cx="41148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Gen de Proteína e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4648320" y="2133720"/>
            <a:ext cx="403848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  de inter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448920" y="3060720"/>
            <a:ext cx="773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ET ... LEU ARG TH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T VAL ILE ...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TG ... GTG CG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G GTG ATC ... 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3886200" y="4114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116960" y="419112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Nc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23920" y="4863960"/>
            <a:ext cx="8974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usión a nivel del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odón de stop del gen de la prot. estable debe ser remov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marco de lectura de la proteína de fusión debe se continu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eínas de Fusión y Estabilidad de la P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571680" y="6429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de clonamiento para producir una proteína de fu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0" y="2133720"/>
            <a:ext cx="8915400" cy="4238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3033000" y="2427120"/>
            <a:ext cx="623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of interest  + ompF for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Z for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9144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ínas de Fusión y purificación de 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8380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 de la proteína de interés se fusiona a trozos de DNA que codifican para fragmentos polipeptídicos o “tags” (etiquetas) que confieren a la PR una ciert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os tags pueden 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léculas con afinidad a resinas cromatográfic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encias de antígenos, reconocidas por anticuerpos específ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8088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fecto de una estructura secundaria en el extremo 5’ del m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505320" cy="48006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533520" y="1828800"/>
            <a:ext cx="426708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o 5’ del mRNA, en la región del codón de inicio AUG, NO debe ser autocomplementaria, ya que se podría bloquear el movimiento del ribosoma e impedir la traducción del mensa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>
            <a:off x="6553080" y="236232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51055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gstfusion"/>
          <p:cNvPicPr/>
          <p:nvPr/>
        </p:nvPicPr>
        <p:blipFill>
          <a:blip r:embed="rId1"/>
          <a:stretch/>
        </p:blipFill>
        <p:spPr>
          <a:xfrm>
            <a:off x="1295280" y="685800"/>
            <a:ext cx="6229440" cy="59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371600" y="2743200"/>
            <a:ext cx="5181480" cy="2401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685800" y="1752480"/>
            <a:ext cx="6705720" cy="82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as” de 6 histidinas, fusionadas a la proteína, ya sea en el extremo amino o carboxi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4"/>
          <p:cNvSpPr/>
          <p:nvPr/>
        </p:nvSpPr>
        <p:spPr>
          <a:xfrm>
            <a:off x="1143000" y="5410080"/>
            <a:ext cx="2616120" cy="279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65760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-H-H-H-H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457200" y="5410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2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838080" y="914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AC: Ion Metal Affinity Chromatograph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8"/>
          <p:cNvSpPr/>
          <p:nvPr/>
        </p:nvSpPr>
        <p:spPr>
          <a:xfrm>
            <a:off x="4648320" y="6019920"/>
            <a:ext cx="2616120" cy="279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2514600" y="6019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-H-H-H-H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7238880" y="6095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O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eavage by Factor X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3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372960" y="2158920"/>
            <a:ext cx="83962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6"/>
          <p:cNvSpPr/>
          <p:nvPr/>
        </p:nvSpPr>
        <p:spPr>
          <a:xfrm>
            <a:off x="1066680" y="38088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to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de un vector de expres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2612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228600" y="152280"/>
          <a:ext cx="8763120" cy="5824800"/>
        </p:xfrm>
        <a:graphic>
          <a:graphicData uri="http://schemas.openxmlformats.org/drawingml/2006/table">
            <a:tbl>
              <a:tblPr/>
              <a:tblGrid>
                <a:gridCol w="3235320"/>
                <a:gridCol w="5527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Pre-requisitos cualitativos y cuantita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Aplic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Aplicaciones de investig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Altos rendimientos no son requerido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Generalmente muy purifica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Caracterización, cristalización para identificación de estructura, ensayos biológ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Aplicaciones industri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Alto rend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Bajo co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La pureza no es relev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Enzimas técnicas  (proteasa y lipasas para detergent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Proteínas para procesamiento o suplementación de alimentos,  (glucosa oxidas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Biocatalizadores industri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Alta pureza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Bajo esfuerzo y costo de desarrollo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Rendimiento es menos crítico que para el punt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Enzimas y proteínas para diagnóstico </a:t>
                      </a:r>
                      <a:r>
                        <a:rPr b="1" i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in vivo</a:t>
                      </a:r>
                      <a:r>
                        <a:rPr b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, ej, colesterol oxidasa, glucosa deshidrogenasa, y penicilin oxid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Alta calidad (purez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Consistencia en la produ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Proceso debe ser compatible con las normas de la Food and Drug Administration (FD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Enzimas y proteínas para terapia en humanos, ej, TPA, insul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</a:tbl>
          </a:graphicData>
        </a:graphic>
      </p:graphicFrame>
      <p:sp>
        <p:nvSpPr>
          <p:cNvPr id="161" name="Rectangle 28"/>
          <p:cNvSpPr/>
          <p:nvPr/>
        </p:nvSpPr>
        <p:spPr>
          <a:xfrm>
            <a:off x="0" y="745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mentando la traducción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Uso de cod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5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hech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últiples codones para algunos aminoáci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unos codones son usados con poca frecu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jas concentraciones de los tRNAs correspond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erentes organismos pueden usar los diferentes codones a una frecuencia distin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915400" cy="6067440"/>
          </a:xfrm>
          <a:prstGeom prst="rect">
            <a:avLst/>
          </a:prstGeom>
          <a:ln w="0">
            <a:noFill/>
          </a:ln>
        </p:spPr>
      </p:pic>
      <p:sp>
        <p:nvSpPr>
          <p:cNvPr id="72" name="Line 6"/>
          <p:cNvSpPr/>
          <p:nvPr/>
        </p:nvSpPr>
        <p:spPr>
          <a:xfrm>
            <a:off x="6372360" y="2133720"/>
            <a:ext cx="16761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7"/>
          <p:cNvSpPr/>
          <p:nvPr/>
        </p:nvSpPr>
        <p:spPr>
          <a:xfrm>
            <a:off x="6400800" y="3429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8"/>
          <p:cNvSpPr/>
          <p:nvPr/>
        </p:nvSpPr>
        <p:spPr>
          <a:xfrm>
            <a:off x="6400800" y="4572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57200" y="228600"/>
            <a:ext cx="8534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o de codones e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 human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7"/>
          <p:cNvSpPr/>
          <p:nvPr/>
        </p:nvSpPr>
        <p:spPr>
          <a:xfrm>
            <a:off x="3924360" y="3429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7"/>
          <p:cNvSpPr/>
          <p:nvPr/>
        </p:nvSpPr>
        <p:spPr>
          <a:xfrm>
            <a:off x="1187280" y="3429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7"/>
          <p:cNvSpPr/>
          <p:nvPr/>
        </p:nvSpPr>
        <p:spPr>
          <a:xfrm>
            <a:off x="3924360" y="458136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"/>
          <p:cNvSpPr/>
          <p:nvPr/>
        </p:nvSpPr>
        <p:spPr>
          <a:xfrm>
            <a:off x="4211640" y="213372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>
            <a:off x="1116000" y="2205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>
            <a:off x="1187280" y="450864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Uso de Codones: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strategias de Optim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5800" y="16765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xpresar en un huésped diferente, que tenga el mismo uso de codones del gen heterólo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so de un organismo huésped modificado genéticamente para que sobreexpresen tRNAS de baja abundancia (ej cepas Rossetta de Invitrogen)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íntesis química de un nuevo 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ar la secuencia del gen de interés, usando codones que correspondan a los más frecuentes del organismo hués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6"/>
          <p:cNvSpPr/>
          <p:nvPr/>
        </p:nvSpPr>
        <p:spPr>
          <a:xfrm>
            <a:off x="838080" y="160020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057400" y="304920"/>
            <a:ext cx="7086600" cy="6224400"/>
            <a:chOff x="2057400" y="304920"/>
            <a:chExt cx="7086600" cy="6224400"/>
          </a:xfrm>
        </p:grpSpPr>
        <p:graphicFrame>
          <p:nvGraphicFramePr>
            <p:cNvPr id="86" name="Object 5"/>
            <p:cNvGraphicFramePr/>
            <p:nvPr/>
          </p:nvGraphicFramePr>
          <p:xfrm>
            <a:off x="2057400" y="304920"/>
            <a:ext cx="7086600" cy="622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304920"/>
                      <a:ext cx="7086600" cy="622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" name=""/>
            <p:cNvSpPr/>
            <p:nvPr/>
          </p:nvSpPr>
          <p:spPr>
            <a:xfrm>
              <a:off x="4419720" y="706320"/>
              <a:ext cx="144756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76920" y="2840040"/>
              <a:ext cx="990360" cy="75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648320" y="4820400"/>
              <a:ext cx="121896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24280" y="1011240"/>
              <a:ext cx="1219320" cy="22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48320" y="3068640"/>
              <a:ext cx="1218960" cy="22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24280" y="5049720"/>
              <a:ext cx="990720" cy="22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04920" y="15998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Formas de expresión de secuencias clona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533520" y="1676520"/>
            <a:ext cx="800100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gunas proteínas expresadas en el citoplasma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 co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ueden plegarse anómalamente, formando cuerpos de inclus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canismo de generación se desconoc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ta velocidad de síntesis impide el plegamiento apropiado 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mbiente citoplasmático 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 co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ás reductor que oxidante, lo que desfavorece la formación de puentes disulfuro apropi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2600" y="428400"/>
            <a:ext cx="460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erpos de inclu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inclusion bodies"/>
          <p:cNvPicPr/>
          <p:nvPr/>
        </p:nvPicPr>
        <p:blipFill>
          <a:blip r:embed="rId1"/>
          <a:stretch/>
        </p:blipFill>
        <p:spPr>
          <a:xfrm>
            <a:off x="5214960" y="357120"/>
            <a:ext cx="28004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  <a:ea typeface="Arial"/>
              </a:rPr>
              <a:t>Plegamiento de proteínas en E. co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http://www.shrevebiochem.com/Faculty-Personnel/individual-pgs/Witt/Assets/Figure1.gif"/>
          <p:cNvPicPr/>
          <p:nvPr/>
        </p:nvPicPr>
        <p:blipFill>
          <a:blip r:embed="rId1"/>
          <a:stretch/>
        </p:blipFill>
        <p:spPr>
          <a:xfrm>
            <a:off x="285840" y="1714680"/>
            <a:ext cx="5929200" cy="4624200"/>
          </a:xfrm>
          <a:prstGeom prst="rect">
            <a:avLst/>
          </a:prstGeom>
          <a:ln w="0">
            <a:noFill/>
          </a:ln>
        </p:spPr>
      </p:pic>
      <p:sp>
        <p:nvSpPr>
          <p:cNvPr id="100" name="5 CuadroTexto"/>
          <p:cNvSpPr/>
          <p:nvPr/>
        </p:nvSpPr>
        <p:spPr>
          <a:xfrm>
            <a:off x="6286680" y="2071800"/>
            <a:ext cx="257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haper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DnaJ: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DnaK: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GrpE: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Trigger factor (peptidil-prolil cis/trans isomerasa): 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istema tioredoxina/tioredoxina reductasa en E. col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2"/>
          <p:cNvGraphicFramePr/>
          <p:nvPr/>
        </p:nvGraphicFramePr>
        <p:xfrm>
          <a:off x="0" y="2428920"/>
          <a:ext cx="891396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8920"/>
                    <a:ext cx="891396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3 CuadroTexto"/>
          <p:cNvSpPr/>
          <p:nvPr/>
        </p:nvSpPr>
        <p:spPr>
          <a:xfrm>
            <a:off x="1357200" y="5214960"/>
            <a:ext cx="68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TrxR: tioredoxina reductas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su subexpresión mantiene baja la [Trx-SH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02:28:40Z</dcterms:created>
  <dc:creator>Oriana Salazar</dc:creator>
  <dc:description/>
  <dc:language>en-US</dc:language>
  <cp:lastModifiedBy>Ing Quimica</cp:lastModifiedBy>
  <dcterms:modified xsi:type="dcterms:W3CDTF">2007-09-03T22:13:06Z</dcterms:modified>
  <cp:revision>31</cp:revision>
  <dc:subject/>
  <dc:title>Presentación de PowerPoint</dc:title>
</cp:coreProperties>
</file>