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E93-89A2-4D9C-B7D6-8D11A65E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83E-F82E-439E-AD1C-9E6D7428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DA5-389D-41D2-951F-99C4BF5C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CC1-3014-4B2D-BEED-441A6AFF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182-C41D-47C3-85FE-733C8326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C55-5F61-48C7-912E-1B39A60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709-E39B-4AE9-8607-F0A7A3CA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D33-A85D-4F33-A92A-3282077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1F3-22FE-4E96-8A94-7BE63F05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263-E91C-4097-9334-1A3AF894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7BE-E7AB-474C-A395-501FCD61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9C8-0465-4ACC-BA01-CC2ADE8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AD27-B11A-4E29-8105-B697504818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828800" y="60199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219320" y="4114800"/>
            <a:ext cx="5029200" cy="175248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ndo la traducción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uencia de Shine Dalga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en el mRNA, complementaria a región del 16S rRNA de la subunidad pequeña del ribos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8380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1430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61722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956680" y="373392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AAGG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UCC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48769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533592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83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0035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60800" y="32004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2184480" y="4317840"/>
            <a:ext cx="830160" cy="102888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8"/>
          <p:cNvSpPr/>
          <p:nvPr/>
        </p:nvSpPr>
        <p:spPr>
          <a:xfrm>
            <a:off x="4030560" y="4335480"/>
            <a:ext cx="1086120" cy="123516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094840" y="51814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498200" y="53341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670120" y="51814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6S r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908000" y="601992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ribosomal sub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/>
          <p:cNvSpPr/>
          <p:nvPr/>
        </p:nvSpPr>
        <p:spPr>
          <a:xfrm rot="16200000">
            <a:off x="3619440" y="28569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ategias utilizadas para reducir la formación de cuerpos de in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-expresión de chaperona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e cepas huésped deficiente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ioredoxina y/o tioredoxina reductasa para mantener un potencial redox favorable (cepas de E. coli “Origami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recimiento de los cultivos bacterianos a bajas temperaturas (20-2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Fusión a polipéptidos altamente solubles (como MB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unque estas estrategias han aumentado la producción de varias proteínas recombinantes, su éxito parece ser específico de cada proteín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Gulim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ntajas de los 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Se acumulan en el citoplasma en mucho mayor nivel (mayor del 25%)  que la proteína en su forma solu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Son purificados por un procedimiento de centrifugación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o de pocas de etapas para la purificación de la P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3) No tienen actividad biológica. En la producción de proteínas tóxicas 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, ésta puede ser la única estrategia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4) Son agragados amorfos resistentes a proteasas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357200" y="300024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tinación de la proteína de inter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2133720"/>
            <a:ext cx="76201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citoplasma 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espacio periplasmático. Se requiere señal de exportación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medio extracelu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cterias Gram +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.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ngos filamentoso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rgillus nidul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canismo de secreción de proteínas en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368960" cy="3316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648320" y="1884240"/>
            <a:ext cx="44956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Ventajas de la secreción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minución de efectos negativos de proteínas tóxicas sobre el crecimiento 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or estabilidad de la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separación de proteasas del citopla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stabilidad de la proinsulina humana recombinante (rh-proinsulin) aumenta 10 veces cuando es secre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ínas solubles, activ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formación de puentes S-S facilitada por ambiente menos reductor en periplasma y 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oteína podría ser más fácil de purific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ína recombinante producida como una fusión a nivel del DNA, de dos (o mas) proteínas o pép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a una secuencia señal de exportación al medi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 permiten la purificación por cromatografía de afi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inestable a una proteína que la estabili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Secuencia de exportación o secuencia señal de expor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de un Péptido 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en la PR, para ir a la membrana plasmática y pasar a través de ella. Se agrega al extremo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la proteína (extremo 5’ del g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1146240" y="3886200"/>
            <a:ext cx="7264080" cy="510480"/>
            <a:chOff x="1146240" y="3886200"/>
            <a:chExt cx="7264080" cy="510480"/>
          </a:xfrm>
        </p:grpSpPr>
        <p:sp>
          <p:nvSpPr>
            <p:cNvPr id="123" name="Rectangle 6"/>
            <p:cNvSpPr/>
            <p:nvPr/>
          </p:nvSpPr>
          <p:spPr>
            <a:xfrm>
              <a:off x="2055960" y="3922560"/>
              <a:ext cx="16002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sig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3656160" y="3922560"/>
              <a:ext cx="34290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protein of inter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19033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71611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1146240" y="39369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NH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7315200" y="3886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CO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1295280" y="4876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encias 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de genes ompA y pe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33520" y="2133720"/>
            <a:ext cx="4114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en de Proteín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48320" y="213372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  de inte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48920" y="3060720"/>
            <a:ext cx="77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 ... LEU ARG TH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T VAL ILE ...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G ... GTG C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G GTG ATC ...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8862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16960" y="41911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Nc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3920" y="4863960"/>
            <a:ext cx="8974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sión a nivel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dón de stop del gen de la prot. estable debe ser remo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marco de lectura de la proteína de fusión debe se continu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 y Estabilidad de la 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716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de clonamiento para producir una proteína de fu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8915400" cy="4238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033000" y="2427120"/>
            <a:ext cx="623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f interest  + ompF for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Z for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ínas de Fusión y purificación de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8380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 de la proteína de interés se fusiona a trozos de DNA que codifican para fragmentos polipeptídicos o “tags” (etiquetas) que confieren a la PR una ciert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os tags puede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éculas con afinidad a resinas cromatográf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encias de antígenos, reconocidas por anticuerpos específ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ecto de una estructura secundaria en el extremo 5’ del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33520" y="1828800"/>
            <a:ext cx="4267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o 5’ del mRNA, en la región del codón de inicio AUG, NO debe ser autocomplementaria, ya que se podría bloquear el movimiento del ribosoma e impedir la traducción del mens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>
            <a:off x="6553080" y="2362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105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stfusion"/>
          <p:cNvPicPr/>
          <p:nvPr/>
        </p:nvPicPr>
        <p:blipFill>
          <a:blip r:embed="rId1"/>
          <a:stretch/>
        </p:blipFill>
        <p:spPr>
          <a:xfrm>
            <a:off x="1295280" y="685800"/>
            <a:ext cx="622944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518148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5800" y="1752480"/>
            <a:ext cx="670572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as” de 6 histidinas, fusionadas a la proteína, ya sea en el extremo amino o carboxi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1143000" y="541008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576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57200" y="5410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38080" y="914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C: Ion Metal Affinity Chromat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8"/>
          <p:cNvSpPr/>
          <p:nvPr/>
        </p:nvSpPr>
        <p:spPr>
          <a:xfrm>
            <a:off x="4648320" y="601992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51460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2388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vage by Factor X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72960" y="2158920"/>
            <a:ext cx="83962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1066680" y="380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e un vector de expres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61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" y="152280"/>
          <a:ext cx="8763120" cy="5824800"/>
        </p:xfrm>
        <a:graphic>
          <a:graphicData uri="http://schemas.openxmlformats.org/drawingml/2006/table">
            <a:tbl>
              <a:tblPr/>
              <a:tblGrid>
                <a:gridCol w="3235320"/>
                <a:gridCol w="552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e-requisitos cualitativos y cuantit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tos rendimientos no son requerido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eneralmente muy purific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aracterización, cristalización para identificación de estructura, ensayos biológ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o rend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ajo co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La pureza no es rele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técnicas  (proteasa y lipasas para detergen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teínas para procesamiento o suplementación de alimentos,  (glucosa oxid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iocatalizador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Alta purez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Bajo esfuerzo y costo de desarroll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Rendimiento es menos crítico que para el punt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Enzimas y proteínas para diagnóstico </a:t>
                      </a:r>
                      <a:r>
                        <a:rPr b="1" i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in vivo</a:t>
                      </a: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, ej, colesterol oxidasa, glucosa deshidrogenasa, y penicilin oxid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a calidad (purez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Consistencia en la 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ceso debe ser compatible con las normas de la Food and Drug Administration (F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y proteínas para terapia en humanos, ej, TPA, insu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28"/>
          <p:cNvSpPr/>
          <p:nvPr/>
        </p:nvSpPr>
        <p:spPr>
          <a:xfrm>
            <a:off x="0" y="745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mentando la traducció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Uso de cod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últiples codones para algunos aminoá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os codones son usados con poca frecu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s concentraciones de los tRNAs correspo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tes organismos pueden usar los diferentes codones a una frecuencia disti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6067440"/>
          </a:xfrm>
          <a:prstGeom prst="rect">
            <a:avLst/>
          </a:prstGeom>
          <a:ln w="0">
            <a:noFill/>
          </a:ln>
        </p:spPr>
      </p:pic>
      <p:sp>
        <p:nvSpPr>
          <p:cNvPr id="72" name="Line 6"/>
          <p:cNvSpPr/>
          <p:nvPr/>
        </p:nvSpPr>
        <p:spPr>
          <a:xfrm>
            <a:off x="6372360" y="213372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7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400800" y="4572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57200" y="2286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e codones 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hum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392436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>
            <a:off x="118728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3924360" y="458136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211640" y="2133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116000" y="2205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187280" y="450864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o de Codones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rategias de Optim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resar en un huésped diferente, que tenga el mismo uso de codones del gen heteról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un organismo huésped modificado genéticamente para que sobreexpresen tRNAS de baja abundancia (ej cepas Rossetta de Invitrogen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íntesis química de un nuevo 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r la secuencia del gen de interés, usando codones que correspondan a los más frecuentes del organismo hués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057400" y="304920"/>
            <a:ext cx="7086600" cy="6224400"/>
            <a:chOff x="2057400" y="304920"/>
            <a:chExt cx="7086600" cy="6224400"/>
          </a:xfrm>
        </p:grpSpPr>
        <p:graphicFrame>
          <p:nvGraphicFramePr>
            <p:cNvPr id="86" name="Object 5"/>
            <p:cNvGraphicFramePr/>
            <p:nvPr/>
          </p:nvGraphicFramePr>
          <p:xfrm>
            <a:off x="2057400" y="304920"/>
            <a:ext cx="7086600" cy="622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04920"/>
                      <a:ext cx="7086600" cy="622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4419720" y="706320"/>
              <a:ext cx="14475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2840040"/>
              <a:ext cx="990360" cy="7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648320" y="4820400"/>
              <a:ext cx="12189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1011240"/>
              <a:ext cx="12193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068640"/>
              <a:ext cx="121896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5049720"/>
              <a:ext cx="9907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1599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ormas de expresión de secuencias clon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1676520"/>
            <a:ext cx="800100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unas proteínas expresadas en el citoplas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eden plegarse anómalamente, formando cuerpos de incl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canismo de generación se descono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a velocidad de síntesis impide el plegamiento apropiado 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citoplasmático 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ás reductor que oxidante, lo que desfavorece la formación de puentes disulfuro apropi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460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inclusion bodies"/>
          <p:cNvPicPr/>
          <p:nvPr/>
        </p:nvPicPr>
        <p:blipFill>
          <a:blip r:embed="rId1"/>
          <a:stretch/>
        </p:blipFill>
        <p:spPr>
          <a:xfrm>
            <a:off x="5214960" y="357120"/>
            <a:ext cx="2800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  <a:ea typeface="Arial"/>
              </a:rPr>
              <a:t>Plegamiento de proteínas en 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www.shrevebiochem.com/Faculty-Personnel/individual-pgs/Witt/Assets/Figure1.gif"/>
          <p:cNvPicPr/>
          <p:nvPr/>
        </p:nvPicPr>
        <p:blipFill>
          <a:blip r:embed="rId1"/>
          <a:stretch/>
        </p:blipFill>
        <p:spPr>
          <a:xfrm>
            <a:off x="285840" y="1714680"/>
            <a:ext cx="5929200" cy="4624200"/>
          </a:xfrm>
          <a:prstGeom prst="rect">
            <a:avLst/>
          </a:prstGeom>
          <a:ln w="0">
            <a:noFill/>
          </a:ln>
        </p:spPr>
      </p:pic>
      <p:sp>
        <p:nvSpPr>
          <p:cNvPr id="100" name="5 CuadroTexto"/>
          <p:cNvSpPr/>
          <p:nvPr/>
        </p:nvSpPr>
        <p:spPr>
          <a:xfrm>
            <a:off x="6286680" y="2071800"/>
            <a:ext cx="257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pe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J: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K: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GrpE: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igger factor (peptidil-prolil cis/trans isomerasa):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stema tioredoxina/tioredoxina reductasa en E. co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0" y="2428920"/>
          <a:ext cx="89139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8920"/>
                    <a:ext cx="89139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3 CuadroTexto"/>
          <p:cNvSpPr/>
          <p:nvPr/>
        </p:nvSpPr>
        <p:spPr>
          <a:xfrm>
            <a:off x="1357200" y="521496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xR: tioredoxina reductas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u subexpresión mantiene baja la [Trx-SH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2:28:40Z</dcterms:created>
  <dc:creator>Oriana Salazar</dc:creator>
  <dc:description/>
  <dc:language>en-US</dc:language>
  <cp:lastModifiedBy>Ing Quimica</cp:lastModifiedBy>
  <dcterms:modified xsi:type="dcterms:W3CDTF">2007-09-03T22:13:06Z</dcterms:modified>
  <cp:revision>31</cp:revision>
  <dc:subject/>
  <dc:title>Presentación de PowerPoint</dc:title>
</cp:coreProperties>
</file>