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66D-D7B4-4C11-B3F4-5B533B3F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FF2-D904-44D3-B4CF-56605E06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B7A-1283-4EC1-913A-3E54295D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01C-FD79-4BB9-977E-E4E12A0F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A1F-7E4F-4F80-91B4-DBE3BFE1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ACE-0B4D-4589-B4EC-C9B35CF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1F3-2413-4EA3-91BC-F5CB9CC2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908-F28C-405F-8C7D-B1DD6862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B19-C436-4CBD-B924-940946A1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E53-21BB-46C2-80A7-AFE83943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7BF-13A3-4C9A-93A5-4699E45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587-1994-4EB5-8CA3-3D8F1E89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8176-6E42-402C-9D7A-E7CB9EADF2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ción de proteínas recombinan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5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de AGOSTO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28"/>
          <p:cNvSpPr/>
          <p:nvPr/>
        </p:nvSpPr>
        <p:spPr>
          <a:xfrm>
            <a:off x="0" y="3780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urier New"/>
              </a:rPr>
              <a:t>  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37"/>
          <p:cNvSpPr/>
          <p:nvPr/>
        </p:nvSpPr>
        <p:spPr>
          <a:xfrm>
            <a:off x="838080" y="2514600"/>
            <a:ext cx="6934320" cy="2113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i="1" lang="es-ES" sz="2400" spc="-1" strike="noStrike">
                <a:solidFill>
                  <a:srgbClr val="ff0000"/>
                </a:solidFill>
                <a:latin typeface="Courier New"/>
              </a:rPr>
              <a:t>lac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wild-type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TT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ACA -- 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18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-- TAT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GT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T</a:t>
            </a: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0000"/>
                </a:solidFill>
                <a:latin typeface="Courier New"/>
              </a:rPr>
              <a:t>lac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UV5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            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TT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ACA -- </a:t>
            </a:r>
            <a:r>
              <a:rPr b="1" lang="es-ES" sz="2400" spc="-1" strike="noStrike">
                <a:solidFill>
                  <a:srgbClr val="333333"/>
                </a:solidFill>
                <a:latin typeface="Courier New"/>
              </a:rPr>
              <a:t>18</a:t>
            </a:r>
            <a:r>
              <a:rPr b="1" lang="es-ES" sz="2400" spc="-1" strike="noStrike">
                <a:solidFill>
                  <a:srgbClr val="ff0000"/>
                </a:solidFill>
                <a:latin typeface="Courier New"/>
              </a:rPr>
              <a:t> -- TA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               </a:t>
            </a:r>
            <a:r>
              <a:rPr b="1" lang="es-ES_tradnl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666666"/>
                </a:solidFill>
                <a:latin typeface="Courier New"/>
              </a:rPr>
              <a:t>TTGACA -- 17 -- TA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38"/>
          <p:cNvSpPr/>
          <p:nvPr/>
        </p:nvSpPr>
        <p:spPr>
          <a:xfrm>
            <a:off x="685800" y="609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 posible mutar un promotor para hacerlo mas fue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198108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38080" y="4419360"/>
            <a:ext cx="6934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c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operón lact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ción negativa por l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cido por análogo de alolactosa, IPT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ón mutante lacUV5 no afecto a control metabólico por  gluco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zón de inducció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1000 ve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1"/>
          <a:stretch/>
        </p:blipFill>
        <p:spPr>
          <a:xfrm>
            <a:off x="1143000" y="0"/>
            <a:ext cx="648828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38080" y="1231920"/>
            <a:ext cx="66214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71629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motor Híbrido entre P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ac(UV5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 P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ón -35 d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ón -10 d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dos por 16pb = Pt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 menos 10 x mas fuerte qu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X mas fuerte que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543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57200" y="4421160"/>
            <a:ext cx="838188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bbe0e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do negativamente p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La inducción es realizada por deprivación de triptofano o por adición de ácido indol acético (IA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No apropiado para expresión de proteínas con alto contenido de triptof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5"/>
          <p:cNvGraphicFramePr/>
          <p:nvPr/>
        </p:nvGraphicFramePr>
        <p:xfrm>
          <a:off x="1295280" y="380880"/>
          <a:ext cx="670572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0880"/>
                    <a:ext cx="670572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img021"/>
          <p:cNvPicPr/>
          <p:nvPr/>
        </p:nvPicPr>
        <p:blipFill>
          <a:blip r:embed="rId1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g020"/>
          <p:cNvPicPr/>
          <p:nvPr/>
        </p:nvPicPr>
        <p:blipFill>
          <a:blip r:embed="rId2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6019920" y="304920"/>
            <a:ext cx="274320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28-32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 temp. permi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O ocurre expresión del gen controlado por el represor 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04920" y="4191120"/>
            <a:ext cx="2819160" cy="215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42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 temperatura restri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Osaka"/>
              </a:rPr>
              <a:t>Fenotipo mutante para el represor cI.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Osaka"/>
              </a:rPr>
              <a:t>Ocurre expresión del gen controlado por 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2819520" y="518148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4800600" y="198108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04920" y="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L: promotor del fago lamb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0"/>
          <p:cNvGrpSpPr/>
          <p:nvPr/>
        </p:nvGrpSpPr>
        <p:grpSpPr>
          <a:xfrm>
            <a:off x="0" y="304920"/>
            <a:ext cx="8763120" cy="6343560"/>
            <a:chOff x="0" y="304920"/>
            <a:chExt cx="8763120" cy="6343560"/>
          </a:xfrm>
        </p:grpSpPr>
        <p:pic>
          <p:nvPicPr>
            <p:cNvPr id="94" name="Picture 5" descr="img006"/>
            <p:cNvPicPr/>
            <p:nvPr/>
          </p:nvPicPr>
          <p:blipFill>
            <a:blip r:embed="rId1"/>
            <a:stretch/>
          </p:blipFill>
          <p:spPr>
            <a:xfrm>
              <a:off x="0" y="304920"/>
              <a:ext cx="8763120" cy="63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6"/>
            <p:cNvSpPr/>
            <p:nvPr/>
          </p:nvSpPr>
          <p:spPr>
            <a:xfrm>
              <a:off x="1600200" y="16002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152280" y="121932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. Sin trp en el me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590920" y="2362320"/>
              <a:ext cx="533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5181480" y="1371600"/>
              <a:ext cx="25909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o hay expresión del gen clon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5105520" y="228600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s-ES_tradnl" sz="18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7315200" y="1981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Gen de interé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 flipH="1">
              <a:off x="624852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5"/>
            <p:cNvSpPr/>
            <p:nvPr/>
          </p:nvSpPr>
          <p:spPr>
            <a:xfrm>
              <a:off x="228600" y="358128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B. Con trp en el me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6"/>
            <p:cNvSpPr/>
            <p:nvPr/>
          </p:nvSpPr>
          <p:spPr>
            <a:xfrm>
              <a:off x="1752480" y="41148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5029200" y="480060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s-ES_tradnl" sz="18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3276720" y="3733920"/>
              <a:ext cx="2438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o expresión del gen 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9"/>
            <p:cNvSpPr/>
            <p:nvPr/>
          </p:nvSpPr>
          <p:spPr>
            <a:xfrm>
              <a:off x="6019920" y="3886200"/>
              <a:ext cx="25905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en clonado se expre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457200" y="20574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66"/>
                  </a:solidFill>
                  <a:latin typeface="Arial"/>
                </a:rPr>
                <a:t>PTrp ac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457200" y="4648320"/>
              <a:ext cx="1066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66"/>
                  </a:solidFill>
                  <a:latin typeface="Arial"/>
                </a:rPr>
                <a:t>PTrp inac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2133720" y="19810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9"/>
            <p:cNvSpPr/>
            <p:nvPr/>
          </p:nvSpPr>
          <p:spPr>
            <a:xfrm>
              <a:off x="2209680" y="4495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Line 21"/>
          <p:cNvSpPr/>
          <p:nvPr/>
        </p:nvSpPr>
        <p:spPr>
          <a:xfrm>
            <a:off x="2895480" y="4267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img023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981080" y="6172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zón de inducción &gt;&gt; de 1000 v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5 CuadroTexto"/>
          <p:cNvSpPr/>
          <p:nvPr/>
        </p:nvSpPr>
        <p:spPr>
          <a:xfrm>
            <a:off x="533520" y="3733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6 CuadroTexto"/>
          <p:cNvSpPr/>
          <p:nvPr/>
        </p:nvSpPr>
        <p:spPr>
          <a:xfrm>
            <a:off x="4572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2296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828800" y="601992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1219320" y="4114800"/>
            <a:ext cx="5029200" cy="175248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umentando la traducción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uencia de Shine Dalga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5720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en el mRNA, complementaria a región del 16S rRNA de la subunidad pequeña del ribos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8380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11430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61722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956680" y="373392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AAGGA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UCC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48769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335920" y="3733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883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80035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60800" y="32004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2184480" y="4317840"/>
            <a:ext cx="830160" cy="102888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8"/>
          <p:cNvSpPr/>
          <p:nvPr/>
        </p:nvSpPr>
        <p:spPr>
          <a:xfrm>
            <a:off x="4030560" y="4335480"/>
            <a:ext cx="1086120" cy="123516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2094840" y="51814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4498200" y="53341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2670120" y="51814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6S r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1908000" y="601992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ribosomal sub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3"/>
          <p:cNvSpPr/>
          <p:nvPr/>
        </p:nvSpPr>
        <p:spPr>
          <a:xfrm rot="16200000">
            <a:off x="3619440" y="285696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stemas biológicos de producción de P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. subt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élulas eucario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accharomyces cerevisi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ichia pastor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y otros metilotró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ngos filament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élulas animales en cul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élulas de insecto en cul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 Rectángulo"/>
          <p:cNvSpPr/>
          <p:nvPr/>
        </p:nvSpPr>
        <p:spPr>
          <a:xfrm>
            <a:off x="6172200" y="281952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imizar la expresión de proteínas codificadas por genes cl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6 Cerrar llave"/>
          <p:cNvSpPr/>
          <p:nvPr/>
        </p:nvSpPr>
        <p:spPr>
          <a:xfrm>
            <a:off x="5791320" y="2133720"/>
            <a:ext cx="304560" cy="380988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3809880"/>
              <a:gd name="textAreaBottom" fmla="*/ 380196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fecto de una estructura secundaria en el extremo 5’ del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533520" y="1828800"/>
            <a:ext cx="4267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o 5’ del mRNA, en la región del codón de inicio AUG, NO debe ser autocomplementaria, ya que se podría bloquear el movimiento del ribosoma e impedir la traducción del mens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6553080" y="23623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1055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Aumentando la traducción: 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Uso de cod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hech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Múltiples codones para algunos aminoác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Algunos codones son usados con poca frecu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Bajas concentraciones de los tRNAs correspo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Diferentes organismos pueden usar los diferentes codones a una frecuencia disti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606744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6400800" y="213372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640080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6400800" y="4572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" y="22860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e codones 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 hum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so de Codones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trategias de Optim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85800" y="16765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presar en un huesped diferente, que tenga el mismo uso de codones del gen heterólo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un organismo huesped modificado genéticament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or ejemplo, que sobreexprese tRNAs de baja abundancia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Osak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íntesis química de un nuevo 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Alterar la secuencia del gen de interés, usando codones que correspondan a los mas frecuentes del organismo hués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6"/>
          <p:cNvSpPr/>
          <p:nvPr/>
        </p:nvSpPr>
        <p:spPr>
          <a:xfrm>
            <a:off x="3200400" y="2514600"/>
            <a:ext cx="2133720" cy="2362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b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 rot="5400000">
            <a:off x="3848040" y="1638000"/>
            <a:ext cx="990360" cy="609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1828800" y="3429000"/>
            <a:ext cx="1295280" cy="533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1"/>
          <p:cNvSpPr/>
          <p:nvPr/>
        </p:nvSpPr>
        <p:spPr>
          <a:xfrm rot="10800000">
            <a:off x="5486040" y="3352680"/>
            <a:ext cx="1066680" cy="609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29000" y="3049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Vector de expresi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22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Huesped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934320" y="3505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553080" y="281952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Método de transformación genética conoc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6"/>
          <p:cNvSpPr/>
          <p:nvPr/>
        </p:nvSpPr>
        <p:spPr>
          <a:xfrm rot="5400000">
            <a:off x="4000320" y="4990680"/>
            <a:ext cx="685800" cy="6098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80988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P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2971800" y="5867280"/>
            <a:ext cx="289548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PROTE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Í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NA RECOMB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UN VECTOR DE EXPRESIÓN GENÉRIC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bio.davidson.edu/courses/genomics/method/inducepromoter.gif"/>
          <p:cNvPicPr/>
          <p:nvPr/>
        </p:nvPicPr>
        <p:blipFill>
          <a:blip r:embed="rId1"/>
          <a:stretch/>
        </p:blipFill>
        <p:spPr>
          <a:xfrm>
            <a:off x="2590920" y="2362320"/>
            <a:ext cx="3990960" cy="3457440"/>
          </a:xfrm>
          <a:prstGeom prst="rect">
            <a:avLst/>
          </a:prstGeom>
          <a:ln w="0">
            <a:noFill/>
          </a:ln>
        </p:spPr>
      </p:pic>
      <p:sp>
        <p:nvSpPr>
          <p:cNvPr id="60" name="Line 5"/>
          <p:cNvSpPr/>
          <p:nvPr/>
        </p:nvSpPr>
        <p:spPr>
          <a:xfrm flipV="1">
            <a:off x="2057400" y="48769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2971800" y="57150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1219320" y="304776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8600" y="57913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mpatibles con el hués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actores que afectan la  expresión que son dependientes del v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úmero de Copias del v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nscri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rza del pro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erza del sitio de unión al ribosoma (R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encia traduc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formación y estabilidad de la proteína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fecto del Número de Copias del gen heterólo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 gener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nivel de expresión is proporcional al número de copias del gen clo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namiento en un vector multicopia aumenta la expresión de un gen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in embarg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o costo energético asociado a la replicación de un  plasmidio de alto número de c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ros genes del plasmidio también se expres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ga metabólica por la expresión de la proteína heteró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ción de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 el cul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l efecto 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rdida del plamidio por contra-selección en medios sin presión selectiva: un problema real para la producción a escala industrial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ómo es un promotor ideal para un sistema de expresión recombinante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0492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fuerte (no siempre es recomendado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Fuerza para asegurar expresión &gt; 10 % del total de proteína ce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regu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La sobreexpresión de una proteína imp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carg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metaból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a las células, bajando la velocidad de cr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Algunas proteínas recombinantes pueden s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“tóxica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para las bacter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Necesario separar crecimiento de la expresión del gen heterólo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Reducir 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Osaka"/>
              </a:rPr>
              <a:t>expresión ba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26" descr=""/>
          <p:cNvPicPr/>
          <p:nvPr/>
        </p:nvPicPr>
        <p:blipFill>
          <a:blip r:embed="rId1"/>
          <a:stretch/>
        </p:blipFill>
        <p:spPr>
          <a:xfrm>
            <a:off x="0" y="955800"/>
            <a:ext cx="8474040" cy="537048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1828800" y="228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cuencia de consenso de un pro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El concepto de fuerza del promo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Un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promot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fuerte como el promotor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recA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iene pocas diferencias c/respecto al consens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TTGA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T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 -- 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16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-- TA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666666"/>
                </a:solidFill>
                <a:latin typeface="Arial"/>
              </a:rPr>
              <a:t>TTGACA -- 17 -- TA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Un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promot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débil como el promotor </a:t>
            </a:r>
            <a:r>
              <a:rPr b="0" i="1" lang="es-ES" sz="2800" spc="-1" strike="noStrike">
                <a:solidFill>
                  <a:srgbClr val="0000ff"/>
                </a:solidFill>
                <a:latin typeface="Arial"/>
              </a:rPr>
              <a:t>araBAD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tiene varias diferencias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TGAC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G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-- 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18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-- TA</a:t>
            </a:r>
            <a:r>
              <a:rPr b="1" lang="es-ES" sz="2800" spc="-1" strike="noStrike">
                <a:solidFill>
                  <a:srgbClr val="333333"/>
                </a:solidFill>
                <a:latin typeface="Arial"/>
              </a:rPr>
              <a:t>CTG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6666"/>
                </a:solidFill>
                <a:latin typeface="Arial"/>
              </a:rPr>
              <a:t>TTGACA -- 17 -- TA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03:40:04Z</dcterms:created>
  <dc:creator>Preferred Customer</dc:creator>
  <dc:description/>
  <dc:language>en-US</dc:language>
  <cp:lastModifiedBy>Ing Quimica</cp:lastModifiedBy>
  <dcterms:modified xsi:type="dcterms:W3CDTF">2007-09-03T22:11:59Z</dcterms:modified>
  <cp:revision>407</cp:revision>
  <dc:subject/>
  <dc:title>Producción de proteínas recombinantes</dc:title>
</cp:coreProperties>
</file>