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D84-5FB0-4F8E-8A67-33040FC7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5953-511A-4276-B79E-3A52EC2D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336-B7AE-448F-B3A0-7BFE8D9C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0DA1-DD62-4F65-B4AE-982FEC1E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E0D2-1B71-43F8-AF77-4266A64B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9E5-3E0C-4597-93D9-33E0079E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57CE-2F2F-45DA-B22E-C5370098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D18-DB88-4BB1-968E-AA9E61A7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A33-EA39-4D65-A026-E14909EA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304-4869-4B7C-8797-4AB157BE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E09-E54F-4D0D-B1EB-0D448F18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2A19-4105-447F-9502-F1F548DB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4698-EB33-4503-8D8A-DE7E5314A52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295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ducción de proteínas recombinan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T5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de AGOSTO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28"/>
          <p:cNvSpPr/>
          <p:nvPr/>
        </p:nvSpPr>
        <p:spPr>
          <a:xfrm>
            <a:off x="0" y="37800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          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37"/>
          <p:cNvSpPr/>
          <p:nvPr/>
        </p:nvSpPr>
        <p:spPr>
          <a:xfrm>
            <a:off x="838080" y="2514600"/>
            <a:ext cx="6934320" cy="2113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i="1" lang="es-ES_tradnl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i="1" lang="es-ES" sz="2400" spc="-1" strike="noStrike">
                <a:solidFill>
                  <a:srgbClr val="ff0000"/>
                </a:solidFill>
                <a:latin typeface="Courier New"/>
              </a:rPr>
              <a:t>lac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 wild-type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  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TT</a:t>
            </a:r>
            <a:r>
              <a:rPr b="1" lang="es-ES" sz="2400" spc="-1" strike="noStrike">
                <a:solidFill>
                  <a:srgbClr val="333333"/>
                </a:solidFill>
                <a:latin typeface="Courier New"/>
              </a:rPr>
              <a:t>T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ACA -- </a:t>
            </a:r>
            <a:r>
              <a:rPr b="1" lang="es-ES" sz="2400" spc="-1" strike="noStrike">
                <a:solidFill>
                  <a:srgbClr val="333333"/>
                </a:solidFill>
                <a:latin typeface="Courier New"/>
              </a:rPr>
              <a:t>18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 -- TAT</a:t>
            </a:r>
            <a:r>
              <a:rPr b="1" lang="es-ES" sz="2400" spc="-1" strike="noStrike">
                <a:solidFill>
                  <a:srgbClr val="333333"/>
                </a:solidFill>
                <a:latin typeface="Courier New"/>
              </a:rPr>
              <a:t>GT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T</a:t>
            </a:r>
            <a:r>
              <a:rPr b="1" i="1" lang="es-ES_tradnl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i="1" lang="es-ES_tradnl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0000"/>
                </a:solidFill>
                <a:latin typeface="Courier New"/>
              </a:rPr>
              <a:t>lac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 UV5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            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TT</a:t>
            </a:r>
            <a:r>
              <a:rPr b="1" lang="es-ES" sz="2400" spc="-1" strike="noStrike">
                <a:solidFill>
                  <a:srgbClr val="333333"/>
                </a:solidFill>
                <a:latin typeface="Courier New"/>
              </a:rPr>
              <a:t>T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ACA -- </a:t>
            </a:r>
            <a:r>
              <a:rPr b="1" lang="es-ES" sz="2400" spc="-1" strike="noStrike">
                <a:solidFill>
                  <a:srgbClr val="333333"/>
                </a:solidFill>
                <a:latin typeface="Courier New"/>
              </a:rPr>
              <a:t>18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 -- TA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               </a:t>
            </a:r>
            <a:r>
              <a:rPr b="1" lang="es-ES_tradnl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666666"/>
                </a:solidFill>
                <a:latin typeface="Courier New"/>
              </a:rPr>
              <a:t>TTGACA -- 17 -- TA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38"/>
          <p:cNvSpPr/>
          <p:nvPr/>
        </p:nvSpPr>
        <p:spPr>
          <a:xfrm>
            <a:off x="685800" y="6094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 posible mutar un promotor para hacerlo mas fue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5 CuadroTexto"/>
          <p:cNvSpPr/>
          <p:nvPr/>
        </p:nvSpPr>
        <p:spPr>
          <a:xfrm>
            <a:off x="198108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838080" y="4419360"/>
            <a:ext cx="69343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c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 operón lacto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ción negativa por l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ucido por análogo de alolactosa, IPT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sión mutante lacUV5 no afecto a control metabólico por  gluco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zón de inducció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1000 ve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9" descr=""/>
          <p:cNvPicPr/>
          <p:nvPr/>
        </p:nvPicPr>
        <p:blipFill>
          <a:blip r:embed="rId1"/>
          <a:stretch/>
        </p:blipFill>
        <p:spPr>
          <a:xfrm>
            <a:off x="1143000" y="0"/>
            <a:ext cx="648828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838080" y="1231920"/>
            <a:ext cx="662148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71629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motor Híbrido entre P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ac(UV5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y P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ón -35 de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ón -10 de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dos por 16pb = Pta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 menos 10 x mas fuerte que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X mas fuerte que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3543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57200" y="4421160"/>
            <a:ext cx="838188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bbe0e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p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ado negativamente p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La inducción es realizada por deprivación de triptofano o por adición de ácido indol acético (IA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No apropiado para expresión de proteínas con alto contenido de triptof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5"/>
          <p:cNvGraphicFramePr/>
          <p:nvPr/>
        </p:nvGraphicFramePr>
        <p:xfrm>
          <a:off x="1295280" y="380880"/>
          <a:ext cx="6705720" cy="40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80880"/>
                    <a:ext cx="670572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img021"/>
          <p:cNvPicPr/>
          <p:nvPr/>
        </p:nvPicPr>
        <p:blipFill>
          <a:blip r:embed="rId1"/>
          <a:stretch/>
        </p:blipFill>
        <p:spPr>
          <a:xfrm>
            <a:off x="3429000" y="257184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img020"/>
          <p:cNvPicPr/>
          <p:nvPr/>
        </p:nvPicPr>
        <p:blipFill>
          <a:blip r:embed="rId2"/>
          <a:stretch/>
        </p:blipFill>
        <p:spPr>
          <a:xfrm>
            <a:off x="0" y="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6019920" y="304920"/>
            <a:ext cx="274320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28-32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C temp. permis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NO ocurre expresión del gen controlado por el represor 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04920" y="4191120"/>
            <a:ext cx="2819160" cy="2157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42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C temperatura restri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Osaka"/>
              </a:rPr>
              <a:t>Fenotipo mutante para el represor cI.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Osaka"/>
              </a:rPr>
              <a:t>Ocurre expresión del gen controlado por 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2819520" y="518148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4800600" y="1981080"/>
            <a:ext cx="838080" cy="228600"/>
          </a:xfrm>
          <a:prstGeom prst="leftArrow">
            <a:avLst>
              <a:gd name="adj1" fmla="val 50000"/>
              <a:gd name="adj2" fmla="val 9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04920" y="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L: promotor del fago lamb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0"/>
          <p:cNvGrpSpPr/>
          <p:nvPr/>
        </p:nvGrpSpPr>
        <p:grpSpPr>
          <a:xfrm>
            <a:off x="0" y="304920"/>
            <a:ext cx="8763120" cy="6343560"/>
            <a:chOff x="0" y="304920"/>
            <a:chExt cx="8763120" cy="6343560"/>
          </a:xfrm>
        </p:grpSpPr>
        <p:pic>
          <p:nvPicPr>
            <p:cNvPr id="94" name="Picture 5" descr="img006"/>
            <p:cNvPicPr/>
            <p:nvPr/>
          </p:nvPicPr>
          <p:blipFill>
            <a:blip r:embed="rId1"/>
            <a:stretch/>
          </p:blipFill>
          <p:spPr>
            <a:xfrm>
              <a:off x="0" y="304920"/>
              <a:ext cx="8763120" cy="63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6"/>
            <p:cNvSpPr/>
            <p:nvPr/>
          </p:nvSpPr>
          <p:spPr>
            <a:xfrm>
              <a:off x="1600200" y="16002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152280" y="1219320"/>
              <a:ext cx="3200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. Sin trp en el med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590920" y="2362320"/>
              <a:ext cx="533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5181480" y="1371600"/>
              <a:ext cx="259092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No hay expresión del gen clon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0"/>
            <p:cNvSpPr/>
            <p:nvPr/>
          </p:nvSpPr>
          <p:spPr>
            <a:xfrm>
              <a:off x="5105520" y="228600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s-ES_tradnl" sz="18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1"/>
            <p:cNvSpPr/>
            <p:nvPr/>
          </p:nvSpPr>
          <p:spPr>
            <a:xfrm>
              <a:off x="7315200" y="19810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Gen de interé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4"/>
            <p:cNvSpPr/>
            <p:nvPr/>
          </p:nvSpPr>
          <p:spPr>
            <a:xfrm flipH="1">
              <a:off x="624852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5"/>
            <p:cNvSpPr/>
            <p:nvPr/>
          </p:nvSpPr>
          <p:spPr>
            <a:xfrm>
              <a:off x="228600" y="3581280"/>
              <a:ext cx="3200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B. Con trp en el med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16"/>
            <p:cNvSpPr/>
            <p:nvPr/>
          </p:nvSpPr>
          <p:spPr>
            <a:xfrm>
              <a:off x="1752480" y="41148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17"/>
            <p:cNvSpPr/>
            <p:nvPr/>
          </p:nvSpPr>
          <p:spPr>
            <a:xfrm>
              <a:off x="5029200" y="480060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s-ES_tradnl" sz="18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8"/>
            <p:cNvSpPr/>
            <p:nvPr/>
          </p:nvSpPr>
          <p:spPr>
            <a:xfrm>
              <a:off x="3276720" y="3733920"/>
              <a:ext cx="24382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No expresión del gen 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19"/>
            <p:cNvSpPr/>
            <p:nvPr/>
          </p:nvSpPr>
          <p:spPr>
            <a:xfrm>
              <a:off x="6019920" y="3886200"/>
              <a:ext cx="259056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gen clonado se expre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0"/>
            <p:cNvSpPr/>
            <p:nvPr/>
          </p:nvSpPr>
          <p:spPr>
            <a:xfrm>
              <a:off x="457200" y="205740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66"/>
                  </a:solidFill>
                  <a:latin typeface="Arial"/>
                </a:rPr>
                <a:t>PTrp ac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457200" y="4648320"/>
              <a:ext cx="1066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66"/>
                  </a:solidFill>
                  <a:latin typeface="Arial"/>
                </a:rPr>
                <a:t>PTrp inac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8"/>
            <p:cNvSpPr/>
            <p:nvPr/>
          </p:nvSpPr>
          <p:spPr>
            <a:xfrm>
              <a:off x="2133720" y="198108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9"/>
            <p:cNvSpPr/>
            <p:nvPr/>
          </p:nvSpPr>
          <p:spPr>
            <a:xfrm>
              <a:off x="2209680" y="44956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Line 21"/>
          <p:cNvSpPr/>
          <p:nvPr/>
        </p:nvSpPr>
        <p:spPr>
          <a:xfrm>
            <a:off x="2895480" y="4267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img023"/>
          <p:cNvPicPr/>
          <p:nvPr/>
        </p:nvPicPr>
        <p:blipFill>
          <a:blip r:embed="rId1"/>
          <a:stretch/>
        </p:blipFill>
        <p:spPr>
          <a:xfrm>
            <a:off x="0" y="-6660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1981080" y="6172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zón de inducción &gt;&gt; de 1000 v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5 CuadroTexto"/>
          <p:cNvSpPr/>
          <p:nvPr/>
        </p:nvSpPr>
        <p:spPr>
          <a:xfrm>
            <a:off x="533520" y="3733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Ge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6 CuadroTexto"/>
          <p:cNvSpPr/>
          <p:nvPr/>
        </p:nvSpPr>
        <p:spPr>
          <a:xfrm>
            <a:off x="457200" y="5486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22960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828800" y="6019920"/>
            <a:ext cx="4191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1219320" y="4114800"/>
            <a:ext cx="5029200" cy="1752480"/>
          </a:xfrm>
          <a:prstGeom prst="ellipse">
            <a:avLst/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572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umentando la traducción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cuencia de Shine Dalga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45720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encia en el mRNA, complementaria a región del 16S rRNA de la subunidad pequeña del riboso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838080" y="17524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1143000" y="39625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6172200" y="39625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956680" y="373392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UAAGGA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UUCC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4876920" y="3962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5335920" y="37339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688320" y="37339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8003520" y="37339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460800" y="32004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17"/>
          <p:cNvSpPr/>
          <p:nvPr/>
        </p:nvSpPr>
        <p:spPr>
          <a:xfrm>
            <a:off x="2184480" y="4317840"/>
            <a:ext cx="830160" cy="1028880"/>
          </a:xfrm>
          <a:prstGeom prst="pie">
            <a:avLst/>
          </a:pr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8"/>
          <p:cNvSpPr/>
          <p:nvPr/>
        </p:nvSpPr>
        <p:spPr>
          <a:xfrm>
            <a:off x="4030560" y="4335480"/>
            <a:ext cx="1086120" cy="1235160"/>
          </a:xfrm>
          <a:prstGeom prst="pie">
            <a:avLst/>
          </a:pr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2094840" y="518148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4498200" y="53341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2670120" y="518148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16S r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1908000" y="601992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ribosomal sub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3"/>
          <p:cNvSpPr/>
          <p:nvPr/>
        </p:nvSpPr>
        <p:spPr>
          <a:xfrm rot="16200000">
            <a:off x="3619440" y="285696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istemas biológicos de producción de P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. subt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élulas eucario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ad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accharomyces cerevisi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ichia pastor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y otros metilotró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ngos filamento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élulas animales en cul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élulas de insecto en cul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5 Rectángulo"/>
          <p:cNvSpPr/>
          <p:nvPr/>
        </p:nvSpPr>
        <p:spPr>
          <a:xfrm>
            <a:off x="6172200" y="281952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imizar la expresión de proteínas codificadas por genes cl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6 Cerrar llave"/>
          <p:cNvSpPr/>
          <p:nvPr/>
        </p:nvSpPr>
        <p:spPr>
          <a:xfrm>
            <a:off x="5791320" y="2133720"/>
            <a:ext cx="304560" cy="380988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3809880"/>
              <a:gd name="textAreaBottom" fmla="*/ 380196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"/>
                  <a:pt x="10800" y="144"/>
                </a:cubicBezTo>
                <a:lnTo>
                  <a:pt x="10800" y="10656"/>
                </a:lnTo>
                <a:cubicBezTo>
                  <a:pt x="10800" y="10728"/>
                  <a:pt x="16200" y="10800"/>
                  <a:pt x="21600" y="10800"/>
                </a:cubicBezTo>
                <a:cubicBezTo>
                  <a:pt x="16200" y="10800"/>
                  <a:pt x="10800" y="10872"/>
                  <a:pt x="10800" y="10944"/>
                </a:cubicBezTo>
                <a:lnTo>
                  <a:pt x="10800" y="21456"/>
                </a:lnTo>
                <a:cubicBezTo>
                  <a:pt x="10800" y="215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3808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fecto de una estructura secundaria en el extremo 5’ del m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505320" cy="48006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533520" y="1828800"/>
            <a:ext cx="42670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o 5’ del mRNA, en la región del codón de inicio AUG, NO debe ser autocomplementaria, ya que se podría bloquear el movimiento del ribosoma e impedir la traducción del mensa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6553080" y="23623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1055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Aumentando la traducción: </a:t>
            </a:r>
            <a:br>
              <a:rPr sz="3600"/>
            </a:b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Uso de cod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hech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Múltiples codones para algunos aminoác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Algunos codones son usados con poca frecu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Bajas concentraciones de los tRNAs correspond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Diferentes organismos pueden usar los diferentes codones a una frecuencia disti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915400" cy="6067440"/>
          </a:xfrm>
          <a:prstGeom prst="rect">
            <a:avLst/>
          </a:prstGeom>
          <a:ln w="0">
            <a:noFill/>
          </a:ln>
        </p:spPr>
      </p:pic>
      <p:sp>
        <p:nvSpPr>
          <p:cNvPr id="148" name="Line 6"/>
          <p:cNvSpPr/>
          <p:nvPr/>
        </p:nvSpPr>
        <p:spPr>
          <a:xfrm>
            <a:off x="6400800" y="213372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6400800" y="3429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6400800" y="4572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57200" y="228600"/>
            <a:ext cx="8534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o de codones e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 huma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Uso de Codones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strategias de Optim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685800" y="16765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xpresar en un huesped diferente, que tenga el mismo uso de codones del gen heterólo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so de un organismo huesped modificado genéticamente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Por ejemplo, que sobreexprese tRNAs de baja abundancia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Osak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íntesis química de un nuevo 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Alterar la secuencia del gen de interés, usando codones que correspondan a los mas frecuentes del organismo hués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6"/>
          <p:cNvSpPr/>
          <p:nvPr/>
        </p:nvSpPr>
        <p:spPr>
          <a:xfrm>
            <a:off x="838080" y="160020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6"/>
          <p:cNvSpPr/>
          <p:nvPr/>
        </p:nvSpPr>
        <p:spPr>
          <a:xfrm>
            <a:off x="3200400" y="2514600"/>
            <a:ext cx="2133720" cy="2362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m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bin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9"/>
          <p:cNvSpPr/>
          <p:nvPr/>
        </p:nvSpPr>
        <p:spPr>
          <a:xfrm rot="5400000">
            <a:off x="3848040" y="1638000"/>
            <a:ext cx="990360" cy="609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1828800" y="3429000"/>
            <a:ext cx="1295280" cy="5335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1"/>
          <p:cNvSpPr/>
          <p:nvPr/>
        </p:nvSpPr>
        <p:spPr>
          <a:xfrm rot="10800000">
            <a:off x="5486040" y="3352680"/>
            <a:ext cx="1066680" cy="609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429000" y="3049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Vector de expresi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ó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2280" y="3429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Huesped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934320" y="35053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553080" y="281952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Método de transformación genética conoc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6"/>
          <p:cNvSpPr/>
          <p:nvPr/>
        </p:nvSpPr>
        <p:spPr>
          <a:xfrm rot="5400000">
            <a:off x="4000320" y="4990680"/>
            <a:ext cx="685800" cy="6098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380988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P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2971800" y="5867280"/>
            <a:ext cx="289548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PROTE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Í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NA RECOMBIN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UN VECTOR DE EXPRESIÓN GENÉRIC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www.bio.davidson.edu/courses/genomics/method/inducepromoter.gif"/>
          <p:cNvPicPr/>
          <p:nvPr/>
        </p:nvPicPr>
        <p:blipFill>
          <a:blip r:embed="rId1"/>
          <a:stretch/>
        </p:blipFill>
        <p:spPr>
          <a:xfrm>
            <a:off x="2590920" y="2362320"/>
            <a:ext cx="3990960" cy="3457440"/>
          </a:xfrm>
          <a:prstGeom prst="rect">
            <a:avLst/>
          </a:prstGeom>
          <a:ln w="0">
            <a:noFill/>
          </a:ln>
        </p:spPr>
      </p:pic>
      <p:sp>
        <p:nvSpPr>
          <p:cNvPr id="60" name="Line 5"/>
          <p:cNvSpPr/>
          <p:nvPr/>
        </p:nvSpPr>
        <p:spPr>
          <a:xfrm flipV="1">
            <a:off x="2057400" y="48769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6"/>
          <p:cNvSpPr/>
          <p:nvPr/>
        </p:nvSpPr>
        <p:spPr>
          <a:xfrm flipV="1">
            <a:off x="2971800" y="571500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7"/>
          <p:cNvSpPr/>
          <p:nvPr/>
        </p:nvSpPr>
        <p:spPr>
          <a:xfrm flipV="1">
            <a:off x="1219320" y="304776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28600" y="57913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ompatibles con el hués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actores que afectan la  expresión que son dependientes del v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Número de Copias del ve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nscrip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erza del prom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in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erza del sitio de unión al ribosoma (RB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iciencia traduc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formación y estabilidad de la proteína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fecto del Número de Copias del gen heterólo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n gener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nivel de expresión is proporcional al número de copias del gen clo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namiento en un vector multicopia aumenta la expresión de un gen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in embarg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o costo energético asociado a la replicación de un  plasmidio de alto número de cop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ros genes del plasmidio también se expres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ga metabólica por la expresión de la proteína heteról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ación de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 el cul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l efecto 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érdida del plamidio por contra-selección en medios sin presión selectiva: un problema real para la producción a escala industrial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ómo es un promotor ideal para un sistema de expresión recombinante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0492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fuerte (no siempre es recomendado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Fuerza para asegurar expresión &gt; 10 % del total de proteína cel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regu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La sobreexpresión de una proteína imp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Osaka"/>
              </a:rPr>
              <a:t>carg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Osaka"/>
              </a:rPr>
              <a:t>metaból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a las células, bajando la velocidad de creci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Algunas proteínas recombinantes pueden se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Osaka"/>
              </a:rPr>
              <a:t>“tóxica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para las bacteri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Necesario separar crecimiento de la expresión del gen heterólo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Reducir l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Osaka"/>
              </a:rPr>
              <a:t>expresión ba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026" descr=""/>
          <p:cNvPicPr/>
          <p:nvPr/>
        </p:nvPicPr>
        <p:blipFill>
          <a:blip r:embed="rId1"/>
          <a:stretch/>
        </p:blipFill>
        <p:spPr>
          <a:xfrm>
            <a:off x="0" y="955800"/>
            <a:ext cx="8474040" cy="5370480"/>
          </a:xfrm>
          <a:prstGeom prst="rect">
            <a:avLst/>
          </a:prstGeom>
          <a:ln w="0">
            <a:noFill/>
          </a:ln>
        </p:spPr>
      </p:pic>
      <p:sp>
        <p:nvSpPr>
          <p:cNvPr id="71" name="2 CuadroTexto"/>
          <p:cNvSpPr/>
          <p:nvPr/>
        </p:nvSpPr>
        <p:spPr>
          <a:xfrm>
            <a:off x="1828800" y="228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ecuencia de consenso de un pro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El concepto de fuerza del promot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Un 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promot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 fuerte como el promotor 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recA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iene pocas diferencias c/respecto al consens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TTGA</a:t>
            </a:r>
            <a:r>
              <a:rPr b="1" lang="es-ES" sz="2800" spc="-1" strike="noStrike">
                <a:solidFill>
                  <a:srgbClr val="333333"/>
                </a:solidFill>
                <a:latin typeface="Arial"/>
              </a:rPr>
              <a:t>T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 -- </a:t>
            </a:r>
            <a:r>
              <a:rPr b="1" lang="es-ES" sz="2800" spc="-1" strike="noStrike">
                <a:solidFill>
                  <a:srgbClr val="333333"/>
                </a:solidFill>
                <a:latin typeface="Arial"/>
              </a:rPr>
              <a:t>16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-- TA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6666"/>
                </a:solidFill>
                <a:latin typeface="Arial"/>
              </a:rPr>
              <a:t>     </a:t>
            </a:r>
            <a:r>
              <a:rPr b="1" lang="es-ES" sz="2800" spc="-1" strike="noStrike">
                <a:solidFill>
                  <a:srgbClr val="666666"/>
                </a:solidFill>
                <a:latin typeface="Arial"/>
              </a:rPr>
              <a:t>TTGACA -- 17 -- TA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Un 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promot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 débil como el promotor </a:t>
            </a:r>
            <a:r>
              <a:rPr b="0" i="1" lang="es-ES" sz="2800" spc="-1" strike="noStrike">
                <a:solidFill>
                  <a:srgbClr val="0000ff"/>
                </a:solidFill>
                <a:latin typeface="Arial"/>
              </a:rPr>
              <a:t>araBAD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iene varias diferencias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Arial"/>
              </a:rPr>
              <a:t>C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TGAC</a:t>
            </a:r>
            <a:r>
              <a:rPr b="1" lang="es-ES" sz="2800" spc="-1" strike="noStrike">
                <a:solidFill>
                  <a:srgbClr val="333333"/>
                </a:solidFill>
                <a:latin typeface="Arial"/>
              </a:rPr>
              <a:t>G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-- </a:t>
            </a:r>
            <a:r>
              <a:rPr b="1" lang="es-ES" sz="2800" spc="-1" strike="noStrike">
                <a:solidFill>
                  <a:srgbClr val="333333"/>
                </a:solidFill>
                <a:latin typeface="Arial"/>
              </a:rPr>
              <a:t>18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-- TA</a:t>
            </a:r>
            <a:r>
              <a:rPr b="1" lang="es-ES" sz="2800" spc="-1" strike="noStrike">
                <a:solidFill>
                  <a:srgbClr val="333333"/>
                </a:solidFill>
                <a:latin typeface="Arial"/>
              </a:rPr>
              <a:t>CTG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6666"/>
                </a:solidFill>
                <a:latin typeface="Arial"/>
              </a:rPr>
              <a:t>TTGACA -- 17 -- TA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8T03:40:04Z</dcterms:created>
  <dc:creator>Preferred Customer</dc:creator>
  <dc:description/>
  <dc:language>en-US</dc:language>
  <cp:lastModifiedBy>Ing Quimica</cp:lastModifiedBy>
  <dcterms:modified xsi:type="dcterms:W3CDTF">2007-09-03T22:11:59Z</dcterms:modified>
  <cp:revision>407</cp:revision>
  <dc:subject/>
  <dc:title>Producción de proteínas recombinantes</dc:title>
</cp:coreProperties>
</file>