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1F36-A372-429A-8CF8-47BB108B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344C-4C23-4CAF-8B4C-D69B09DC9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53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stream, and yet growth is control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/c all cells are dependent on extrinsic factors produced by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(usually on the surface, but not always) initiate other signal transduction cascades that regulate cellular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ocial control model of cell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atectomy/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7D3-EAFD-4DD4-9C58-4368BC35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606-13C7-4B31-AF34-97CEED02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44F-3B14-475E-8FB4-211B0698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F91-A98E-4B54-976F-B799C963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16B-38FB-49D3-917D-0FDC6A77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D43-8DFC-462E-B7F5-9C4CE9E1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9B0-62D9-4D17-9FC1-98145670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9A8-1736-4714-A9E7-74FFD26B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D8C-3A27-4ED4-A8D3-5212840B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469-585F-4A30-A225-F6696A57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DBB-BE7B-420A-9BCD-F417A1EE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1E0-02CE-4970-83AD-CA6BEB6E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D79C-97A7-41BD-97D0-CDB0A2C7F4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Conceptos actuales de cultivo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técnicas de cultivo de células están destinadas al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antenimiento de las células 'in vitro',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servand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al máximo (en la medida de lo posible) sus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opiedades fisiológicas, bioquímicas y genétic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244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Adhesión Cel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ular en 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2670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élulas secretan glicoproteínas (fibronectina, laminina, colágeno) y proteoglicanos de matriz extracelular; éstos se anclan al sustrato car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nocimiento y unión de las células a la matriz vía receptores específicos de la cél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erficie de cultivo debe est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o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í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re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mente cargada par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he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r glicoproteínas de la matri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ficies ideales para monocapas son aquellas no-tóxicas, biológicamente inertes y ópticamente transpa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430848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igure_6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228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T-2700-1"/>
          <p:cNvPicPr/>
          <p:nvPr/>
        </p:nvPicPr>
        <p:blipFill>
          <a:blip r:embed="rId2"/>
          <a:stretch/>
        </p:blipFill>
        <p:spPr>
          <a:xfrm>
            <a:off x="609480" y="4038480"/>
            <a:ext cx="2305080" cy="24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figure_9"/>
          <p:cNvPicPr/>
          <p:nvPr/>
        </p:nvPicPr>
        <p:blipFill>
          <a:blip r:embed="rId3"/>
          <a:stretch/>
        </p:blipFill>
        <p:spPr>
          <a:xfrm>
            <a:off x="4648320" y="3917880"/>
            <a:ext cx="2539800" cy="2940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609480" y="2666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-Flask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696080" y="5257800"/>
            <a:ext cx="1447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ler Bot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810240" cy="2978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5181480" y="3276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icroc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recimiento en suspen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liferación sin necesidad de adherirse al sustrato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ependientes de anclaj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Ocurre e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élulas hematopoyét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lgunas líneas celulares transformadas y de células tum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todo tejido existe una fracció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células qu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apaz de crecer en suspensión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a adaptación y selección de é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200400" cy="297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3333600" cy="2895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276720" y="34290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er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04920" y="62485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actores 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6516720" y="0"/>
            <a:ext cx="2627280" cy="4976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559760" y="6521400"/>
            <a:ext cx="1418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inner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figure_11"/>
          <p:cNvPicPr/>
          <p:nvPr/>
        </p:nvPicPr>
        <p:blipFill>
          <a:blip r:embed="rId4"/>
          <a:stretch/>
        </p:blipFill>
        <p:spPr>
          <a:xfrm>
            <a:off x="6070680" y="3638520"/>
            <a:ext cx="3073320" cy="321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5"/>
          <a:stretch/>
        </p:blipFill>
        <p:spPr>
          <a:xfrm>
            <a:off x="380880" y="3962520"/>
            <a:ext cx="4351320" cy="2400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388440" y="0"/>
            <a:ext cx="7552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Mé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tod</a:t>
            </a: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s </a:t>
            </a: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para crecer células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897960" cy="5484600"/>
          </a:xfrm>
          <a:prstGeom prst="rect">
            <a:avLst/>
          </a:prstGeom>
          <a:ln w="0">
            <a:noFill/>
          </a:ln>
        </p:spPr>
      </p:pic>
      <p:sp>
        <p:nvSpPr>
          <p:cNvPr id="115" name="Line 5"/>
          <p:cNvSpPr/>
          <p:nvPr/>
        </p:nvSpPr>
        <p:spPr>
          <a:xfrm>
            <a:off x="1676520" y="182880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600200" y="51814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676520" y="396252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600200" y="28954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390680" y="14400"/>
            <a:ext cx="636264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OS DE CULTI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órg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iología normal, funciones se mantienen (células permanecen diferenciad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alamiento no  es fác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cimiento es lento y limitado a la perif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a experimento requiere tejido fresco (elevada heterogeneidad de dat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tejidos o explantes: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mantienen algunas funciones norm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pierde la organización original del tej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 escalable que el cultivo de órganos, pero no es ide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célul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 desarrollo de líneas celulares por sucesivos subcul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escalamiento de los volúmenes de cultivo es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élulas pueden (no siempre es así) perder algunas de las características diferenciad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90560" cy="924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108576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ncbi.nlm.nih.gov/books/bookres.fcgi/cooper/ch1f40.gif"/>
          <p:cNvPicPr/>
          <p:nvPr/>
        </p:nvPicPr>
        <p:blipFill>
          <a:blip r:embed="rId3"/>
          <a:stretch/>
        </p:blipFill>
        <p:spPr>
          <a:xfrm>
            <a:off x="4495680" y="50760"/>
            <a:ext cx="3886200" cy="6645240"/>
          </a:xfrm>
          <a:prstGeom prst="rect">
            <a:avLst/>
          </a:prstGeom>
          <a:ln w="0">
            <a:noFill/>
          </a:ln>
        </p:spPr>
      </p:pic>
      <p:sp>
        <p:nvSpPr>
          <p:cNvPr id="125" name="4 Flecha derecha"/>
          <p:cNvSpPr/>
          <p:nvPr/>
        </p:nvSpPr>
        <p:spPr>
          <a:xfrm>
            <a:off x="1447920" y="137160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5 Flecha derecha"/>
          <p:cNvSpPr/>
          <p:nvPr/>
        </p:nvSpPr>
        <p:spPr>
          <a:xfrm>
            <a:off x="3657600" y="121932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6 CuadroTexto"/>
          <p:cNvSpPr/>
          <p:nvPr/>
        </p:nvSpPr>
        <p:spPr>
          <a:xfrm>
            <a:off x="380880" y="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stablecimiento de un cultivo pri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7 CuadroTexto"/>
          <p:cNvSpPr/>
          <p:nvPr/>
        </p:nvSpPr>
        <p:spPr>
          <a:xfrm>
            <a:off x="228600" y="236232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. en monocapa, confluente, inhib por cont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ión especializada es mas aparente después de confl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n el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mejor modelo experiment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situa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in v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Arial"/>
              </a:rPr>
              <a:t>Desventaj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una mezcla de tip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de vida limitado del cul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31240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tivo pri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5715000"/>
            <a:ext cx="1447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tivo secund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ncbi.nlm.nih.gov/books/bookres.fcgi/mcb/ch6f5.gif"/>
          <p:cNvPicPr/>
          <p:nvPr/>
        </p:nvPicPr>
        <p:blipFill>
          <a:blip r:embed="rId1"/>
          <a:stretch/>
        </p:blipFill>
        <p:spPr>
          <a:xfrm>
            <a:off x="762120" y="509760"/>
            <a:ext cx="4724280" cy="5822640"/>
          </a:xfrm>
          <a:prstGeom prst="rect">
            <a:avLst/>
          </a:prstGeom>
          <a:ln w="0">
            <a:noFill/>
          </a:ln>
        </p:spPr>
      </p:pic>
      <p:sp>
        <p:nvSpPr>
          <p:cNvPr id="132" name="2 CuadroTexto"/>
          <p:cNvSpPr/>
          <p:nvPr/>
        </p:nvSpPr>
        <p:spPr>
          <a:xfrm>
            <a:off x="6095880" y="9144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élulas humanas generalmente no forman líneas celulares inmort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CuadroTexto"/>
          <p:cNvSpPr/>
          <p:nvPr/>
        </p:nvSpPr>
        <p:spPr>
          <a:xfrm>
            <a:off x="6248520" y="403848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unas células de ratón poseen potencial para hacerse inmort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Líneas cel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general, las células se propagan y subcultivan varias veces, hasta que alcanzan 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senescenc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mu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élulas endoteliales de cordón umbilical humano (HUVEC) permanecen en cultivo de 3 a 9 pas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j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broblastos dérmicos humanos pueden superar los 20 pasajes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gunas células se vuelven inmortales      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líne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343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Usos de células animales en cul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ción (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y flu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ntracel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, cáncer y otras patología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 de productos biofarmacéutic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vacunas v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anticuerpos monoclona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proteínas y enzimas comple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ones diagnóstica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can el análisis cromosómico de células crecidas a partir de muestras de  amniocentesis, detección de infecciones virales, ensayos de toxi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ones médicas : terapia celular, mantenimiento y producción de tejidos para transpl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3880" y="1031760"/>
          <a:ext cx="6477120" cy="5548320"/>
        </p:xfrm>
        <a:graphic>
          <a:graphicData uri="http://schemas.openxmlformats.org/drawingml/2006/table">
            <a:tbl>
              <a:tblPr/>
              <a:tblGrid>
                <a:gridCol w="3391200"/>
                <a:gridCol w="3085920"/>
              </a:tblGrid>
              <a:tr h="3157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nea  cel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2f2799"/>
                          </a:solidFill>
                          <a:latin typeface="Arial"/>
                        </a:rPr>
                        <a:t>BHK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2f2799"/>
                          </a:solidFill>
                          <a:latin typeface="Arial"/>
                        </a:rPr>
                        <a:t>fibroblast (Syrian ham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 cell (do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H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epithelial cell (hum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 cell (rat kangaro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blast (r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affin cell (r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S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plasma cell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(monke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(human); transformed with adenovi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 (chinese ham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mphoma cell for efficient targeted recombination (chi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6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1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1, H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hum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hage-like cells </a:t>
                      </a: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osophila)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ifferentiated meristematic cells (tobac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2 Rectángulo"/>
          <p:cNvSpPr/>
          <p:nvPr/>
        </p:nvSpPr>
        <p:spPr>
          <a:xfrm>
            <a:off x="1523880" y="990720"/>
            <a:ext cx="647712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3 CuadroTexto"/>
          <p:cNvSpPr/>
          <p:nvPr/>
        </p:nvSpPr>
        <p:spPr>
          <a:xfrm>
            <a:off x="1447920" y="304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Times New Roman"/>
              </a:rPr>
              <a:t>Algunas líneas celulares comunmente u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s://www.sigmaaldrich.com/img/assets/9620/Figure_2_Hela.jpg"/>
          <p:cNvPicPr/>
          <p:nvPr/>
        </p:nvPicPr>
        <p:blipFill>
          <a:blip r:embed="rId1"/>
          <a:stretch/>
        </p:blipFill>
        <p:spPr>
          <a:xfrm>
            <a:off x="1143000" y="7621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s://www.sigmaaldrich.com/img/assets/9620/Figure_2_BAE.jpg"/>
          <p:cNvPicPr/>
          <p:nvPr/>
        </p:nvPicPr>
        <p:blipFill>
          <a:blip r:embed="rId2"/>
          <a:stretch/>
        </p:blipFill>
        <p:spPr>
          <a:xfrm>
            <a:off x="5105520" y="7621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s://www.sigmaaldrich.com/img/assets/9620/Figure_2_MRC5.jpg"/>
          <p:cNvPicPr/>
          <p:nvPr/>
        </p:nvPicPr>
        <p:blipFill>
          <a:blip r:embed="rId3"/>
          <a:stretch/>
        </p:blipFill>
        <p:spPr>
          <a:xfrm>
            <a:off x="1219320" y="39625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s://www.sigmaaldrich.com/img/assets/9620/Figure_2_SH-SY5Y.jpg"/>
          <p:cNvPicPr/>
          <p:nvPr/>
        </p:nvPicPr>
        <p:blipFill>
          <a:blip r:embed="rId4"/>
          <a:stretch/>
        </p:blipFill>
        <p:spPr>
          <a:xfrm>
            <a:off x="5257800" y="3962520"/>
            <a:ext cx="3333600" cy="2504880"/>
          </a:xfrm>
          <a:prstGeom prst="rect">
            <a:avLst/>
          </a:prstGeom>
          <a:ln w="0">
            <a:noFill/>
          </a:ln>
        </p:spPr>
      </p:pic>
      <p:sp>
        <p:nvSpPr>
          <p:cNvPr id="144" name="5 Rectángulo"/>
          <p:cNvSpPr/>
          <p:nvPr/>
        </p:nvSpPr>
        <p:spPr>
          <a:xfrm>
            <a:off x="495288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H-SY5Y - neur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6 Rectángulo"/>
          <p:cNvSpPr/>
          <p:nvPr/>
        </p:nvSpPr>
        <p:spPr>
          <a:xfrm>
            <a:off x="91440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RC-5 - fibro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7 Rectángulo"/>
          <p:cNvSpPr/>
          <p:nvPr/>
        </p:nvSpPr>
        <p:spPr>
          <a:xfrm>
            <a:off x="502920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E-1 - endoth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8 Rectángulo"/>
          <p:cNvSpPr/>
          <p:nvPr/>
        </p:nvSpPr>
        <p:spPr>
          <a:xfrm>
            <a:off x="9907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ela - epith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íneas Celulares Inmortalizad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 de inmortalización depende del tipo ce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nas células humanas se hacen inmortales por introducción de telomer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ctivación de mecanismos de control del ciclo celular por introducción de oncoge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idas de infección con virus tumoral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neas celulares inmortales también pueden ser generadas desde células cancerosas, per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muchos aspectos son diferentes a células norm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nudo independientes de ancl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n a una mayor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hibidas por conta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ncbi.nlm.nih.gov/books/bookres.fcgi/mboc4/ch23f25.gif"/>
          <p:cNvPicPr/>
          <p:nvPr/>
        </p:nvPicPr>
        <p:blipFill>
          <a:blip r:embed="rId1"/>
          <a:stretch/>
        </p:blipFill>
        <p:spPr>
          <a:xfrm>
            <a:off x="5486400" y="4800600"/>
            <a:ext cx="3238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ansformación cel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 fenotípico permanente, espontáneo o inducido, resultante de un cambio heredable en el DNA y en la expresión gé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estabilidad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mort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trol aberrante del crecimi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érdida de la inhibición por contacto y la dependencia de ancla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lignidad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o evidencia del potencial tumorigénico de l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2971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azón de la inmortalización de célul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en la mayor parte de los casos desconoci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ero se incrementa la frecuencia de inmortalización mediante infecciones virale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tamientos con mutágen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3809880" y="0"/>
            <a:ext cx="4762800" cy="5286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5790240" y="5587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Verdana"/>
              </a:rPr>
              <a:t>línea primaria de g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705720" y="312408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Verdana"/>
              </a:rPr>
              <a:t>línea estable de melanoma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(transform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liferación v/s diferenciación de células en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419720" y="671040"/>
            <a:ext cx="472428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FERENCIACIÓN  y PROLIFERACION son generalmente procesos mutuamente exclu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olif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entrada en el ciclo de división celular es regulada por señales ambientales (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ja densidad induce a las células disemina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es de crecimiento (EGF, PDGF o FGF) son neces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cimiento inhibido en cultivos de alta den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ínas intracelulares como p53 y Rb inhiben la prolife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15"/>
          <p:cNvGraphicFramePr/>
          <p:nvPr/>
        </p:nvGraphicFramePr>
        <p:xfrm>
          <a:off x="228600" y="2666880"/>
          <a:ext cx="34513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3451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29718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8862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006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971800" y="3581280"/>
            <a:ext cx="2666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3276720" y="31240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4114800" y="3124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5029200" y="3124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7"/>
          <p:cNvGrpSpPr/>
          <p:nvPr/>
        </p:nvGrpSpPr>
        <p:grpSpPr>
          <a:xfrm>
            <a:off x="2971800" y="3962520"/>
            <a:ext cx="2438280" cy="457200"/>
            <a:chOff x="2971800" y="3962520"/>
            <a:chExt cx="2438280" cy="457200"/>
          </a:xfrm>
        </p:grpSpPr>
        <p:sp>
          <p:nvSpPr>
            <p:cNvPr id="169" name="Oval 8"/>
            <p:cNvSpPr/>
            <p:nvPr/>
          </p:nvSpPr>
          <p:spPr>
            <a:xfrm>
              <a:off x="2971800" y="39625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657600" y="41911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4267080" y="39625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3429000" y="4038480"/>
              <a:ext cx="22860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4038480" y="4267080"/>
              <a:ext cx="22860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4724280" y="3962520"/>
              <a:ext cx="228600" cy="1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8"/>
          <p:cNvSpPr/>
          <p:nvPr/>
        </p:nvSpPr>
        <p:spPr>
          <a:xfrm>
            <a:off x="1905120" y="76212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arámetros que controlan la diferenciación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in vi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5943600" y="38862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nteracción con la matri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lágeno, laminina, proteoglican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4876920" y="3276720"/>
            <a:ext cx="152280" cy="533160"/>
          </a:xfrm>
          <a:prstGeom prst="upDownArrow">
            <a:avLst>
              <a:gd name="adj1" fmla="val 50000"/>
              <a:gd name="adj2" fmla="val 696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 flipH="1" flipV="1">
            <a:off x="5715000" y="36576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1143000" y="48769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Factores solu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as, citokinas, vitaminas. Iones calcio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3"/>
          <p:cNvSpPr/>
          <p:nvPr/>
        </p:nvSpPr>
        <p:spPr>
          <a:xfrm rot="1678800">
            <a:off x="2514600" y="37335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990720" y="2133720"/>
            <a:ext cx="167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nteracción célula cél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ólog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terólo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5"/>
          <p:cNvSpPr/>
          <p:nvPr/>
        </p:nvSpPr>
        <p:spPr>
          <a:xfrm>
            <a:off x="3581280" y="251460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259092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2286000" y="34290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8"/>
          <p:cNvSpPr/>
          <p:nvPr/>
        </p:nvSpPr>
        <p:spPr>
          <a:xfrm>
            <a:off x="3505320" y="327672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haracteristics of Microbial and Cell Culture Syst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acteria              Mold/fungi        Animal/pla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ubling time         Shortest                 Intermediate                       Slowest (days)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ocosity               Normal low             Often a problem                 Low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um cost           Low                          Low to intermediate          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ar Resistance      High                     Often high                         Often low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downstream Modest (50:50)     Modest                               High (10: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turing               Suspension               Suspension                   Substrate or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spensio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                High                          Intermediate                  Can be ver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gation          Nil to low                   Low to intermediate           May be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value       Low to intermediate   Low to high                        High to very hig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density          Can be very high       Intermediate to high           Usuall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amination      Nil to low                   Nil to low                            Often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tic stability   Usually stable            Occasional problems         Sometimes a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probl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lgunas Características de Célula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0-100 micr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esféricas e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spens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pared celular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mbrana plasmática es delgada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ágil y sensible a ruptura por fuerz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ficie con carg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acción con otras células y con matriz extra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° de divisiones limitadas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053"/>
          <p:cNvSpPr/>
          <p:nvPr/>
        </p:nvSpPr>
        <p:spPr>
          <a:xfrm>
            <a:off x="457200" y="3808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límites del crecimiento de células de mamíferos están determinados por la homeostasis del tej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054"/>
          <p:cNvGrpSpPr/>
          <p:nvPr/>
        </p:nvGrpSpPr>
        <p:grpSpPr>
          <a:xfrm>
            <a:off x="1074600" y="2705040"/>
            <a:ext cx="2662200" cy="1877760"/>
            <a:chOff x="1074600" y="2705040"/>
            <a:chExt cx="2662200" cy="1877760"/>
          </a:xfrm>
        </p:grpSpPr>
        <p:sp>
          <p:nvSpPr>
            <p:cNvPr id="56" name="Freeform 2055"/>
            <p:cNvSpPr/>
            <p:nvPr/>
          </p:nvSpPr>
          <p:spPr>
            <a:xfrm>
              <a:off x="2163600" y="2705040"/>
              <a:ext cx="1406520" cy="80136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56"/>
            <p:cNvSpPr/>
            <p:nvPr/>
          </p:nvSpPr>
          <p:spPr>
            <a:xfrm>
              <a:off x="1136520" y="3016080"/>
              <a:ext cx="1357560" cy="80172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057"/>
            <p:cNvSpPr/>
            <p:nvPr/>
          </p:nvSpPr>
          <p:spPr>
            <a:xfrm>
              <a:off x="2133720" y="3428640"/>
              <a:ext cx="1603080" cy="90180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58"/>
            <p:cNvSpPr/>
            <p:nvPr/>
          </p:nvSpPr>
          <p:spPr>
            <a:xfrm>
              <a:off x="1074600" y="3657240"/>
              <a:ext cx="1300320" cy="92556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059"/>
            <p:cNvSpPr/>
            <p:nvPr/>
          </p:nvSpPr>
          <p:spPr>
            <a:xfrm>
              <a:off x="1447920" y="4114440"/>
              <a:ext cx="380880" cy="38124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2060"/>
            <p:cNvSpPr/>
            <p:nvPr/>
          </p:nvSpPr>
          <p:spPr>
            <a:xfrm>
              <a:off x="2666880" y="35812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2061"/>
            <p:cNvSpPr/>
            <p:nvPr/>
          </p:nvSpPr>
          <p:spPr>
            <a:xfrm>
              <a:off x="2666880" y="2895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2062"/>
            <p:cNvSpPr/>
            <p:nvPr/>
          </p:nvSpPr>
          <p:spPr>
            <a:xfrm>
              <a:off x="1371600" y="33526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2063"/>
          <p:cNvGrpSpPr/>
          <p:nvPr/>
        </p:nvGrpSpPr>
        <p:grpSpPr>
          <a:xfrm>
            <a:off x="5796000" y="2760840"/>
            <a:ext cx="2757600" cy="1766880"/>
            <a:chOff x="5796000" y="2760840"/>
            <a:chExt cx="2757600" cy="1766880"/>
          </a:xfrm>
        </p:grpSpPr>
        <p:sp>
          <p:nvSpPr>
            <p:cNvPr id="65" name="AutoShape 2064"/>
            <p:cNvSpPr/>
            <p:nvPr/>
          </p:nvSpPr>
          <p:spPr>
            <a:xfrm>
              <a:off x="5796000" y="3494520"/>
              <a:ext cx="838080" cy="685800"/>
            </a:xfrm>
            <a:prstGeom prst="hexagon">
              <a:avLst>
                <a:gd name="adj" fmla="val 30551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065"/>
            <p:cNvSpPr/>
            <p:nvPr/>
          </p:nvSpPr>
          <p:spPr>
            <a:xfrm>
              <a:off x="6429240" y="312768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2066"/>
            <p:cNvSpPr/>
            <p:nvPr/>
          </p:nvSpPr>
          <p:spPr>
            <a:xfrm>
              <a:off x="7067520" y="2760840"/>
              <a:ext cx="838080" cy="685800"/>
            </a:xfrm>
            <a:prstGeom prst="hexagon">
              <a:avLst>
                <a:gd name="adj" fmla="val 30551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2067"/>
            <p:cNvSpPr/>
            <p:nvPr/>
          </p:nvSpPr>
          <p:spPr>
            <a:xfrm>
              <a:off x="7072200" y="346104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2068"/>
            <p:cNvSpPr/>
            <p:nvPr/>
          </p:nvSpPr>
          <p:spPr>
            <a:xfrm>
              <a:off x="6448320" y="384192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2069"/>
            <p:cNvSpPr/>
            <p:nvPr/>
          </p:nvSpPr>
          <p:spPr>
            <a:xfrm>
              <a:off x="7715160" y="380880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070"/>
            <p:cNvSpPr/>
            <p:nvPr/>
          </p:nvSpPr>
          <p:spPr>
            <a:xfrm>
              <a:off x="6781680" y="39801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2071"/>
            <p:cNvSpPr/>
            <p:nvPr/>
          </p:nvSpPr>
          <p:spPr>
            <a:xfrm>
              <a:off x="8001000" y="398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072"/>
            <p:cNvSpPr/>
            <p:nvPr/>
          </p:nvSpPr>
          <p:spPr>
            <a:xfrm>
              <a:off x="7315200" y="3675240"/>
              <a:ext cx="38088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2073"/>
            <p:cNvSpPr/>
            <p:nvPr/>
          </p:nvSpPr>
          <p:spPr>
            <a:xfrm>
              <a:off x="7238880" y="28371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74"/>
            <p:cNvSpPr/>
            <p:nvPr/>
          </p:nvSpPr>
          <p:spPr>
            <a:xfrm>
              <a:off x="6781680" y="32943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075"/>
            <p:cNvSpPr/>
            <p:nvPr/>
          </p:nvSpPr>
          <p:spPr>
            <a:xfrm>
              <a:off x="6095880" y="3675240"/>
              <a:ext cx="3812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076"/>
          <p:cNvSpPr/>
          <p:nvPr/>
        </p:nvSpPr>
        <p:spPr>
          <a:xfrm>
            <a:off x="2286000" y="57913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social” del crecimiento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080"/>
          <p:cNvSpPr/>
          <p:nvPr/>
        </p:nvSpPr>
        <p:spPr>
          <a:xfrm>
            <a:off x="3657600" y="1905120"/>
            <a:ext cx="2133720" cy="9954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133200 h 995400"/>
              <a:gd name="textAreaBottom" fmla="*/ 86220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081"/>
          <p:cNvSpPr/>
          <p:nvPr/>
        </p:nvSpPr>
        <p:spPr>
          <a:xfrm flipH="1">
            <a:off x="3580560" y="4483080"/>
            <a:ext cx="2210040" cy="107964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82"/>
          <p:cNvSpPr/>
          <p:nvPr/>
        </p:nvSpPr>
        <p:spPr>
          <a:xfrm>
            <a:off x="3733920" y="32004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actores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Picture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Picture 2" descr="http://www.vetscite.org/gfx/08_00/fig2_sultan.gi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wth Media for Mammalian Ce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SERUM-CONTAINING MEDIUM (EAGLE'S MEDIUM)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sential amino acids: histidine, isoleucine, leucine, lysine, methionine, phenylalanine, threonine, tryptophan, and valine — plus cysteine, glutamine, and tyros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Vitamins: Choline, folic acid, nicotinamide, pantothenate, pyridoxal, and thiamine;  inositol; riboflav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alts Na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PO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3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ialyzed serum (BSA and growth facto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DEFINED (SERUM-FREE) MEDI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mino acids:  As above plus alanine and asparagine (10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4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Vitamins, salts, 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tty acids Linoleic acid, lipoic acid 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itrogen compounds Hypoxanthine, thymidine, putre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rbon source: Pyruvate and 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ce elements Cadmium, manganese, molybdenum, nicke, tin, vanad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mones and growth factors: Insulin, transferrin, hydrocortisone, fibroblast growth factor, epidermal growth f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Formas de crecimiento de células en 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heridas a un soporte sólido,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en monocapas, dependientes de an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suspensión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dependientes de an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ivo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i-dimensiona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un ambiente 3-D para imitar situación in viv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de Colá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Fib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de Algi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cimiento en monoc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 células se adh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er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sustrato y en esa forma inician la proliferación. Este es el modo normal de proliferación de la mayor parte de las células, con excepción de l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élulas hematopoyéticas madu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hes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lifer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l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304920" y="2971800"/>
          <a:ext cx="8610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610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031"/>
          <p:cNvSpPr/>
          <p:nvPr/>
        </p:nvSpPr>
        <p:spPr>
          <a:xfrm>
            <a:off x="838080" y="4876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uencia: células ocupan toda la superficie disponible para el  crecimiento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en este estado cuando el pareci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fológico y fisiológico es mayor al modelo celular de ori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 crecimien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 detiene por inhibición por contacto.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necesari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olver a plaqu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37760" cy="73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2:56:21Z</dcterms:created>
  <dc:creator>Preferred Customer</dc:creator>
  <dc:description/>
  <dc:language>en-US</dc:language>
  <cp:lastModifiedBy>Ing Quimica</cp:lastModifiedBy>
  <dcterms:modified xsi:type="dcterms:W3CDTF">2007-09-03T22:10:20Z</dcterms:modified>
  <cp:revision>394</cp:revision>
  <dc:subject/>
  <dc:title>TIPOS DE CULTIVOS</dc:title>
</cp:coreProperties>
</file>