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5957-665F-4DAD-AB64-20B6AC8E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C123-4AB1-4210-BBC6-22E88BF6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stream, and yet growth is control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all cells are dependent on extrinsic factors produced by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(usually on the surface, but not always) initiate other signal transduction cascades that regulate cellula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ocial control model of cell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atectomy/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FE75-0474-4333-A4E7-82852864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BB18-EFA7-47CD-9FB8-2154CD6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6790-6630-4B3D-BADD-00880D92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941-10DB-4874-8AE5-658B9284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1B4-97F6-4102-BD64-4E832119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E81-629A-4DA3-9C65-9CB8663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4EA-79A3-4AE2-BAD0-3C56EBCF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591-97B6-4F33-A778-7338473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38C-0119-4328-8840-BB8F58E5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CED-60B8-4EAF-99AA-60BB451B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208-B123-4D3D-8E57-F17032B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7428-CF5F-45FB-88B0-B3986648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E34B-9BF3-40AB-A49C-FDACD15A0C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onceptos actuales de cultivo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écnicas de cultivo de células están destinadas 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ntenimiento de las células 'in vitro'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servand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al máximo (en la medida de lo posible) su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fisiológicas, bioquímicas y genétic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24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Adhesión Cel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ular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élulas secretan glicoproteínas (fibronectina, laminina, colágeno) y proteoglicanos de matriz extracelular; éstos se anclan al sustrato car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y unión de las células a la matriz vía receptores específicos de la cél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ficie de cultivo debe est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e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mente cargada par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h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r glicoproteínas de la matr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s ideales para monocapas son aquellas no-tóxicas, biológicamente inertes y ópticamente transpa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3084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igure_6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-2700-1"/>
          <p:cNvPicPr/>
          <p:nvPr/>
        </p:nvPicPr>
        <p:blipFill>
          <a:blip r:embed="rId2"/>
          <a:stretch/>
        </p:blipFill>
        <p:spPr>
          <a:xfrm>
            <a:off x="609480" y="4038480"/>
            <a:ext cx="2305080" cy="24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ure_9"/>
          <p:cNvPicPr/>
          <p:nvPr/>
        </p:nvPicPr>
        <p:blipFill>
          <a:blip r:embed="rId3"/>
          <a:stretch/>
        </p:blipFill>
        <p:spPr>
          <a:xfrm>
            <a:off x="4648320" y="3917880"/>
            <a:ext cx="253980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2666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-Fl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96080" y="52578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er Bo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810240" cy="29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81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cro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recimiento en susp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liferación sin necesidad de adherirse al sustrato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ientes de anc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Ocurre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hematopoyét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gunas líneas celulares transformadas y de células tum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todo tejido existe una frac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élulas qu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paz de crecer en suspens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a adaptación y selección de é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0040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333600" cy="289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767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r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actores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559760" y="6521400"/>
            <a:ext cx="1418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ner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figure_11"/>
          <p:cNvPicPr/>
          <p:nvPr/>
        </p:nvPicPr>
        <p:blipFill>
          <a:blip r:embed="rId4"/>
          <a:stretch/>
        </p:blipFill>
        <p:spPr>
          <a:xfrm>
            <a:off x="6070680" y="3638520"/>
            <a:ext cx="307332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4351320" cy="240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88440" y="0"/>
            <a:ext cx="755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Mé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d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para crecer células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97960" cy="548460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1676520" y="18288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600200" y="5181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76520" y="39625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00200" y="2895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90680" y="14400"/>
            <a:ext cx="6362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OS DE CULT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órg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ogía normal, funciones se mantienen (células permanecen diferenciad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miento no  e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es lento y limitado a la perif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experimento requiere tejido fresco (elevada heterogeneidad de dat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tejidos o explantes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antienen algunas funciones nor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ierde la organización original del tej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escalable que el cultivo de órganos, pero no es ide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célul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desarrollo de líneas celulares por sucesivos subcul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calamiento de los volúmenes de cultiv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élulas pueden (no siempre es así) perder algunas de las características diferencia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05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08576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ncbi.nlm.nih.gov/books/bookres.fcgi/cooper/ch1f40.gif"/>
          <p:cNvPicPr/>
          <p:nvPr/>
        </p:nvPicPr>
        <p:blipFill>
          <a:blip r:embed="rId3"/>
          <a:stretch/>
        </p:blipFill>
        <p:spPr>
          <a:xfrm>
            <a:off x="4495680" y="50760"/>
            <a:ext cx="3886200" cy="6645240"/>
          </a:xfrm>
          <a:prstGeom prst="rect">
            <a:avLst/>
          </a:prstGeom>
          <a:ln w="0">
            <a:noFill/>
          </a:ln>
        </p:spPr>
      </p:pic>
      <p:sp>
        <p:nvSpPr>
          <p:cNvPr id="125" name="4 Flecha derecha"/>
          <p:cNvSpPr/>
          <p:nvPr/>
        </p:nvSpPr>
        <p:spPr>
          <a:xfrm>
            <a:off x="1447920" y="137160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Flecha derecha"/>
          <p:cNvSpPr/>
          <p:nvPr/>
        </p:nvSpPr>
        <p:spPr>
          <a:xfrm>
            <a:off x="3657600" y="121932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380880" y="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ablecimiento de un cultivo pri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228600" y="236232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. en monocapa, confluente, inhib por cont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especializada es mas aparente después de confl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n el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mejor modelo experiment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itua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Arial"/>
              </a:rPr>
              <a:t>Desventaj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una mezcla de tip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de vida limitado del cul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1240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71500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secu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ncbi.nlm.nih.gov/books/bookres.fcgi/mcb/ch6f5.gif"/>
          <p:cNvPicPr/>
          <p:nvPr/>
        </p:nvPicPr>
        <p:blipFill>
          <a:blip r:embed="rId1"/>
          <a:stretch/>
        </p:blipFill>
        <p:spPr>
          <a:xfrm>
            <a:off x="762120" y="509760"/>
            <a:ext cx="4724280" cy="5822640"/>
          </a:xfrm>
          <a:prstGeom prst="rect">
            <a:avLst/>
          </a:prstGeom>
          <a:ln w="0">
            <a:noFill/>
          </a:ln>
        </p:spPr>
      </p:pic>
      <p:sp>
        <p:nvSpPr>
          <p:cNvPr id="132" name="2 CuadroTexto"/>
          <p:cNvSpPr/>
          <p:nvPr/>
        </p:nvSpPr>
        <p:spPr>
          <a:xfrm>
            <a:off x="6095880" y="9144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élulas humanas generalmente no forman líneas celulares inmor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6248520" y="4038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células de ratón poseen potencial para hacerse inmort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Líneas cel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general, las células se propagan y subcultivan varias veces, hasta que alcanzan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nesc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mu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élulas endoteliales de cordón umbilical humano (HUVEC) permanecen en cultivo de 3 a 9 pas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broblastos dérmicos humanos pueden superar los 20 pasajes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gunas células se vuelven inmortales      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Usos de células animales en cul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ción (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y flu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racel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, cáncer y otras patologí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 de productos biofarmacéutic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vacunas v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anticuerpos monocl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proteínas y enzimas comp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diagnóstic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an el análisis cromosómico de células crecidas a partir de muestras de  amniocentesis, detección de infecciones virales, ensayos de tox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médicas : terapia celular, mantenimiento y producción de tejidos para transp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031760"/>
          <a:ext cx="6477120" cy="5548320"/>
        </p:xfrm>
        <a:graphic>
          <a:graphicData uri="http://schemas.openxmlformats.org/drawingml/2006/table">
            <a:tbl>
              <a:tblPr/>
              <a:tblGrid>
                <a:gridCol w="3391200"/>
                <a:gridCol w="3085920"/>
              </a:tblGrid>
              <a:tr h="3157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a  ce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BHK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fibroblast (Syrian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pithelial cell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rat kangaro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blast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ffin cell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lasma cell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monk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human); transformed with adenovi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 (chinese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 cell for efficient targeted recombination (chi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1, H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-like cells </a:t>
                      </a: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osophila)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ifferentiated meristematic cells (tobac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2 Rectángulo"/>
          <p:cNvSpPr/>
          <p:nvPr/>
        </p:nvSpPr>
        <p:spPr>
          <a:xfrm>
            <a:off x="1523880" y="990720"/>
            <a:ext cx="647712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3 CuadroTexto"/>
          <p:cNvSpPr/>
          <p:nvPr/>
        </p:nvSpPr>
        <p:spPr>
          <a:xfrm>
            <a:off x="14479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Times New Roman"/>
              </a:rPr>
              <a:t>Algunas líneas celulares comunmente u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www.sigmaaldrich.com/img/assets/9620/Figure_2_Hela.jpg"/>
          <p:cNvPicPr/>
          <p:nvPr/>
        </p:nvPicPr>
        <p:blipFill>
          <a:blip r:embed="rId1"/>
          <a:stretch/>
        </p:blipFill>
        <p:spPr>
          <a:xfrm>
            <a:off x="114300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s://www.sigmaaldrich.com/img/assets/9620/Figure_2_BAE.jpg"/>
          <p:cNvPicPr/>
          <p:nvPr/>
        </p:nvPicPr>
        <p:blipFill>
          <a:blip r:embed="rId2"/>
          <a:stretch/>
        </p:blipFill>
        <p:spPr>
          <a:xfrm>
            <a:off x="510552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s://www.sigmaaldrich.com/img/assets/9620/Figure_2_MRC5.jpg"/>
          <p:cNvPicPr/>
          <p:nvPr/>
        </p:nvPicPr>
        <p:blipFill>
          <a:blip r:embed="rId3"/>
          <a:stretch/>
        </p:blipFill>
        <p:spPr>
          <a:xfrm>
            <a:off x="1219320" y="39625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www.sigmaaldrich.com/img/assets/9620/Figure_2_SH-SY5Y.jpg"/>
          <p:cNvPicPr/>
          <p:nvPr/>
        </p:nvPicPr>
        <p:blipFill>
          <a:blip r:embed="rId4"/>
          <a:stretch/>
        </p:blipFill>
        <p:spPr>
          <a:xfrm>
            <a:off x="5257800" y="396252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144" name="5 Rectángulo"/>
          <p:cNvSpPr/>
          <p:nvPr/>
        </p:nvSpPr>
        <p:spPr>
          <a:xfrm>
            <a:off x="49528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H-SY5Y - 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6 Rectángulo"/>
          <p:cNvSpPr/>
          <p:nvPr/>
        </p:nvSpPr>
        <p:spPr>
          <a:xfrm>
            <a:off x="91440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RC-5 - fib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502920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E-1 - endo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8 Rectángulo"/>
          <p:cNvSpPr/>
          <p:nvPr/>
        </p:nvSpPr>
        <p:spPr>
          <a:xfrm>
            <a:off x="9907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la - epi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íneas Celulares Inmortaliza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 de inmortalización depende del tipo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as células humanas se hacen inmortales por introducción de tel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tivación de mecanismos de control del ciclo celular por introducción de oncog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idas de infección con virus tumo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celulares inmortales también pueden ser generadas desde células cancerosas, pe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uchos aspectos son diferentes a células nor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independientes de anc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n a una mayor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hibidas por cont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ncbi.nlm.nih.gov/books/bookres.fcgi/mboc4/ch23f25.gif"/>
          <p:cNvPicPr/>
          <p:nvPr/>
        </p:nvPicPr>
        <p:blipFill>
          <a:blip r:embed="rId1"/>
          <a:stretch/>
        </p:blipFill>
        <p:spPr>
          <a:xfrm>
            <a:off x="5486400" y="4800600"/>
            <a:ext cx="3238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ansformación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fenotípico permanente, espontáneo o inducido, resultante de un cambio heredable en el DNA y en la expresión 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est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or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 aberrante del crecimi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érdida de la inhibición por contacto y la dependencia de an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lignida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evidencia del potencial tumorigénico de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la inmortalización de célu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en la mayor parte de los casos desconoci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ero se incrementa la frecuencia de inmortalización mediante infecciones virale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con mutágen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809880" y="0"/>
            <a:ext cx="4762800" cy="5286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790240" y="558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Verdana"/>
              </a:rPr>
              <a:t>línea primaria de g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705720" y="31240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Verdana"/>
              </a:rPr>
              <a:t>línea estable de melanoma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(transfo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liferación v/s diferenciación de células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419720" y="671040"/>
            <a:ext cx="472428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ERENCIACIÓN  y PROLIFERACION son generalmente procesos mutuamente exclu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ntrada en el ciclo de división celular es regulada por señales ambientales (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densidad induce a las células disemina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de crecimiento (EGF, PDGF o FGF)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inhibido en cultivos de alta d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ínas intracelulares como p53 y Rb inhiben la prolife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228600" y="2666880"/>
          <a:ext cx="3451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3451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9718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862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006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71800" y="3581280"/>
            <a:ext cx="2666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3276720" y="31240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1148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50292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2971800" y="3962520"/>
            <a:ext cx="2438280" cy="457200"/>
            <a:chOff x="2971800" y="3962520"/>
            <a:chExt cx="2438280" cy="457200"/>
          </a:xfrm>
        </p:grpSpPr>
        <p:sp>
          <p:nvSpPr>
            <p:cNvPr id="169" name="Oval 8"/>
            <p:cNvSpPr/>
            <p:nvPr/>
          </p:nvSpPr>
          <p:spPr>
            <a:xfrm>
              <a:off x="297180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657600" y="41911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426708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3429000" y="40384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4038480" y="42670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724280" y="3962520"/>
              <a:ext cx="22860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1905120" y="7621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arámetros que controlan la diferenciación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943600" y="38862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on la matri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lágeno, laminina, proteoglican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4876920" y="3276720"/>
            <a:ext cx="152280" cy="533160"/>
          </a:xfrm>
          <a:prstGeom prst="upDown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 flipH="1" flipV="1">
            <a:off x="5715000" y="3657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143000" y="4876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Factores 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, citokinas, vitaminas. Iones calcio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678800">
            <a:off x="2514600" y="37335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990720" y="2133720"/>
            <a:ext cx="16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élula 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ólog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ól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581280" y="25146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5909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28600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3505320" y="32767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haracteristics of Microbial and Cell Culture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acteria              Mold/fungi        Animal/pla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ubling time         Shortest                 Intermediate                       Slowest (day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ocosity               Normal low             Often a problem                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 cost           Low                          Low to intermediate          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ar Resistance      High                     Often high                         Often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downstream Modest (50:50)     Modest                               High (10: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ing               Suspension               Suspension                   Substrate or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pensio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                High                          Intermediate                  Can be 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ion          Nil to low                   Low to intermediate           May b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ue       Low to intermediate   Low to high                        High to very hi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density          Can be very high       Intermediate to high           Usu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mination      Nil to low                   Nil to low                            Often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tic stability   Usually stable            Occasional problems         Sometimes a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lgunas Características de Célula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-100 micr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féricas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pen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pared celular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mbrana plasmática es delgada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ágil y sensible a ruptura por fuerz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ficie con carg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acción con otras células y con matriz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° de divisiones limitadas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53"/>
          <p:cNvSpPr/>
          <p:nvPr/>
        </p:nvSpPr>
        <p:spPr>
          <a:xfrm>
            <a:off x="457200" y="380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mites del crecimiento de células de mamíferos están determinados por la homeostasis del tej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54"/>
          <p:cNvGrpSpPr/>
          <p:nvPr/>
        </p:nvGrpSpPr>
        <p:grpSpPr>
          <a:xfrm>
            <a:off x="1074600" y="2705040"/>
            <a:ext cx="2662200" cy="1877760"/>
            <a:chOff x="1074600" y="2705040"/>
            <a:chExt cx="2662200" cy="1877760"/>
          </a:xfrm>
        </p:grpSpPr>
        <p:sp>
          <p:nvSpPr>
            <p:cNvPr id="56" name="Freeform 2055"/>
            <p:cNvSpPr/>
            <p:nvPr/>
          </p:nvSpPr>
          <p:spPr>
            <a:xfrm>
              <a:off x="2163600" y="2705040"/>
              <a:ext cx="1406520" cy="8013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56"/>
            <p:cNvSpPr/>
            <p:nvPr/>
          </p:nvSpPr>
          <p:spPr>
            <a:xfrm>
              <a:off x="1136520" y="3016080"/>
              <a:ext cx="1357560" cy="80172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57"/>
            <p:cNvSpPr/>
            <p:nvPr/>
          </p:nvSpPr>
          <p:spPr>
            <a:xfrm>
              <a:off x="2133720" y="3428640"/>
              <a:ext cx="1603080" cy="90180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58"/>
            <p:cNvSpPr/>
            <p:nvPr/>
          </p:nvSpPr>
          <p:spPr>
            <a:xfrm>
              <a:off x="1074600" y="3657240"/>
              <a:ext cx="1300320" cy="9255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9"/>
            <p:cNvSpPr/>
            <p:nvPr/>
          </p:nvSpPr>
          <p:spPr>
            <a:xfrm>
              <a:off x="1447920" y="4114440"/>
              <a:ext cx="380880" cy="38124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060"/>
            <p:cNvSpPr/>
            <p:nvPr/>
          </p:nvSpPr>
          <p:spPr>
            <a:xfrm>
              <a:off x="2666880" y="35812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061"/>
            <p:cNvSpPr/>
            <p:nvPr/>
          </p:nvSpPr>
          <p:spPr>
            <a:xfrm>
              <a:off x="2666880" y="2895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062"/>
            <p:cNvSpPr/>
            <p:nvPr/>
          </p:nvSpPr>
          <p:spPr>
            <a:xfrm>
              <a:off x="1371600" y="33526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63"/>
          <p:cNvGrpSpPr/>
          <p:nvPr/>
        </p:nvGrpSpPr>
        <p:grpSpPr>
          <a:xfrm>
            <a:off x="5796000" y="2760840"/>
            <a:ext cx="2757600" cy="1766880"/>
            <a:chOff x="5796000" y="2760840"/>
            <a:chExt cx="2757600" cy="1766880"/>
          </a:xfrm>
        </p:grpSpPr>
        <p:sp>
          <p:nvSpPr>
            <p:cNvPr id="65" name="AutoShape 2064"/>
            <p:cNvSpPr/>
            <p:nvPr/>
          </p:nvSpPr>
          <p:spPr>
            <a:xfrm>
              <a:off x="5796000" y="349452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065"/>
            <p:cNvSpPr/>
            <p:nvPr/>
          </p:nvSpPr>
          <p:spPr>
            <a:xfrm>
              <a:off x="6429240" y="312768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066"/>
            <p:cNvSpPr/>
            <p:nvPr/>
          </p:nvSpPr>
          <p:spPr>
            <a:xfrm>
              <a:off x="7067520" y="276084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067"/>
            <p:cNvSpPr/>
            <p:nvPr/>
          </p:nvSpPr>
          <p:spPr>
            <a:xfrm>
              <a:off x="7072200" y="346104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068"/>
            <p:cNvSpPr/>
            <p:nvPr/>
          </p:nvSpPr>
          <p:spPr>
            <a:xfrm>
              <a:off x="6448320" y="384192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69"/>
            <p:cNvSpPr/>
            <p:nvPr/>
          </p:nvSpPr>
          <p:spPr>
            <a:xfrm>
              <a:off x="7715160" y="380880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6781680" y="3980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8001000" y="398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7315200" y="36752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7238880" y="2837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781680" y="32943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6095880" y="3675240"/>
              <a:ext cx="3812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76"/>
          <p:cNvSpPr/>
          <p:nvPr/>
        </p:nvSpPr>
        <p:spPr>
          <a:xfrm>
            <a:off x="2286000" y="5791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ocial” del crecimient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080"/>
          <p:cNvSpPr/>
          <p:nvPr/>
        </p:nvSpPr>
        <p:spPr>
          <a:xfrm>
            <a:off x="3657600" y="1905120"/>
            <a:ext cx="2133720" cy="9954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81"/>
          <p:cNvSpPr/>
          <p:nvPr/>
        </p:nvSpPr>
        <p:spPr>
          <a:xfrm flipH="1">
            <a:off x="3580560" y="4483080"/>
            <a:ext cx="2210040" cy="107964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82"/>
          <p:cNvSpPr/>
          <p:nvPr/>
        </p:nvSpPr>
        <p:spPr>
          <a:xfrm>
            <a:off x="3733920" y="32004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Picture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Picture 2" descr="http://www.vetscite.org/gfx/08_00/fig2_sultan.gi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Media for Mammalian Ce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SERUM-CONTAINING MEDIUM (EAGLE'S MEDIUM)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sential amino acids: histidine, isoleucine, leucine, lysine, methionine, phenylalanine, threonine, tryptophan, and valine — plus cysteine, glutamine, and tyros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: Choline, folic acid, nicotinamide, pantothenate, pyridoxal, and thiamine;  inositol; ribofla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alts N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3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ialyzed serum (BSA and growth facto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DEFINED (SERUM-FREE) ME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mino acids:  As above plus alanine and asparagine (10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4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, salts,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tty acids Linoleic acid, lipoic acid 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itrogen compounds Hypoxanthine, thymidine, putre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rbon source: Pyruvate and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ce elements Cadmium, manganese, molybdenum, nicke, tin, vanad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ones and growth factors: Insulin, transferrin, hydrocortisone, fibroblast growth factor, epidermal growth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Formas de crecimiento de células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heridas a un soporte sólido,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monocapas, 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spensión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iv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i-dimensiona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un ambiente 3-D para imitar situación in v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Colá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Fib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Alg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miento en monoc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células se ad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r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sustrato y en esa forma inician la proliferación. Este es el modo normal de proliferación de la mayor parte de las células, con excepción de 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élulas hematopoyéticas mad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lifer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304920" y="2971800"/>
          <a:ext cx="861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1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031"/>
          <p:cNvSpPr/>
          <p:nvPr/>
        </p:nvSpPr>
        <p:spPr>
          <a:xfrm>
            <a:off x="8380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uencia: células ocupan toda la superficie disponible para el  crecimiento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n este estado cuando el pareci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fológico y fisiológico es mayor al modelo celular de ori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creci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detiene por inhibición por contacto.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necesar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lver a plaqu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377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56:21Z</dcterms:created>
  <dc:creator>Preferred Customer</dc:creator>
  <dc:description/>
  <dc:language>en-US</dc:language>
  <cp:lastModifiedBy>Ing Quimica</cp:lastModifiedBy>
  <dcterms:modified xsi:type="dcterms:W3CDTF">2007-09-03T22:10:20Z</dcterms:modified>
  <cp:revision>394</cp:revision>
  <dc:subject/>
  <dc:title>TIPOS DE CULTIVOS</dc:title>
</cp:coreProperties>
</file>