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3A0-D743-4379-9544-D80F14A9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B52-F151-4435-850D-AB747F43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1C0-6178-4F46-BB95-FF6F10A1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E68-167E-4BFA-85A8-7B76C4D7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1B1-80C9-49FA-BDB2-5F808530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E2E-AA8D-4EDB-AE7B-E6EAA174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E0E-DC81-41FF-8FAC-F815A8E0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A41-E567-4E1F-A63E-86F3C7A5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510-DEDD-44E3-9604-C6D96C81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F6A-4DAB-4031-8080-B99FFD6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964-1118-4C8F-A47E-E6B2EB62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E9B-8870-4B73-A0DB-BD571938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DA46-3AD1-41A7-B496-44B0872003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ÉTODOS DE EXTRACCIÓN Y PURIFICACIÓN DE ÁCIDOS NUCLE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nes 30 de Juli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352680" y="609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T51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3. Pur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roteinización con fenol, que al denaturar proteínas causa su precip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ción de proteínas con sales (“salting 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ma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intercambio 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dsorción a sí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il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ción de DNA desde un 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agar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341440" cy="179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tracción Fenólica de proteín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027"/>
          <p:cNvGraphicFramePr/>
          <p:nvPr/>
        </p:nvGraphicFramePr>
        <p:xfrm>
          <a:off x="838080" y="3276720"/>
          <a:ext cx="7620120" cy="32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76720"/>
                    <a:ext cx="7620120" cy="32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030"/>
          <p:cNvGraphicFramePr/>
          <p:nvPr/>
        </p:nvGraphicFramePr>
        <p:xfrm>
          <a:off x="1066680" y="1600200"/>
          <a:ext cx="205740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205740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6 CuadroTexto"/>
          <p:cNvSpPr/>
          <p:nvPr/>
        </p:nvSpPr>
        <p:spPr>
          <a:xfrm>
            <a:off x="335268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e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5664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matografía de intercambio ani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751536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Adsorción de DNA a sílica 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(una teoría sobre el mecanismo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10760" cy="41958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3657600" y="3124080"/>
            <a:ext cx="1295280" cy="304920"/>
          </a:xfrm>
          <a:prstGeom prst="leftArrow">
            <a:avLst>
              <a:gd name="adj1" fmla="val 50000"/>
              <a:gd name="adj2" fmla="val 10619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3657600" y="312408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96252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NA eluye  de la sílica en 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809880" y="4038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NA se une a la sílica en Na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10 Rectángulo"/>
          <p:cNvSpPr/>
          <p:nvPr/>
        </p:nvSpPr>
        <p:spPr>
          <a:xfrm>
            <a:off x="685800" y="13716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eparación de fragmentos de DNA desde un gel de agaros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510600" cy="2102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838080" y="4267080"/>
            <a:ext cx="7620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troforesis de la mezcla de fragmentos en un gel de agarosa de bajo punto de 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ubilización por Temperatura 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~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60 C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rificación por cromatografía en columna para eliminar agarosa y otros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espectrofotométrico de AN y criterios de 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1219320" y="1066680"/>
            <a:ext cx="6095520" cy="3086280"/>
            <a:chOff x="1219320" y="1066680"/>
            <a:chExt cx="6095520" cy="3086280"/>
          </a:xfrm>
        </p:grpSpPr>
        <p:pic>
          <p:nvPicPr>
            <p:cNvPr id="116" name="Picture 6" descr=""/>
            <p:cNvPicPr/>
            <p:nvPr/>
          </p:nvPicPr>
          <p:blipFill>
            <a:blip r:embed="rId1"/>
            <a:stretch/>
          </p:blipFill>
          <p:spPr>
            <a:xfrm>
              <a:off x="1219320" y="1066680"/>
              <a:ext cx="5885280" cy="16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"/>
            <p:cNvPicPr/>
            <p:nvPr/>
          </p:nvPicPr>
          <p:blipFill>
            <a:blip r:embed="rId2"/>
            <a:stretch/>
          </p:blipFill>
          <p:spPr>
            <a:xfrm>
              <a:off x="1219320" y="2684160"/>
              <a:ext cx="6095520" cy="14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Line 8"/>
            <p:cNvSpPr/>
            <p:nvPr/>
          </p:nvSpPr>
          <p:spPr>
            <a:xfrm flipV="1">
              <a:off x="3898440" y="1406880"/>
              <a:ext cx="0" cy="2511360"/>
            </a:xfrm>
            <a:prstGeom prst="line">
              <a:avLst/>
            </a:prstGeom>
            <a:ln w="93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2903400" y="1406880"/>
              <a:ext cx="0" cy="25113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10"/>
          <p:cNvSpPr/>
          <p:nvPr/>
        </p:nvSpPr>
        <p:spPr>
          <a:xfrm>
            <a:off x="3352680" y="649116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286000" y="3962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304920" y="46324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azón Abs230/Abs260 debe ser menor de 0.5 (&gt; sugiere contaminación con fenol/CHCl o carbohidrato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azón Abs260/Abs280 debe s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1.8 (&lt; sugiere contaminación con proteín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Abs320 se debe a difracción de la luz por material particulado en la muestra. Debería ser baj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actores que afectan el rendimiento, calidad y pureza de los AN pur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material de part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opias de las moléculas de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ntidad de tej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diciones en las que se encuentra el material de inicio (fresco, congelado, fij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aminantes e interferentes en el material bi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un compromiso entre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ndimiento/calidad/p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s Especí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85800" y="1254240"/>
            <a:ext cx="8458200" cy="42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ifugación del c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spensión en solución amortiguadora de pH + ED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s y desnaturación alca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Osaka"/>
              </a:rPr>
              <a:t>SD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, un detergente que disuelve lípidos de membrana. Desnaturante de proteí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Osaka"/>
              </a:rPr>
              <a:t>NaOH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(pH &gt;1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Debilita la pared celular y libera el contenido de la célula. Ayuda en la desnaturación de proteí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Desnatura e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Osaka"/>
              </a:rPr>
              <a:t>DNA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Las dos hebras del DNA (cromosomal y plasmidial) se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  <a:ea typeface="Osaka"/>
              </a:rPr>
              <a:t> separan.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  <a:ea typeface="Osak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85800" y="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Extracción de DNA plasmidial desde bacterias: Método de Lisis alca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xtracción de DNA plasmidial desde bacterias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utralizaci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ó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 en acetato de amonio pH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~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NA 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rc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lasmidial se renatu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NA cromosomal de alto peso molecular lineal permanec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tu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ssD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sDN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pita ya que moléculas grandes 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sDN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solubles en alta concentración de sales (5M). Coprecipitación de membranas y debris cel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adición de acetato de potasio al SDS form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D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es un complejo insoluble (ayuda a la remoción de SDS de la solu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 Importante Diferenciar dos Concep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xtrac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acar los componentes desde un compartimento celular. Involucr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s de las células que contienen a los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activación de nucle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ificación: separación de los AN de los restos celulares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debri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urific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eparación de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proteínas solu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otros AN no 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ípidos,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sales y otros compuestos orgánic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ción de DNA por el método de lisis alcal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Rectangle 3"/>
          <p:cNvGraphicFramePr/>
          <p:nvPr/>
        </p:nvGraphicFramePr>
        <p:xfrm>
          <a:off x="893880" y="1981080"/>
          <a:ext cx="735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981080"/>
                    <a:ext cx="735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"/>
              </a:rPr>
              <a:t>Electroforesis de DNA plasmi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543040" cy="21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2438280" cy="2419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6705720" y="1219320"/>
            <a:ext cx="2079360" cy="2590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4"/>
          <a:stretch/>
        </p:blipFill>
        <p:spPr>
          <a:xfrm>
            <a:off x="609480" y="5562720"/>
            <a:ext cx="4667400" cy="65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57200" y="4648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 de migración en geles de agar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6668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5"/>
          <a:stretch/>
        </p:blipFill>
        <p:spPr>
          <a:xfrm>
            <a:off x="6324480" y="4114800"/>
            <a:ext cx="1677960" cy="240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1800" y="620640"/>
            <a:ext cx="73404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xtracción y purificación del DNA cromosomal de bacte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diment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 las 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ulas de un cultiv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esusp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 las bacterias en buffer e incub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en detergente (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D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proteina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xtrac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con fenol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ecipi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dos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ucleic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s con EtOH/NaCl. Sediment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l DNA por centrifuga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ratamiento con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bonucleasa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ecipit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l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sopropano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uspens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 del DNA en buffer con EDT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609480" y="1066680"/>
          <a:ext cx="2514600" cy="18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2514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"/>
          <p:cNvGraphicFramePr/>
          <p:nvPr/>
        </p:nvGraphicFramePr>
        <p:xfrm>
          <a:off x="3581280" y="1143000"/>
          <a:ext cx="1981440" cy="14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14300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4"/>
          <p:cNvGraphicFramePr/>
          <p:nvPr/>
        </p:nvGraphicFramePr>
        <p:xfrm>
          <a:off x="6400800" y="1600200"/>
          <a:ext cx="1981080" cy="14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1600200"/>
                    <a:ext cx="19810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685800" y="3505320"/>
          <a:ext cx="230652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05320"/>
                    <a:ext cx="23065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6095880" y="3962520"/>
          <a:ext cx="2362320" cy="177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962520"/>
                    <a:ext cx="2362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7"/>
          <p:cNvSpPr/>
          <p:nvPr/>
        </p:nvSpPr>
        <p:spPr>
          <a:xfrm>
            <a:off x="60948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ción de DNA genómico desde 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276720" y="3505320"/>
          <a:ext cx="2377800" cy="275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505320"/>
                    <a:ext cx="237780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9"/>
          <p:cNvSpPr/>
          <p:nvPr/>
        </p:nvSpPr>
        <p:spPr>
          <a:xfrm>
            <a:off x="990720" y="3048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jido de 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42900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ción de amortiguador de pH, con ED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6324480" y="3200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ción de deter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83808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enda-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505320" y="6400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r alícu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624852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ción de una sal (NaCl) (salting 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200400" y="18288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5791320" y="20574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152280" y="4648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2895480" y="4648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9"/>
          <p:cNvSpPr/>
          <p:nvPr/>
        </p:nvSpPr>
        <p:spPr>
          <a:xfrm>
            <a:off x="5562720" y="46483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762120" y="685800"/>
          <a:ext cx="287640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287640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4343400" y="685800"/>
          <a:ext cx="3276720" cy="24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685800"/>
                    <a:ext cx="327672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609480" y="3774960"/>
          <a:ext cx="3048120" cy="251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74960"/>
                    <a:ext cx="3048120" cy="25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5"/>
          <p:cNvGraphicFramePr/>
          <p:nvPr/>
        </p:nvGraphicFramePr>
        <p:xfrm>
          <a:off x="4343400" y="3871800"/>
          <a:ext cx="3200400" cy="242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871800"/>
                    <a:ext cx="3200400" cy="24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914400" y="3276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ifu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038480" y="6216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es insoluble en solución alcoh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2120" y="6324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ición de 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6248160" y="2057400"/>
            <a:ext cx="1600200" cy="38088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6095520" y="1295280"/>
            <a:ext cx="1600200" cy="38124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7543800" y="838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n solucion acu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620120" y="2057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a insol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3733920" y="1676520"/>
            <a:ext cx="53316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3733920" y="16002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733920" y="48006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7"/>
          <p:cNvSpPr/>
          <p:nvPr/>
        </p:nvSpPr>
        <p:spPr>
          <a:xfrm rot="8282400">
            <a:off x="3809520" y="335232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7772400" y="48769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3"/>
          <p:cNvGraphicFramePr/>
          <p:nvPr/>
        </p:nvGraphicFramePr>
        <p:xfrm>
          <a:off x="3962520" y="228600"/>
          <a:ext cx="4670280" cy="35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8600"/>
                    <a:ext cx="467028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4"/>
          <p:cNvSpPr/>
          <p:nvPr/>
        </p:nvSpPr>
        <p:spPr>
          <a:xfrm>
            <a:off x="4800600" y="6324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olución en una solución acu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257800" y="4495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ifu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276720" y="15238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9"/>
          <p:cNvSpPr/>
          <p:nvPr/>
        </p:nvSpPr>
        <p:spPr>
          <a:xfrm rot="5400000">
            <a:off x="5867280" y="38862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0"/>
          <p:cNvSpPr/>
          <p:nvPr/>
        </p:nvSpPr>
        <p:spPr>
          <a:xfrm rot="3228000">
            <a:off x="6553440" y="49525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1"/>
          <p:cNvSpPr/>
          <p:nvPr/>
        </p:nvSpPr>
        <p:spPr>
          <a:xfrm rot="7148400">
            <a:off x="5257440" y="495288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62940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419720" y="5486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5"/>
          <p:cNvSpPr/>
          <p:nvPr/>
        </p:nvSpPr>
        <p:spPr>
          <a:xfrm rot="5400000">
            <a:off x="7162560" y="58672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6" descr=""/>
          <p:cNvPicPr/>
          <p:nvPr/>
        </p:nvPicPr>
        <p:blipFill>
          <a:blip r:embed="rId3"/>
          <a:stretch/>
        </p:blipFill>
        <p:spPr>
          <a:xfrm>
            <a:off x="533520" y="3352680"/>
            <a:ext cx="3795480" cy="311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cción y Purificación de R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A total o Sub-celular (citosólico y nucl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primero es minimizar la actividad de RNAasa liberadas desde las células lisadas durante el proceso de extra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antidad de RNasa depende del tipo de cél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RNAasas son muy resistentes (resisten Tº de ebullición, autoclavado, denaturación con denaturantes fuertes). Por lo tanto, en lo posible deben ser eliminadas, no sólo inhibi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amiento del material de vidrio y de la soluciones, uso de guantes, y mantención de un ambiente libre de Rna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o de inhibidores de RNA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aturantes fuertes (HCl Guanidina o  tiocianato de guanidinina con agentes reductores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/P RNA tot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is en presencia de agentes desnaturantes fuertes de proteínas (Tiocianato de guanidina, fenol ácido) para INACTIVACION DE R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ción con fenol ácido (pH 4.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ción con et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btiene mezcla de mRNA, rRNA y t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ficación de mRNA mediante cromatografía de afinidad a poli-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/P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f5_2mp2"/>
          <p:cNvPicPr/>
          <p:nvPr/>
        </p:nvPicPr>
        <p:blipFill>
          <a:blip r:embed="rId1"/>
          <a:stretch/>
        </p:blipFill>
        <p:spPr>
          <a:xfrm>
            <a:off x="4648320" y="1752480"/>
            <a:ext cx="4495680" cy="3687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69720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PROBL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muchas aplicaciones que involucran manipulación de AN es necesario disponer de éstos en estado pu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qué purifi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sas que se liberan al lisar las células degradan los ácidos nuclé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tes que inhiben a las enzimas que se usan en ingeniería gené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62120" y="4343400"/>
            <a:ext cx="8001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 desafío es separar los ácidos nucléicos deseados desde una mezcla compleja, manteniendo la integridad de los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Contaminantes: Proteínas, lípidos y carbohidratos, sales del medio, ion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28"/>
          <p:cNvSpPr/>
          <p:nvPr/>
        </p:nvSpPr>
        <p:spPr>
          <a:xfrm>
            <a:off x="2514600" y="6094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29"/>
          <p:cNvSpPr/>
          <p:nvPr/>
        </p:nvSpPr>
        <p:spPr>
          <a:xfrm>
            <a:off x="2895480" y="1066680"/>
            <a:ext cx="6019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gregación o fragmentación del tej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30"/>
          <p:cNvSpPr/>
          <p:nvPr/>
        </p:nvSpPr>
        <p:spPr>
          <a:xfrm>
            <a:off x="3124080" y="2209680"/>
            <a:ext cx="2667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s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31"/>
          <p:cNvSpPr/>
          <p:nvPr/>
        </p:nvSpPr>
        <p:spPr>
          <a:xfrm>
            <a:off x="3362760" y="3395520"/>
            <a:ext cx="183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32"/>
          <p:cNvSpPr/>
          <p:nvPr/>
        </p:nvSpPr>
        <p:spPr>
          <a:xfrm>
            <a:off x="3438000" y="4614840"/>
            <a:ext cx="1753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33"/>
          <p:cNvSpPr/>
          <p:nvPr/>
        </p:nvSpPr>
        <p:spPr>
          <a:xfrm>
            <a:off x="3666960" y="5910120"/>
            <a:ext cx="1227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34"/>
          <p:cNvSpPr/>
          <p:nvPr/>
        </p:nvSpPr>
        <p:spPr>
          <a:xfrm>
            <a:off x="312480" y="5834160"/>
            <a:ext cx="1992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t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trofo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35"/>
          <p:cNvSpPr/>
          <p:nvPr/>
        </p:nvSpPr>
        <p:spPr>
          <a:xfrm>
            <a:off x="5791320" y="5486400"/>
            <a:ext cx="3352680" cy="12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Cuantitativ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espectrofotometría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36"/>
          <p:cNvSpPr/>
          <p:nvPr/>
        </p:nvSpPr>
        <p:spPr>
          <a:xfrm>
            <a:off x="4267080" y="1828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38"/>
          <p:cNvSpPr/>
          <p:nvPr/>
        </p:nvSpPr>
        <p:spPr>
          <a:xfrm>
            <a:off x="4267080" y="28195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39"/>
          <p:cNvSpPr/>
          <p:nvPr/>
        </p:nvSpPr>
        <p:spPr>
          <a:xfrm>
            <a:off x="4267080" y="4038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40"/>
          <p:cNvSpPr/>
          <p:nvPr/>
        </p:nvSpPr>
        <p:spPr>
          <a:xfrm>
            <a:off x="4267080" y="52578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4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tapas básicas de un procedimiento general para Extracción y Purificación de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44"/>
          <p:cNvSpPr/>
          <p:nvPr/>
        </p:nvSpPr>
        <p:spPr>
          <a:xfrm flipH="1">
            <a:off x="5105520" y="60958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045"/>
          <p:cNvSpPr/>
          <p:nvPr/>
        </p:nvSpPr>
        <p:spPr>
          <a:xfrm flipH="1">
            <a:off x="2895480" y="6095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46"/>
          <p:cNvSpPr/>
          <p:nvPr/>
        </p:nvSpPr>
        <p:spPr>
          <a:xfrm>
            <a:off x="228600" y="2286000"/>
            <a:ext cx="2057400" cy="228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s etapas deben ir acompañadas de medidas o agentes que inactiven  nucleasas cel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048"/>
          <p:cNvSpPr/>
          <p:nvPr/>
        </p:nvSpPr>
        <p:spPr>
          <a:xfrm>
            <a:off x="7086600" y="3886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049"/>
          <p:cNvSpPr/>
          <p:nvPr/>
        </p:nvSpPr>
        <p:spPr>
          <a:xfrm>
            <a:off x="7238880" y="19810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051"/>
          <p:cNvSpPr/>
          <p:nvPr/>
        </p:nvSpPr>
        <p:spPr>
          <a:xfrm>
            <a:off x="2362320" y="1295280"/>
            <a:ext cx="457200" cy="3657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3657600"/>
              <a:gd name="textAreaBottom" fmla="*/ 358020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2"/>
                  <a:pt x="10800" y="1463"/>
                </a:cubicBezTo>
                <a:lnTo>
                  <a:pt x="10800" y="9337"/>
                </a:lnTo>
                <a:cubicBezTo>
                  <a:pt x="10800" y="10069"/>
                  <a:pt x="5400" y="10800"/>
                  <a:pt x="0" y="10800"/>
                </a:cubicBezTo>
                <a:cubicBezTo>
                  <a:pt x="5400" y="10800"/>
                  <a:pt x="10800" y="11532"/>
                  <a:pt x="10800" y="12263"/>
                </a:cubicBezTo>
                <a:lnTo>
                  <a:pt x="10800" y="20137"/>
                </a:lnTo>
                <a:cubicBezTo>
                  <a:pt x="10800" y="20869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52"/>
          <p:cNvSpPr/>
          <p:nvPr/>
        </p:nvSpPr>
        <p:spPr>
          <a:xfrm>
            <a:off x="6172200" y="2514600"/>
            <a:ext cx="2438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nte todo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imiento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e us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cione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estéril, ad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gu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1. Métodos de fragmentación y lisis celular para la extracción de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29"/>
          <p:cNvSpPr/>
          <p:nvPr/>
        </p:nvSpPr>
        <p:spPr>
          <a:xfrm>
            <a:off x="457200" y="14479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El procedimiento ideal de lisis debe tener la fuerza necesaria para  romper el material de inicio (células o tejido) y la delicadeza requerida para preservar las moléculas de interés (ADN o ARN). </a:t>
            </a:r>
            <a:r>
              <a:rPr b="0" lang="es-ES_tradnl" sz="2000" spc="-1" strike="noStrike">
                <a:solidFill>
                  <a:srgbClr val="0000ff"/>
                </a:solidFill>
                <a:latin typeface="MSTT31c563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743200"/>
            <a:ext cx="4114800" cy="19051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étodos fí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genización mecán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genización en 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lienda manual en m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olitas de vid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31"/>
          <p:cNvSpPr/>
          <p:nvPr/>
        </p:nvSpPr>
        <p:spPr>
          <a:xfrm>
            <a:off x="4952880" y="3048120"/>
            <a:ext cx="2971800" cy="10616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étodos quí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  <a:ea typeface="Osaka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32"/>
          <p:cNvSpPr/>
          <p:nvPr/>
        </p:nvSpPr>
        <p:spPr>
          <a:xfrm>
            <a:off x="1447920" y="4800600"/>
            <a:ext cx="6858000" cy="18061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étodos enzimá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  <a:ea typeface="Osaka"/>
              </a:rPr>
              <a:t>Lysozim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: rompe enlaces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-1.4- entre N-acetil murámico y N-acetil glucosamina de peptidoglicán de la pared celular de bacter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  <a:ea typeface="Osaka"/>
              </a:rPr>
              <a:t>Lyticas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: rompe enlaces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-1.3 de glucano de levad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  <a:ea typeface="Osaka"/>
              </a:rPr>
              <a:t>Proteasa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: rompe enlaces peptídicos de prot. de pared y membrana plasmática e interacciones célula-célu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ptura de células  por medios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3710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304920" y="19810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3276720" y="4800600"/>
            <a:ext cx="1981080" cy="1620360"/>
            <a:chOff x="3276720" y="4800600"/>
            <a:chExt cx="1981080" cy="1620360"/>
          </a:xfrm>
        </p:grpSpPr>
        <p:pic>
          <p:nvPicPr>
            <p:cNvPr id="78" name="Picture 6" descr=""/>
            <p:cNvPicPr/>
            <p:nvPr/>
          </p:nvPicPr>
          <p:blipFill>
            <a:blip r:embed="rId2"/>
            <a:stretch/>
          </p:blipFill>
          <p:spPr>
            <a:xfrm>
              <a:off x="3276720" y="4800600"/>
              <a:ext cx="137088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3276720" y="590076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mogenizador Dou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990720" y="4572000"/>
            <a:ext cx="1904760" cy="2288520"/>
            <a:chOff x="990720" y="4572000"/>
            <a:chExt cx="1904760" cy="2288520"/>
          </a:xfrm>
        </p:grpSpPr>
        <p:pic>
          <p:nvPicPr>
            <p:cNvPr id="81" name="Picture 11" descr=""/>
            <p:cNvPicPr/>
            <p:nvPr/>
          </p:nvPicPr>
          <p:blipFill>
            <a:blip r:embed="rId3"/>
            <a:stretch/>
          </p:blipFill>
          <p:spPr>
            <a:xfrm>
              <a:off x="1371600" y="4572000"/>
              <a:ext cx="1236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2"/>
            <p:cNvSpPr/>
            <p:nvPr/>
          </p:nvSpPr>
          <p:spPr>
            <a:xfrm>
              <a:off x="990720" y="634032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mogenizador mecánico - polytr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Picture 14" descr=""/>
          <p:cNvPicPr/>
          <p:nvPr/>
        </p:nvPicPr>
        <p:blipFill>
          <a:blip r:embed="rId4"/>
          <a:stretch/>
        </p:blipFill>
        <p:spPr>
          <a:xfrm>
            <a:off x="5715000" y="4761000"/>
            <a:ext cx="1951200" cy="2097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7696080" y="5715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c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Métodos para lisar cél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001000" cy="446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tros componentes de una solución de l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29"/>
          <p:cNvSpPr/>
          <p:nvPr/>
        </p:nvSpPr>
        <p:spPr>
          <a:xfrm>
            <a:off x="533520" y="1600200"/>
            <a:ext cx="739116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be Inclu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tilen diamino tetracetico  (EDTA).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Quelante de iones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, baja la concentación efectiva de este 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or lo tanto, EDTA inhibe nucleasas y minimiza la degradacion de AN durante la extración/purific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SzPct val="120000"/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mortiguador de pH (7-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32"/>
          <p:cNvSpPr/>
          <p:nvPr/>
        </p:nvSpPr>
        <p:spPr>
          <a:xfrm>
            <a:off x="624852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33"/>
          <p:cNvSpPr/>
          <p:nvPr/>
        </p:nvSpPr>
        <p:spPr>
          <a:xfrm>
            <a:off x="160020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2. Clarificación. Eliminación de restos celulares (deb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if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mixto: enzimas + centrif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9:57:35Z</dcterms:created>
  <dc:creator>Oriana Salazar</dc:creator>
  <dc:description/>
  <dc:language>en-US</dc:language>
  <cp:lastModifiedBy>Ing Quimica</cp:lastModifiedBy>
  <dcterms:modified xsi:type="dcterms:W3CDTF">2007-09-03T22:11:00Z</dcterms:modified>
  <cp:revision>275</cp:revision>
  <dc:subject/>
  <dc:title>METODOS DE EXTRACCIÓN Y PURIFICACION DE ÁCIDOS NUCLEICOS</dc:title>
</cp:coreProperties>
</file>