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1B47-8433-4353-9F9F-F7FAF394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19DA-4C7E-4AD1-93A0-7F7F7D3C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8C2E-7B09-4D85-B6FF-FF2D3BDE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BFA8-B1AA-48B9-8049-B4A24BE6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9818-9102-485B-8B5B-5623C82E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A45F-80F9-46FA-9F89-FA3DADB9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EB36-A063-45CC-8E6D-00A21084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E0B1-E060-44B1-95E1-4E82A44D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08B-4C4E-45E2-BA4A-814BDB7F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B928-93FF-4ED2-8FC8-A26E0FBC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FDED-8D35-4D20-9EF8-8C3D42CA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AC9D-03C4-45B6-821F-654E8CA9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8A2A-0F15-478D-BDFA-0C964B03F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4752720" cy="4608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62720" y="0"/>
            <a:ext cx="282564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62080" y="981000"/>
            <a:ext cx="8635680" cy="8254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¿Cómo llegaron estas moléculas a constituir un ser vivo?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2276640"/>
            <a:ext cx="8820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192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El bioquímico ruso Alexander Oparin y el fisiólogo escocés John Haldane propusieron en forma independiente la hipótesis de que la vida celular fue precedida por un período de evolución quím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Durante ésa etapa se produjo  la  formación espontánea de moléculas orgánicas simples a partir de compuestos químicos simp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979560"/>
            <a:ext cx="3448080" cy="4321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067280" y="260280"/>
            <a:ext cx="460836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Esta proposición fue probada experimental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en el laboratorio de Harold Urey  por Stanley Miller. 195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Cuatro factores habrían facilitado la evolución quím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1-  Ausencia de oxígeno lib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2-  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3-  Materia química (agua, iones minerales, y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     </a:t>
            </a: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de la atmósfera inic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Tiemp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60840" y="304920"/>
            <a:ext cx="66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Algunos productos formados en condiciones prebió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71520" y="665280"/>
            <a:ext cx="277776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Georgia"/>
              </a:rPr>
              <a:t>Aminoácidos</a:t>
            </a: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Gl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l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a-aminobutí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Va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Leu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Isoleu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Pr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Aspár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Glutá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Se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Treo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Georgia"/>
              </a:rPr>
              <a:t>Azúc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Pentosas y hex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lineales y ramific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59040" y="620640"/>
            <a:ext cx="2759400" cy="61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Georgia"/>
              </a:rPr>
              <a:t>Acidos carboxílicos</a:t>
            </a: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Äcido fór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Ac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Propi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Grasos rec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y ramificados (C4-C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Glicó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Lác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Succí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Georgia"/>
              </a:rPr>
              <a:t>Bases de ac. Nucle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d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Gu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Xa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Hipoxa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Cito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urac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658800"/>
            <a:ext cx="6719760" cy="64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68360" y="1446120"/>
            <a:ext cx="4410360" cy="1190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68040" y="484200"/>
            <a:ext cx="690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Productos de síntesis prebiótica, aminoácidos produc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en experimento de Urey-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771640" y="3141720"/>
            <a:ext cx="3924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2360" y="495360"/>
            <a:ext cx="8640720" cy="10083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Formación de la sopa prebiótica (incluídos nucleótidos), a partir de la atmósfera terrestre prim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4920" y="2239920"/>
            <a:ext cx="8274600" cy="39888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Producción de moléculas cortas de RNA con secuencias al a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1480" y="3753000"/>
            <a:ext cx="8076600" cy="39888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Replicación selectiva de RNAs catalíticos que se autodupl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61440" y="5048280"/>
            <a:ext cx="6938280" cy="39888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Síntesis de péptidos específicos, catalizados por 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88000" y="170172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299880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88000" y="4438800"/>
            <a:ext cx="0" cy="3585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559116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88000" y="609444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836640"/>
            <a:ext cx="8604000" cy="10083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Péptidos participan en la replicación del RNA; coevolución de RNA y  proteín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2565360"/>
            <a:ext cx="8496000" cy="10083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Desarrollo de un sistema primitivo de traducción, con genoma de RNA y catálisis RNA-proteí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8240" y="4149720"/>
            <a:ext cx="5773680" cy="5511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RNA genómico comienza a copiarse en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5445000"/>
            <a:ext cx="8569080" cy="10083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Genoma de DNA, traducido en complejos RNA-proteínas (ribosomas) con proteínas catalizad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198900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3440" y="479736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3645000"/>
            <a:ext cx="0" cy="3585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33336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612360" y="1233360"/>
            <a:ext cx="2061000" cy="1639080"/>
            <a:chOff x="612360" y="1233360"/>
            <a:chExt cx="2061000" cy="1639080"/>
          </a:xfrm>
        </p:grpSpPr>
        <p:sp>
          <p:nvSpPr>
            <p:cNvPr id="145" name=""/>
            <p:cNvSpPr/>
            <p:nvPr/>
          </p:nvSpPr>
          <p:spPr>
            <a:xfrm>
              <a:off x="1593720" y="1574640"/>
              <a:ext cx="1079640" cy="360360"/>
            </a:xfrm>
            <a:prstGeom prst="ellipse">
              <a:avLst/>
            </a:prstGeom>
            <a:solidFill>
              <a:srgbClr val="ffffe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4360" y="25653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Célula tempra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5640" y="12333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5640" y="188280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28360" y="1573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41280" y="1306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18000" y="16668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9080" y="1644480"/>
              <a:ext cx="100584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12560" y="2314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13280" y="18097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97280" y="16653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2360" y="15019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29280" y="20257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2160" y="12859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73800" y="186228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72720" y="21495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773440" y="1916280"/>
            <a:ext cx="1917360" cy="1514520"/>
            <a:chOff x="2773440" y="1916280"/>
            <a:chExt cx="1917360" cy="1514520"/>
          </a:xfrm>
        </p:grpSpPr>
        <p:sp>
          <p:nvSpPr>
            <p:cNvPr id="162" name=""/>
            <p:cNvSpPr/>
            <p:nvPr/>
          </p:nvSpPr>
          <p:spPr>
            <a:xfrm>
              <a:off x="3611160" y="2563920"/>
              <a:ext cx="1079640" cy="360360"/>
            </a:xfrm>
            <a:prstGeom prst="ellipse">
              <a:avLst/>
            </a:prstGeom>
            <a:solidFill>
              <a:srgbClr val="ffffe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77800" y="24908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50360" y="2511360"/>
              <a:ext cx="44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    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73440" y="22892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04720" y="3154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49080" y="2362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92360" y="2274840"/>
              <a:ext cx="28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05440" y="26496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05080" y="2419200"/>
              <a:ext cx="100584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11280" y="263520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93280" y="24400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84360" y="2419200"/>
              <a:ext cx="142920" cy="287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88720" y="24908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94160" y="19162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9800" y="220356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08000" y="2058840"/>
              <a:ext cx="29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09480" y="2004840"/>
            <a:ext cx="2054880" cy="1800360"/>
            <a:chOff x="5109480" y="2004840"/>
            <a:chExt cx="2054880" cy="1800360"/>
          </a:xfrm>
        </p:grpSpPr>
        <p:sp>
          <p:nvSpPr>
            <p:cNvPr id="179" name=""/>
            <p:cNvSpPr/>
            <p:nvPr/>
          </p:nvSpPr>
          <p:spPr>
            <a:xfrm>
              <a:off x="5538600" y="2941560"/>
              <a:ext cx="3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73480" y="27255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60720" y="28116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56400" y="2508120"/>
              <a:ext cx="28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73480" y="25081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45480" y="20048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33080" y="216360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64000" y="23796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72000" y="25225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80040" y="2870280"/>
              <a:ext cx="1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5109480" y="3228840"/>
              <a:ext cx="1940040" cy="576360"/>
              <a:chOff x="5109480" y="3228840"/>
              <a:chExt cx="1940040" cy="576360"/>
            </a:xfrm>
          </p:grpSpPr>
          <p:sp>
            <p:nvSpPr>
              <p:cNvPr id="190" name=""/>
              <p:cNvSpPr/>
              <p:nvPr/>
            </p:nvSpPr>
            <p:spPr>
              <a:xfrm>
                <a:off x="5970240" y="3444840"/>
                <a:ext cx="1079280" cy="360360"/>
              </a:xfrm>
              <a:prstGeom prst="ellipse">
                <a:avLst/>
              </a:prstGeom>
              <a:solidFill>
                <a:srgbClr val="ffffe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044400" y="34653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332400" y="3454200"/>
                <a:ext cx="589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Y     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09480" y="3373200"/>
                <a:ext cx="1004400" cy="28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181480" y="34448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396760" y="32288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259320" y="3660480"/>
                <a:ext cx="215280" cy="71640"/>
              </a:xfrm>
              <a:custGeom>
                <a:avLst/>
                <a:gdLst>
                  <a:gd name="textAreaLeft" fmla="*/ 37440 w 215280"/>
                  <a:gd name="textAreaRight" fmla="*/ 156240 w 215280"/>
                  <a:gd name="textAreaTop" fmla="*/ 9360 h 71640"/>
                  <a:gd name="textAreaBottom" fmla="*/ 62280 h 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548040" y="3660480"/>
                <a:ext cx="215640" cy="71640"/>
              </a:xfrm>
              <a:custGeom>
                <a:avLst/>
                <a:gdLst>
                  <a:gd name="textAreaLeft" fmla="*/ 37800 w 215640"/>
                  <a:gd name="textAreaRight" fmla="*/ 156600 w 215640"/>
                  <a:gd name="textAreaTop" fmla="*/ 9360 h 71640"/>
                  <a:gd name="textAreaBottom" fmla="*/ 62280 h 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528240" y="33210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21120" y="3301920"/>
                <a:ext cx="142560" cy="287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88760" y="33210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59320" y="3300120"/>
                <a:ext cx="142560" cy="287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"/>
          <p:cNvGrpSpPr/>
          <p:nvPr/>
        </p:nvGrpSpPr>
        <p:grpSpPr>
          <a:xfrm>
            <a:off x="5870160" y="4324320"/>
            <a:ext cx="2589480" cy="779400"/>
            <a:chOff x="5870160" y="4324320"/>
            <a:chExt cx="2589480" cy="779400"/>
          </a:xfrm>
        </p:grpSpPr>
        <p:sp>
          <p:nvSpPr>
            <p:cNvPr id="203" name=""/>
            <p:cNvSpPr/>
            <p:nvPr/>
          </p:nvSpPr>
          <p:spPr>
            <a:xfrm>
              <a:off x="7380360" y="4690800"/>
              <a:ext cx="1079280" cy="360360"/>
            </a:xfrm>
            <a:prstGeom prst="ellipse">
              <a:avLst/>
            </a:prstGeom>
            <a:solidFill>
              <a:srgbClr val="ffffe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22880" y="4324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47240" y="44668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64160" y="470520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   X   Y    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34160" y="4611600"/>
              <a:ext cx="29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62520" y="4324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18520" y="4611600"/>
              <a:ext cx="100584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86880" y="46116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36320" y="446688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29440" y="4539960"/>
              <a:ext cx="30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70160" y="45399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78520" y="48272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02160" y="46828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26160" y="4900320"/>
              <a:ext cx="216000" cy="73080"/>
            </a:xfrm>
            <a:custGeom>
              <a:avLst/>
              <a:gdLst>
                <a:gd name="textAreaLeft" fmla="*/ 37800 w 216000"/>
                <a:gd name="textAreaRight" fmla="*/ 156600 w 216000"/>
                <a:gd name="textAreaTop" fmla="*/ 9720 h 73080"/>
                <a:gd name="textAreaBottom" fmla="*/ 63360 h 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13800" y="4900320"/>
              <a:ext cx="215640" cy="71640"/>
            </a:xfrm>
            <a:custGeom>
              <a:avLst/>
              <a:gdLst>
                <a:gd name="textAreaLeft" fmla="*/ 37800 w 215640"/>
                <a:gd name="textAreaRight" fmla="*/ 156600 w 215640"/>
                <a:gd name="textAreaTop" fmla="*/ 9360 h 71640"/>
                <a:gd name="textAreaBottom" fmla="*/ 62280 h 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29440" y="4900320"/>
              <a:ext cx="216000" cy="71640"/>
            </a:xfrm>
            <a:custGeom>
              <a:avLst/>
              <a:gdLst>
                <a:gd name="textAreaLeft" fmla="*/ 37800 w 216000"/>
                <a:gd name="textAreaRight" fmla="*/ 156600 w 216000"/>
                <a:gd name="textAreaTop" fmla="*/ 9360 h 71640"/>
                <a:gd name="textAreaBottom" fmla="*/ 62280 h 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7240" y="4682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62320" y="4625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59240" y="4552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29440" y="4539960"/>
              <a:ext cx="216000" cy="287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13800" y="4611600"/>
              <a:ext cx="215640" cy="2887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97800" y="4682880"/>
              <a:ext cx="144360" cy="2890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362840" y="5157720"/>
            <a:ext cx="2126160" cy="938160"/>
            <a:chOff x="4362840" y="5157720"/>
            <a:chExt cx="2126160" cy="938160"/>
          </a:xfrm>
        </p:grpSpPr>
        <p:sp>
          <p:nvSpPr>
            <p:cNvPr id="226" name=""/>
            <p:cNvSpPr/>
            <p:nvPr/>
          </p:nvSpPr>
          <p:spPr>
            <a:xfrm>
              <a:off x="5272200" y="5590800"/>
              <a:ext cx="1079280" cy="360360"/>
            </a:xfrm>
            <a:prstGeom prst="ellipse">
              <a:avLst/>
            </a:prstGeom>
            <a:solidFill>
              <a:srgbClr val="ffffe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78320" y="56116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94680" y="575460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30480" y="5446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99040" y="57546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15400" y="56037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62840" y="5518080"/>
              <a:ext cx="100584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70880" y="515772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8280" y="5230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29080" y="54590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49760" y="5387760"/>
              <a:ext cx="30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66840" y="53020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34360" y="56750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41760" y="5806800"/>
              <a:ext cx="14292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29400" y="566208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45040" y="566244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6161040" y="5733360"/>
              <a:ext cx="14436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69960" y="546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85760" y="5538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61040" y="5518080"/>
              <a:ext cx="144360" cy="1443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5801760" y="5662440"/>
              <a:ext cx="266040" cy="297360"/>
              <a:chOff x="5801760" y="5662440"/>
              <a:chExt cx="266040" cy="297360"/>
            </a:xfrm>
          </p:grpSpPr>
          <p:sp>
            <p:nvSpPr>
              <p:cNvPr id="247" name=""/>
              <p:cNvSpPr/>
              <p:nvPr/>
            </p:nvSpPr>
            <p:spPr>
              <a:xfrm>
                <a:off x="5801760" y="56833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819400" y="5662440"/>
                <a:ext cx="215640" cy="287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5657760" y="5518080"/>
              <a:ext cx="144360" cy="215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351040" y="5797440"/>
              <a:ext cx="306720" cy="298440"/>
              <a:chOff x="5351040" y="5797440"/>
              <a:chExt cx="306720" cy="298440"/>
            </a:xfrm>
          </p:grpSpPr>
          <p:sp>
            <p:nvSpPr>
              <p:cNvPr id="251" name=""/>
              <p:cNvSpPr/>
              <p:nvPr/>
            </p:nvSpPr>
            <p:spPr>
              <a:xfrm>
                <a:off x="5351040" y="58194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369040" y="5797440"/>
                <a:ext cx="288720" cy="2887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2785320" y="295200"/>
            <a:ext cx="38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Evolución de vía metabó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04960" y="419040"/>
          <a:ext cx="573408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4960" y="419040"/>
                    <a:ext cx="57340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1042920" y="863640"/>
            <a:ext cx="5866200" cy="4511520"/>
            <a:chOff x="1042920" y="863640"/>
            <a:chExt cx="5866200" cy="4511520"/>
          </a:xfrm>
        </p:grpSpPr>
        <p:sp>
          <p:nvSpPr>
            <p:cNvPr id="257" name=""/>
            <p:cNvSpPr/>
            <p:nvPr/>
          </p:nvSpPr>
          <p:spPr>
            <a:xfrm>
              <a:off x="2266920" y="1197000"/>
              <a:ext cx="0" cy="35272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66920" y="4724280"/>
              <a:ext cx="37450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5600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7164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8764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0364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964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3528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5128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6728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8292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9892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1492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092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4656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6256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856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73080" y="4762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96960" y="47624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1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31000" y="47624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2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64840" y="47624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2.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-550800" y="2457720"/>
              <a:ext cx="383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Presión de oxígeno atmosfér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                 </a:t>
              </a: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(atmósfera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24000" y="1484280"/>
              <a:ext cx="142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24000" y="2131920"/>
              <a:ext cx="142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24000" y="2779560"/>
              <a:ext cx="142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24000" y="342900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24000" y="4076640"/>
              <a:ext cx="142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00720" y="198900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31520" y="328608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0.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46560" y="3933720"/>
              <a:ext cx="65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0.0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16120" y="263700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0.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28160" y="13413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2411280" y="3860640"/>
              <a:ext cx="936720" cy="6480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348000" y="2131920"/>
              <a:ext cx="142920" cy="17287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4932360" y="1699920"/>
              <a:ext cx="647640" cy="1443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90920" y="2165400"/>
              <a:ext cx="12240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4643280" y="1844280"/>
              <a:ext cx="289080" cy="3603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34920" y="5006880"/>
              <a:ext cx="507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Tiempo antes del presente (billones de año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698480" y="212760"/>
            <a:ext cx="524988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909720"/>
            <a:ext cx="65534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192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613080" y="617400"/>
            <a:ext cx="7758720" cy="5261400"/>
            <a:chOff x="613080" y="617400"/>
            <a:chExt cx="7758720" cy="5261400"/>
          </a:xfrm>
        </p:grpSpPr>
        <p:grpSp>
          <p:nvGrpSpPr>
            <p:cNvPr id="46" name=""/>
            <p:cNvGrpSpPr/>
            <p:nvPr/>
          </p:nvGrpSpPr>
          <p:grpSpPr>
            <a:xfrm>
              <a:off x="2561040" y="617400"/>
              <a:ext cx="3785400" cy="440640"/>
              <a:chOff x="2561040" y="617400"/>
              <a:chExt cx="3785400" cy="440640"/>
            </a:xfrm>
          </p:grpSpPr>
          <p:sp>
            <p:nvSpPr>
              <p:cNvPr id="47" name=""/>
              <p:cNvSpPr/>
              <p:nvPr/>
            </p:nvSpPr>
            <p:spPr>
              <a:xfrm>
                <a:off x="2561040" y="617400"/>
                <a:ext cx="671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H</a:t>
                </a:r>
                <a:r>
                  <a:rPr b="1" lang="en-US" sz="2000" spc="-1" strike="noStrike" baseline="-25000">
                    <a:solidFill>
                      <a:srgbClr val="333399"/>
                    </a:solidFill>
                    <a:latin typeface="Georgia"/>
                  </a:rPr>
                  <a:t>2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866840" y="617400"/>
                <a:ext cx="47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711400" y="61740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O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489120" y="765000"/>
                <a:ext cx="100836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>
                <a:off x="3417840" y="909720"/>
                <a:ext cx="1008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433840" y="6174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13080" y="1125360"/>
              <a:ext cx="3047400" cy="435240"/>
              <a:chOff x="613080" y="1125360"/>
              <a:chExt cx="3047400" cy="435240"/>
            </a:xfrm>
          </p:grpSpPr>
          <p:sp>
            <p:nvSpPr>
              <p:cNvPr id="54" name=""/>
              <p:cNvSpPr/>
              <p:nvPr/>
            </p:nvSpPr>
            <p:spPr>
              <a:xfrm>
                <a:off x="613080" y="1160280"/>
                <a:ext cx="37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705760" y="1126800"/>
                <a:ext cx="35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284640" y="112680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690560" y="1301400"/>
                <a:ext cx="1079280" cy="144360"/>
                <a:chOff x="1690560" y="1301400"/>
                <a:chExt cx="1079280" cy="14436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761840" y="1301400"/>
                  <a:ext cx="100800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H="1">
                  <a:off x="1690560" y="1445760"/>
                  <a:ext cx="100800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" name=""/>
              <p:cNvSpPr/>
              <p:nvPr/>
            </p:nvSpPr>
            <p:spPr>
              <a:xfrm>
                <a:off x="1073520" y="1161720"/>
                <a:ext cx="6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+  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008160" y="11253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6013440" y="1125360"/>
              <a:ext cx="1817280" cy="910800"/>
              <a:chOff x="6013440" y="1125360"/>
              <a:chExt cx="1817280" cy="910800"/>
            </a:xfrm>
          </p:grpSpPr>
          <p:sp>
            <p:nvSpPr>
              <p:cNvPr id="63" name=""/>
              <p:cNvSpPr/>
              <p:nvPr/>
            </p:nvSpPr>
            <p:spPr>
              <a:xfrm>
                <a:off x="6013440" y="1125360"/>
                <a:ext cx="181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Keq =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 [ 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C 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D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1160" y="1393560"/>
                <a:ext cx="908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[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A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]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B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700680" y="1463400"/>
                <a:ext cx="100800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3104640" y="1628640"/>
              <a:ext cx="2443680" cy="766080"/>
              <a:chOff x="3104640" y="1628640"/>
              <a:chExt cx="2443680" cy="766080"/>
            </a:xfrm>
          </p:grpSpPr>
          <p:sp>
            <p:nvSpPr>
              <p:cNvPr id="67" name=""/>
              <p:cNvSpPr/>
              <p:nvPr/>
            </p:nvSpPr>
            <p:spPr>
              <a:xfrm>
                <a:off x="3104640" y="1628640"/>
                <a:ext cx="2378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Keq =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 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78240" y="1954080"/>
                <a:ext cx="947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H</a:t>
                </a:r>
                <a:r>
                  <a:rPr b="1" lang="es-ES" sz="2000" spc="-1" strike="noStrike" baseline="-25000">
                    <a:solidFill>
                      <a:srgbClr val="333399"/>
                    </a:solidFill>
                    <a:latin typeface="Georgia"/>
                  </a:rPr>
                  <a:t>2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O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4035600" y="1990080"/>
                <a:ext cx="1512720" cy="180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1418760" y="2492280"/>
              <a:ext cx="2159640" cy="636480"/>
              <a:chOff x="1418760" y="2492280"/>
              <a:chExt cx="2159640" cy="636480"/>
            </a:xfrm>
          </p:grpSpPr>
          <p:sp>
            <p:nvSpPr>
              <p:cNvPr id="71" name=""/>
              <p:cNvSpPr/>
              <p:nvPr/>
            </p:nvSpPr>
            <p:spPr>
              <a:xfrm>
                <a:off x="1418760" y="2492280"/>
                <a:ext cx="215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Keq =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 [ H</a:t>
                </a:r>
                <a:r>
                  <a:rPr b="1" lang="en-US" sz="18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18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411280" y="27604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55.5 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22200" y="2828520"/>
                <a:ext cx="1440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4230360" y="2565360"/>
              <a:ext cx="3915360" cy="368280"/>
              <a:chOff x="4230360" y="2565360"/>
              <a:chExt cx="3915360" cy="368280"/>
            </a:xfrm>
          </p:grpSpPr>
          <p:sp>
            <p:nvSpPr>
              <p:cNvPr id="75" name=""/>
              <p:cNvSpPr/>
              <p:nvPr/>
            </p:nvSpPr>
            <p:spPr>
              <a:xfrm>
                <a:off x="5310000" y="2565360"/>
                <a:ext cx="215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Keq =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 [ H</a:t>
                </a:r>
                <a:r>
                  <a:rPr b="1" lang="en-US" sz="18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18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230360" y="2565360"/>
                <a:ext cx="11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55.5 M 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414920" y="2565360"/>
                <a:ext cx="73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= K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3707280" y="3068640"/>
              <a:ext cx="3776400" cy="440640"/>
              <a:chOff x="3707280" y="3068640"/>
              <a:chExt cx="3776400" cy="440640"/>
            </a:xfrm>
          </p:grpSpPr>
          <p:sp>
            <p:nvSpPr>
              <p:cNvPr id="79" name=""/>
              <p:cNvSpPr/>
              <p:nvPr/>
            </p:nvSpPr>
            <p:spPr>
              <a:xfrm>
                <a:off x="3707280" y="3068640"/>
                <a:ext cx="2651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K</a:t>
                </a:r>
                <a:r>
                  <a:rPr b="1" lang="es-ES" sz="2000" spc="-1" strike="noStrike" baseline="-25000">
                    <a:solidFill>
                      <a:srgbClr val="333399"/>
                    </a:solidFill>
                    <a:latin typeface="Georgia"/>
                  </a:rPr>
                  <a:t>eq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agua = 1.8 x 10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55760" y="3114720"/>
                <a:ext cx="727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333399"/>
                    </a:solidFill>
                    <a:latin typeface="Georgia"/>
                  </a:rPr>
                  <a:t>a 25º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1066320" y="3645000"/>
              <a:ext cx="4317120" cy="401760"/>
              <a:chOff x="1066320" y="3645000"/>
              <a:chExt cx="4317120" cy="401760"/>
            </a:xfrm>
          </p:grpSpPr>
          <p:sp>
            <p:nvSpPr>
              <p:cNvPr id="82" name=""/>
              <p:cNvSpPr/>
              <p:nvPr/>
            </p:nvSpPr>
            <p:spPr>
              <a:xfrm>
                <a:off x="1066320" y="3645000"/>
                <a:ext cx="1218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55.5 M 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202840" y="3645000"/>
                <a:ext cx="13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.8 x 10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-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508200" y="36478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774600" y="3645000"/>
                <a:ext cx="1608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2160720" y="4076640"/>
              <a:ext cx="4106880" cy="457920"/>
              <a:chOff x="2160720" y="4076640"/>
              <a:chExt cx="4106880" cy="457920"/>
            </a:xfrm>
          </p:grpSpPr>
          <p:sp>
            <p:nvSpPr>
              <p:cNvPr id="87" name=""/>
              <p:cNvSpPr/>
              <p:nvPr/>
            </p:nvSpPr>
            <p:spPr>
              <a:xfrm>
                <a:off x="2160720" y="4076640"/>
                <a:ext cx="13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.0 x 10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-1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511080" y="40813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06440" y="4093920"/>
                <a:ext cx="2261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 = K</a:t>
                </a:r>
                <a:r>
                  <a:rPr b="1" lang="en-US" sz="2000" spc="-1" strike="noStrike" baseline="-25000">
                    <a:solidFill>
                      <a:srgbClr val="333399"/>
                    </a:solidFill>
                    <a:latin typeface="Georgia"/>
                    <a:ea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1783800" y="4581360"/>
              <a:ext cx="6588000" cy="471960"/>
              <a:chOff x="1783800" y="4581360"/>
              <a:chExt cx="6588000" cy="471960"/>
            </a:xfrm>
          </p:grpSpPr>
          <p:sp>
            <p:nvSpPr>
              <p:cNvPr id="91" name=""/>
              <p:cNvSpPr/>
              <p:nvPr/>
            </p:nvSpPr>
            <p:spPr>
              <a:xfrm>
                <a:off x="1783800" y="4587840"/>
                <a:ext cx="494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K</a:t>
                </a:r>
                <a:r>
                  <a:rPr b="1" lang="es-ES" sz="2000" spc="-1" strike="noStrike" baseline="-25000">
                    <a:solidFill>
                      <a:srgbClr val="333399"/>
                    </a:solidFill>
                    <a:latin typeface="Georgia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144520" y="45878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720" y="4581360"/>
                <a:ext cx="2531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 = [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176520" y="4654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450400" y="4584600"/>
                <a:ext cx="81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6366960" y="4584600"/>
                <a:ext cx="630360" cy="440640"/>
                <a:chOff x="6366960" y="4584600"/>
                <a:chExt cx="630360" cy="4406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366960" y="4584600"/>
                  <a:ext cx="63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99"/>
                      </a:solidFill>
                      <a:latin typeface="Symbol"/>
                      <a:ea typeface="Symbol"/>
                    </a:rPr>
                    <a:t></a:t>
                  </a:r>
                  <a:r>
                    <a:rPr b="1" lang="en-US" sz="2000" spc="-1" strike="noStrike">
                      <a:solidFill>
                        <a:srgbClr val="333399"/>
                      </a:solidFill>
                      <a:latin typeface="Georgia"/>
                    </a:rPr>
                    <a:t>K</a:t>
                  </a:r>
                  <a:r>
                    <a:rPr b="1" lang="en-US" sz="2000" spc="-1" strike="noStrike" baseline="-25000">
                      <a:solidFill>
                        <a:srgbClr val="333399"/>
                      </a:solidFill>
                      <a:latin typeface="Georgia"/>
                    </a:rPr>
                    <a:t>w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561000" y="4657680"/>
                  <a:ext cx="360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6923520" y="4586400"/>
                <a:ext cx="1448280" cy="415800"/>
                <a:chOff x="6923520" y="4586400"/>
                <a:chExt cx="1448280" cy="4158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6923520" y="463392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3399"/>
                      </a:solidFill>
                      <a:latin typeface="Georgia"/>
                    </a:rPr>
                    <a:t>=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025040" y="4586400"/>
                  <a:ext cx="1346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99"/>
                      </a:solidFill>
                      <a:latin typeface="Georgia"/>
                    </a:rPr>
                    <a:t> </a:t>
                  </a:r>
                  <a:r>
                    <a:rPr b="1" lang="en-US" sz="2000" spc="-1" strike="noStrike">
                      <a:solidFill>
                        <a:srgbClr val="333399"/>
                      </a:solidFill>
                      <a:latin typeface="Symbol"/>
                      <a:ea typeface="Symbol"/>
                    </a:rPr>
                    <a:t></a:t>
                  </a:r>
                  <a:r>
                    <a:rPr b="1" lang="en-US" sz="2000" spc="-1" strike="noStrike">
                      <a:solidFill>
                        <a:srgbClr val="333399"/>
                      </a:solidFill>
                      <a:latin typeface="Georgia"/>
                    </a:rPr>
                    <a:t>1 x 10-</a:t>
                  </a:r>
                  <a:r>
                    <a:rPr b="1" lang="en-US" sz="2000" spc="-1" strike="noStrike" baseline="30000">
                      <a:solidFill>
                        <a:srgbClr val="333399"/>
                      </a:solidFill>
                      <a:latin typeface="Georgia"/>
                    </a:rPr>
                    <a:t>14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291440" y="4656240"/>
                  <a:ext cx="64944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" name=""/>
            <p:cNvSpPr/>
            <p:nvPr/>
          </p:nvSpPr>
          <p:spPr>
            <a:xfrm>
              <a:off x="809280" y="5251320"/>
              <a:ext cx="256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[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r>
                <a:rPr b="1" lang="es-ES" sz="1800" spc="-1" strike="noStrike" baseline="30000">
                  <a:solidFill>
                    <a:srgbClr val="333399"/>
                  </a:solidFill>
                  <a:latin typeface="Georgia"/>
                </a:rPr>
                <a:t>+ </a:t>
              </a:r>
              <a:r>
                <a:rPr b="1" lang="en-US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]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=  </a:t>
              </a:r>
              <a:r>
                <a:rPr b="1" lang="en-US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[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H</a:t>
              </a:r>
              <a:r>
                <a:rPr b="1" lang="es-ES" sz="1800" spc="-1" strike="noStrike" baseline="30000">
                  <a:solidFill>
                    <a:srgbClr val="333399"/>
                  </a:solidFill>
                  <a:latin typeface="Georgia"/>
                </a:rPr>
                <a:t>- </a:t>
              </a:r>
              <a:r>
                <a:rPr b="1" lang="en-US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]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=  10</a:t>
              </a:r>
              <a:r>
                <a:rPr b="1" lang="es-ES" sz="1800" spc="-1" strike="noStrike" baseline="30000">
                  <a:solidFill>
                    <a:srgbClr val="333399"/>
                  </a:solidFill>
                  <a:latin typeface="Georgia"/>
                </a:rPr>
                <a:t>-7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280760" y="5210280"/>
              <a:ext cx="3247560" cy="668520"/>
              <a:chOff x="4280760" y="5210280"/>
              <a:chExt cx="3247560" cy="668520"/>
            </a:xfrm>
          </p:grpSpPr>
          <p:sp>
            <p:nvSpPr>
              <p:cNvPr id="105" name=""/>
              <p:cNvSpPr/>
              <p:nvPr/>
            </p:nvSpPr>
            <p:spPr>
              <a:xfrm>
                <a:off x="4280760" y="5297400"/>
                <a:ext cx="76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pH 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35600" y="5297400"/>
                <a:ext cx="56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lo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552280" y="52102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473080" y="5479920"/>
                <a:ext cx="68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+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974200" y="5281560"/>
                <a:ext cx="15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=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-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 log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+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506920" y="5516640"/>
                <a:ext cx="50472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16360" y="476280"/>
            <a:ext cx="286704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632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619308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5759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19280" y="549360"/>
            <a:ext cx="6121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17:30:48Z</dcterms:created>
  <dc:creator>INTA</dc:creator>
  <dc:description/>
  <dc:language>en-US</dc:language>
  <cp:lastModifiedBy>INTA</cp:lastModifiedBy>
  <dcterms:modified xsi:type="dcterms:W3CDTF">2007-07-27T21:12:14Z</dcterms:modified>
  <cp:revision>3</cp:revision>
  <dc:subject/>
  <dc:title>Diapositiva 1</dc:title>
</cp:coreProperties>
</file>