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26D-3B42-4E8E-BC87-C9BDDD85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6E2-17B9-46B9-9D68-AEA584FD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FEF-0356-4785-957A-6915F91B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E65-9E6E-4EB2-8249-516EE020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A66-63A5-4A8B-9188-9B2E81F1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B29-72EC-4537-977D-FB7FFF6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6D1-88E7-469A-A08A-264016F6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3E9-DE0F-4708-840A-CAC12D0C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77D-FA62-48BA-BB5E-5D01DB50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C21-69DD-4301-8C72-B5F72431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2DF-E790-4B2C-9E0A-F857F0A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6A6-6E8A-490B-841D-5F6627B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03AB-04FD-4B59-AF30-F9B5A6E46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2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28256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080" y="981000"/>
            <a:ext cx="863568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¿Cómo llegaron estas moléculas a constituir un ser vivo?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276640"/>
            <a:ext cx="8820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9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l bioquímico ruso Alexander Oparin y el fisiólogo escocés John Haldane propusieron en forma independiente la hipótesis de que la vida celular fue precedida por un período de evolución 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urante ésa etapa se produjo  la  formación espontánea de moléculas orgánicas simples a partir de compuestos químico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979560"/>
            <a:ext cx="344808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260280"/>
            <a:ext cx="4608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sta proposición fue probada experiment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n el laboratorio de Harold Urey  por Stanley Miller. 19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Cuatro factores habrían facilitado la evolución 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-  Ausencia de oxígen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2- 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3-  Materia química (agua, iones minerales, y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e la atmósfera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Ti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60840" y="30492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Algunos productos formados en condiciones prebi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665280"/>
            <a:ext cx="2777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minoácid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-aminobut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V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Iso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spá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ut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Treo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zú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entosas y hex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ineales y ramif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9040" y="620640"/>
            <a:ext cx="275940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cidos carboxílic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Äcido fó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c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Prop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rasos r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y ramificados (C4-C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ic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L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Bases de ac.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58800"/>
            <a:ext cx="6719760" cy="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1446120"/>
            <a:ext cx="441036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68040" y="48420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ductos de síntesis prebiótica, aminoácidos pro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en experimento de Urey-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39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2360" y="495360"/>
            <a:ext cx="864072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Formación de la sopa prebiótica (incluídos nucleótidos), a partir de la atmósfera terrestre prim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920" y="2239920"/>
            <a:ext cx="8274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roducción de moléculas cortas de RNA con secuencia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1480" y="3753000"/>
            <a:ext cx="8076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eplicación selectiva de RNAs catalíticos que se autodup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1440" y="5048280"/>
            <a:ext cx="693828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Síntesis de péptidos específicos, catalizados por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70172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9988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4388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5911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609444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836640"/>
            <a:ext cx="8604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Péptidos participan en la replicación del RNA; coevolución de RNA y  proteí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8496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Desarrollo de un sistema primitivo de traducción, con genoma de RNA y catálisis RNA-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8240" y="4149720"/>
            <a:ext cx="5773680" cy="5511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NA genómico comienza a copiarse en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445000"/>
            <a:ext cx="856908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Genoma de DNA, traducido en complejos RNA-proteínas (ribosomas) con proteínas cataliz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890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440" y="4797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6450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33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12360" y="1233360"/>
            <a:ext cx="2061000" cy="1639080"/>
            <a:chOff x="612360" y="1233360"/>
            <a:chExt cx="2061000" cy="1639080"/>
          </a:xfrm>
        </p:grpSpPr>
        <p:sp>
          <p:nvSpPr>
            <p:cNvPr id="145" name=""/>
            <p:cNvSpPr/>
            <p:nvPr/>
          </p:nvSpPr>
          <p:spPr>
            <a:xfrm>
              <a:off x="1593720" y="157464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360" y="25653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Célula tempr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640" y="123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640" y="18828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8360" y="1573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1280" y="130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8000" y="1666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9080" y="164448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2560" y="2314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3280" y="1809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7280" y="1665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360" y="1501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9280" y="2025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2160" y="1285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3800" y="18622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2720" y="2149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73440" y="1916280"/>
            <a:ext cx="1917360" cy="1514520"/>
            <a:chOff x="2773440" y="1916280"/>
            <a:chExt cx="1917360" cy="1514520"/>
          </a:xfrm>
        </p:grpSpPr>
        <p:sp>
          <p:nvSpPr>
            <p:cNvPr id="162" name=""/>
            <p:cNvSpPr/>
            <p:nvPr/>
          </p:nvSpPr>
          <p:spPr>
            <a:xfrm>
              <a:off x="3611160" y="256392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7800" y="2490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0360" y="2511360"/>
              <a:ext cx="44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3440" y="228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4720" y="315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9080" y="23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2360" y="227484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440" y="2649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5080" y="241920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280" y="26352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3280" y="2440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4360" y="2419200"/>
              <a:ext cx="14292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8720" y="2490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4160" y="1916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9800" y="2203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205884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9480" y="2004840"/>
            <a:ext cx="2054880" cy="1800360"/>
            <a:chOff x="5109480" y="2004840"/>
            <a:chExt cx="2054880" cy="1800360"/>
          </a:xfrm>
        </p:grpSpPr>
        <p:sp>
          <p:nvSpPr>
            <p:cNvPr id="179" name=""/>
            <p:cNvSpPr/>
            <p:nvPr/>
          </p:nvSpPr>
          <p:spPr>
            <a:xfrm>
              <a:off x="5538600" y="2941560"/>
              <a:ext cx="3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3480" y="2725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0720" y="2811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56400" y="250812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480" y="2508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5480" y="2004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33080" y="2163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4000" y="237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2000" y="2522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0040" y="287028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109480" y="3228840"/>
              <a:ext cx="1940040" cy="576360"/>
              <a:chOff x="5109480" y="3228840"/>
              <a:chExt cx="1940040" cy="576360"/>
            </a:xfrm>
          </p:grpSpPr>
          <p:sp>
            <p:nvSpPr>
              <p:cNvPr id="190" name=""/>
              <p:cNvSpPr/>
              <p:nvPr/>
            </p:nvSpPr>
            <p:spPr>
              <a:xfrm>
                <a:off x="5970240" y="3444840"/>
                <a:ext cx="1079280" cy="360360"/>
              </a:xfrm>
              <a:prstGeom prst="ellipse">
                <a:avLst/>
              </a:prstGeom>
              <a:solidFill>
                <a:srgbClr val="ffffe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4400" y="3465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32400" y="3454200"/>
                <a:ext cx="58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Y     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9480" y="3373200"/>
                <a:ext cx="100440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1480" y="3444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6760" y="3228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59320" y="3660480"/>
                <a:ext cx="215280" cy="71640"/>
              </a:xfrm>
              <a:custGeom>
                <a:avLst/>
                <a:gdLst>
                  <a:gd name="textAreaLeft" fmla="*/ 37440 w 215280"/>
                  <a:gd name="textAreaRight" fmla="*/ 156240 w 21528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48040" y="3660480"/>
                <a:ext cx="215640" cy="71640"/>
              </a:xfrm>
              <a:custGeom>
                <a:avLst/>
                <a:gdLst>
                  <a:gd name="textAreaLeft" fmla="*/ 37800 w 215640"/>
                  <a:gd name="textAreaRight" fmla="*/ 156600 w 21564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824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1120" y="33019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876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59320" y="33001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870160" y="4324320"/>
            <a:ext cx="2589480" cy="779400"/>
            <a:chOff x="5870160" y="4324320"/>
            <a:chExt cx="2589480" cy="779400"/>
          </a:xfrm>
        </p:grpSpPr>
        <p:sp>
          <p:nvSpPr>
            <p:cNvPr id="203" name=""/>
            <p:cNvSpPr/>
            <p:nvPr/>
          </p:nvSpPr>
          <p:spPr>
            <a:xfrm>
              <a:off x="7380360" y="46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2288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7240" y="4466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4160" y="47052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   X   Y   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4160" y="461160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252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8520" y="461160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86880" y="4611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6320" y="44668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9440" y="45399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0160" y="4539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8520" y="4827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2160" y="468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6160" y="4900320"/>
              <a:ext cx="216000" cy="7308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720 h 73080"/>
                <a:gd name="textAreaBottom" fmla="*/ 6336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13800" y="4900320"/>
              <a:ext cx="215640" cy="71640"/>
            </a:xfrm>
            <a:custGeom>
              <a:avLst/>
              <a:gdLst>
                <a:gd name="textAreaLeft" fmla="*/ 37800 w 215640"/>
                <a:gd name="textAreaRight" fmla="*/ 156600 w 21564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29440" y="4900320"/>
              <a:ext cx="216000" cy="7164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240" y="468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2320" y="4625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59240" y="4552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29440" y="4539960"/>
              <a:ext cx="21600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3800" y="4611600"/>
              <a:ext cx="215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7800" y="4682880"/>
              <a:ext cx="144360" cy="289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62840" y="5157720"/>
            <a:ext cx="2126160" cy="938160"/>
            <a:chOff x="4362840" y="5157720"/>
            <a:chExt cx="2126160" cy="938160"/>
          </a:xfrm>
        </p:grpSpPr>
        <p:sp>
          <p:nvSpPr>
            <p:cNvPr id="226" name=""/>
            <p:cNvSpPr/>
            <p:nvPr/>
          </p:nvSpPr>
          <p:spPr>
            <a:xfrm>
              <a:off x="5272200" y="55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8320" y="5611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4680" y="5754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0480" y="544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9040" y="5754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5400" y="5603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840" y="551808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0880" y="51577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8280" y="5230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29080" y="5459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9760" y="53877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66840" y="5302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4360" y="5675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1760" y="5806800"/>
              <a:ext cx="1429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29400" y="56620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5040" y="56624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61040" y="573336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69960" y="546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5760" y="5538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1040" y="5518080"/>
              <a:ext cx="144360" cy="144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801760" y="5662440"/>
              <a:ext cx="266040" cy="297360"/>
              <a:chOff x="5801760" y="5662440"/>
              <a:chExt cx="266040" cy="297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801760" y="5683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19400" y="5662440"/>
                <a:ext cx="215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57760" y="5518080"/>
              <a:ext cx="144360" cy="21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51040" y="5797440"/>
              <a:ext cx="306720" cy="298440"/>
              <a:chOff x="5351040" y="5797440"/>
              <a:chExt cx="306720" cy="29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5351040" y="5819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69040" y="5797440"/>
                <a:ext cx="288720" cy="2887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785320" y="29520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volución de vía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04960" y="419040"/>
          <a:ext cx="57340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419040"/>
                    <a:ext cx="5734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042920" y="863640"/>
            <a:ext cx="5866200" cy="4511520"/>
            <a:chOff x="1042920" y="863640"/>
            <a:chExt cx="5866200" cy="4511520"/>
          </a:xfrm>
        </p:grpSpPr>
        <p:sp>
          <p:nvSpPr>
            <p:cNvPr id="257" name=""/>
            <p:cNvSpPr/>
            <p:nvPr/>
          </p:nvSpPr>
          <p:spPr>
            <a:xfrm>
              <a:off x="2266920" y="1197000"/>
              <a:ext cx="0" cy="3527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6920" y="4724280"/>
              <a:ext cx="374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5600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1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9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1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7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2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8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14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0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6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8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308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9696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3100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484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-550800" y="2457720"/>
              <a:ext cx="38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Presión de oxígeno atmosfé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          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(atmósfer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24000" y="148428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213192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277956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4000" y="342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4000" y="407664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00720" y="1989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31520" y="32860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6560" y="39337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16120" y="2637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28160" y="134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411280" y="3860640"/>
              <a:ext cx="93672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48000" y="2131920"/>
              <a:ext cx="142920" cy="1728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932360" y="1699920"/>
              <a:ext cx="64764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216540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643280" y="1844280"/>
              <a:ext cx="289080" cy="360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4920" y="5006880"/>
              <a:ext cx="50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Tiempo antes del presente (billones de añ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8480" y="212760"/>
            <a:ext cx="52498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909720"/>
            <a:ext cx="65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13080" y="617400"/>
            <a:ext cx="7758720" cy="5261400"/>
            <a:chOff x="613080" y="617400"/>
            <a:chExt cx="7758720" cy="5261400"/>
          </a:xfrm>
        </p:grpSpPr>
        <p:grpSp>
          <p:nvGrpSpPr>
            <p:cNvPr id="46" name=""/>
            <p:cNvGrpSpPr/>
            <p:nvPr/>
          </p:nvGrpSpPr>
          <p:grpSpPr>
            <a:xfrm>
              <a:off x="2561040" y="617400"/>
              <a:ext cx="3785400" cy="440640"/>
              <a:chOff x="2561040" y="617400"/>
              <a:chExt cx="3785400" cy="440640"/>
            </a:xfrm>
          </p:grpSpPr>
          <p:sp>
            <p:nvSpPr>
              <p:cNvPr id="47" name=""/>
              <p:cNvSpPr/>
              <p:nvPr/>
            </p:nvSpPr>
            <p:spPr>
              <a:xfrm>
                <a:off x="2561040" y="617400"/>
                <a:ext cx="67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66840" y="617400"/>
                <a:ext cx="47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711400" y="61740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89120" y="765000"/>
                <a:ext cx="100836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3417840" y="909720"/>
                <a:ext cx="10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33840" y="617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13080" y="1125360"/>
              <a:ext cx="3047400" cy="435240"/>
              <a:chOff x="613080" y="1125360"/>
              <a:chExt cx="3047400" cy="435240"/>
            </a:xfrm>
          </p:grpSpPr>
          <p:sp>
            <p:nvSpPr>
              <p:cNvPr id="54" name=""/>
              <p:cNvSpPr/>
              <p:nvPr/>
            </p:nvSpPr>
            <p:spPr>
              <a:xfrm>
                <a:off x="613080" y="11602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05760" y="1126800"/>
                <a:ext cx="35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84640" y="11268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690560" y="1301400"/>
                <a:ext cx="1079280" cy="144360"/>
                <a:chOff x="1690560" y="1301400"/>
                <a:chExt cx="1079280" cy="1443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761840" y="130140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1690560" y="144576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1073520" y="116172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 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08160" y="1125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13440" y="1125360"/>
              <a:ext cx="1817280" cy="910800"/>
              <a:chOff x="6013440" y="1125360"/>
              <a:chExt cx="1817280" cy="910800"/>
            </a:xfrm>
          </p:grpSpPr>
          <p:sp>
            <p:nvSpPr>
              <p:cNvPr id="63" name=""/>
              <p:cNvSpPr/>
              <p:nvPr/>
            </p:nvSpPr>
            <p:spPr>
              <a:xfrm>
                <a:off x="6013440" y="112536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C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D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1160" y="1393560"/>
                <a:ext cx="90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A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B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0680" y="1463400"/>
                <a:ext cx="1008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104640" y="1628640"/>
              <a:ext cx="2443680" cy="766080"/>
              <a:chOff x="3104640" y="1628640"/>
              <a:chExt cx="2443680" cy="766080"/>
            </a:xfrm>
          </p:grpSpPr>
          <p:sp>
            <p:nvSpPr>
              <p:cNvPr id="67" name=""/>
              <p:cNvSpPr/>
              <p:nvPr/>
            </p:nvSpPr>
            <p:spPr>
              <a:xfrm>
                <a:off x="3104640" y="1628640"/>
                <a:ext cx="23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8240" y="1954080"/>
                <a:ext cx="947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H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4035600" y="1990080"/>
                <a:ext cx="1512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18760" y="2492280"/>
              <a:ext cx="2159640" cy="636480"/>
              <a:chOff x="1418760" y="2492280"/>
              <a:chExt cx="2159640" cy="636480"/>
            </a:xfrm>
          </p:grpSpPr>
          <p:sp>
            <p:nvSpPr>
              <p:cNvPr id="71" name=""/>
              <p:cNvSpPr/>
              <p:nvPr/>
            </p:nvSpPr>
            <p:spPr>
              <a:xfrm>
                <a:off x="1418760" y="24922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11280" y="27604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22200" y="2828520"/>
                <a:ext cx="1440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230360" y="2565360"/>
              <a:ext cx="3915360" cy="368280"/>
              <a:chOff x="4230360" y="2565360"/>
              <a:chExt cx="391536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5310000" y="25653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0360" y="256536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14920" y="256536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= K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707280" y="3068640"/>
              <a:ext cx="3776400" cy="440640"/>
              <a:chOff x="3707280" y="3068640"/>
              <a:chExt cx="3776400" cy="440640"/>
            </a:xfrm>
          </p:grpSpPr>
          <p:sp>
            <p:nvSpPr>
              <p:cNvPr id="79" name=""/>
              <p:cNvSpPr/>
              <p:nvPr/>
            </p:nvSpPr>
            <p:spPr>
              <a:xfrm>
                <a:off x="3707280" y="3068640"/>
                <a:ext cx="265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eq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agua = 1.8 x 10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55760" y="3114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333399"/>
                    </a:solidFill>
                    <a:latin typeface="Georgia"/>
                  </a:rPr>
                  <a:t>a 25º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066320" y="3645000"/>
              <a:ext cx="4317120" cy="401760"/>
              <a:chOff x="1066320" y="3645000"/>
              <a:chExt cx="4317120" cy="401760"/>
            </a:xfrm>
          </p:grpSpPr>
          <p:sp>
            <p:nvSpPr>
              <p:cNvPr id="82" name=""/>
              <p:cNvSpPr/>
              <p:nvPr/>
            </p:nvSpPr>
            <p:spPr>
              <a:xfrm>
                <a:off x="1066320" y="3645000"/>
                <a:ext cx="121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2840" y="364500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8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08200" y="36478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74600" y="3645000"/>
                <a:ext cx="160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60720" y="4076640"/>
              <a:ext cx="4106880" cy="457920"/>
              <a:chOff x="2160720" y="4076640"/>
              <a:chExt cx="4106880" cy="457920"/>
            </a:xfrm>
          </p:grpSpPr>
          <p:sp>
            <p:nvSpPr>
              <p:cNvPr id="87" name=""/>
              <p:cNvSpPr/>
              <p:nvPr/>
            </p:nvSpPr>
            <p:spPr>
              <a:xfrm>
                <a:off x="2160720" y="407664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0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11080" y="4081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06440" y="4093920"/>
                <a:ext cx="2261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K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783800" y="4581360"/>
              <a:ext cx="6588000" cy="471960"/>
              <a:chOff x="1783800" y="4581360"/>
              <a:chExt cx="6588000" cy="471960"/>
            </a:xfrm>
          </p:grpSpPr>
          <p:sp>
            <p:nvSpPr>
              <p:cNvPr id="91" name=""/>
              <p:cNvSpPr/>
              <p:nvPr/>
            </p:nvSpPr>
            <p:spPr>
              <a:xfrm>
                <a:off x="1783800" y="4587840"/>
                <a:ext cx="49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44520" y="4587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720" y="4581360"/>
                <a:ext cx="253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[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6520" y="465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50400" y="458460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366960" y="4584600"/>
                <a:ext cx="630360" cy="440640"/>
                <a:chOff x="6366960" y="4584600"/>
                <a:chExt cx="63036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366960" y="4584600"/>
                  <a:ext cx="63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333399"/>
                      </a:solidFill>
                      <a:latin typeface="Georgia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61000" y="465768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923520" y="4586400"/>
                <a:ext cx="1448280" cy="415800"/>
                <a:chOff x="6923520" y="4586400"/>
                <a:chExt cx="1448280" cy="415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923520" y="4633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Georgia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25040" y="4586400"/>
                  <a:ext cx="1346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 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1 x 10-</a:t>
                  </a:r>
                  <a:r>
                    <a:rPr b="1" lang="en-US" sz="2000" spc="-1" strike="noStrike" baseline="30000">
                      <a:solidFill>
                        <a:srgbClr val="333399"/>
                      </a:solidFill>
                      <a:latin typeface="Georgia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91440" y="4656240"/>
                  <a:ext cx="6494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809280" y="5251320"/>
              <a:ext cx="25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+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10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280760" y="5210280"/>
              <a:ext cx="3247560" cy="668520"/>
              <a:chOff x="4280760" y="5210280"/>
              <a:chExt cx="3247560" cy="668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280760" y="529740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pH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35600" y="5297400"/>
                <a:ext cx="56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52280" y="521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3080" y="5479920"/>
                <a:ext cx="68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74200" y="5281560"/>
                <a:ext cx="15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=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-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 log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06920" y="5516640"/>
                <a:ext cx="5047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2867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193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759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1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0:48Z</dcterms:created>
  <dc:creator>INTA</dc:creator>
  <dc:description/>
  <dc:language>en-US</dc:language>
  <cp:lastModifiedBy>INTA</cp:lastModifiedBy>
  <dcterms:modified xsi:type="dcterms:W3CDTF">2007-07-27T21:12:14Z</dcterms:modified>
  <cp:revision>3</cp:revision>
  <dc:subject/>
  <dc:title>Diapositiva 1</dc:title>
</cp:coreProperties>
</file>