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CBD9-D4A6-47C3-A024-8EEEDBF5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0A8A-3DB5-4C87-AE96-D7483FFC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9A2F-000F-4322-A13A-EEBF498E9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C9BA-BD3C-4F9F-8BBE-40B6F0525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438A-E036-4CB3-8098-12CEFA0E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DEDB-F6BB-4755-B816-CD73C1F0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0C16-7550-4D65-8D86-6803A841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36BE-BD5C-40EB-84E6-AE7EDB61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B170-98A0-45CD-8C71-C4F1C5CC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8EA1-3C9F-41BF-8D51-6AC7E0B8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99D3-E155-4B4B-BDF4-EF31C4E6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FF7D-F0E6-4D30-8875-9AEA634F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CAD4-25ED-4710-95DF-4CE053399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09560" y="1257480"/>
            <a:ext cx="774864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1526040" y="3902040"/>
            <a:ext cx="5301360" cy="1585800"/>
            <a:chOff x="1526040" y="3902040"/>
            <a:chExt cx="5301360" cy="1585800"/>
          </a:xfrm>
        </p:grpSpPr>
        <p:sp>
          <p:nvSpPr>
            <p:cNvPr id="341" name=""/>
            <p:cNvSpPr/>
            <p:nvPr/>
          </p:nvSpPr>
          <p:spPr>
            <a:xfrm>
              <a:off x="6589440" y="46940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06520" y="4622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06520" y="4714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28760" y="46940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44920" y="47131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36680" y="45068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81040" y="476532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525400" y="46209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30200" y="4620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79600" y="44766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20920" y="44780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51040" y="460044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38520" y="4600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38520" y="4671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449600" y="4671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93960" y="447804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45040" y="4427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82880" y="447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55960" y="447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954320" y="44780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81400" y="44780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48600" y="4460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248160" y="46717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4504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15480" y="4481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97240" y="44780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0840" y="44780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68520" y="476532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33760" y="4622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938680" y="4482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02120" y="4600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00320" y="467172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260680" y="46227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60680" y="47145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62320" y="4482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92520" y="47653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93960" y="41893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1812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18120" y="4425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682880" y="47941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55960" y="47941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02120" y="4916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900320" y="4986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736880" y="5081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82880" y="5081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11600" y="4938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611600" y="5008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7652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160880" y="4622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32576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60880" y="4714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94320" y="3902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243760" y="44701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755960" y="41842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682880" y="41842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92880" y="5119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26040" y="448272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3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47600" y="46432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02680" y="44827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83240" y="477972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83240" y="433368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303600" y="404964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4520" y="491472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28880" y="469404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008080" y="2717640"/>
            <a:ext cx="4848120" cy="482400"/>
            <a:chOff x="2008080" y="2717640"/>
            <a:chExt cx="4848120" cy="482400"/>
          </a:xfrm>
        </p:grpSpPr>
        <p:sp>
          <p:nvSpPr>
            <p:cNvPr id="406" name=""/>
            <p:cNvSpPr/>
            <p:nvPr/>
          </p:nvSpPr>
          <p:spPr>
            <a:xfrm>
              <a:off x="3382920" y="2965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179520" y="2769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95280" y="29127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81320" y="30603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400440" y="29779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08080" y="28000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00240" y="3149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03280" y="29332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14200" y="2893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38040" y="27730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69720" y="27716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86040" y="28936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22560" y="276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082760" y="3078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87840" y="2965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313160" y="28000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27176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09680" y="3078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09680" y="271764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730400" y="2768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27320" y="27698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162480" y="2754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62400" y="29653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64640" y="27540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97280" y="27730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51240" y="292860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86400" y="292860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25680" y="28954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227480" y="296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08440" y="28778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08440" y="2984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98760" y="28954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00200" y="2966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66760" y="2755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95640" y="276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75120" y="3055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48200" y="3055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81120" y="2895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40000" y="276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87840" y="2755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158920" y="3149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012760" y="2995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78040" y="291276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2028960" y="819000"/>
            <a:ext cx="4752360" cy="1087560"/>
            <a:chOff x="2028960" y="819000"/>
            <a:chExt cx="4752360" cy="1087560"/>
          </a:xfrm>
        </p:grpSpPr>
        <p:sp>
          <p:nvSpPr>
            <p:cNvPr id="450" name=""/>
            <p:cNvSpPr/>
            <p:nvPr/>
          </p:nvSpPr>
          <p:spPr>
            <a:xfrm>
              <a:off x="3417840" y="12733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43000" y="11764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87360" y="15397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88960" y="130320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28960" y="130320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85920" y="110808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105360" y="11476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528280" y="1106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67120" y="1127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41840" y="12715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441680" y="110808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349520" y="12715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546440" y="148896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640040" y="135720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73320" y="11764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11520" y="11095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346280" y="13572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475160" y="148896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349880" y="1130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405320" y="14605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694040" y="11779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333680" y="819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10080" y="103500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310080" y="140328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68960" y="1127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03680" y="1322280"/>
              <a:ext cx="161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94440" y="1322280"/>
              <a:ext cx="16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94400" y="11779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846760" y="11779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134040" y="1538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207120" y="819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612960" y="1322280"/>
              <a:ext cx="36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1809720" y="1295280"/>
            <a:ext cx="5276880" cy="533520"/>
            <a:chOff x="1809720" y="1295280"/>
            <a:chExt cx="5276880" cy="533520"/>
          </a:xfrm>
        </p:grpSpPr>
        <p:sp>
          <p:nvSpPr>
            <p:cNvPr id="483" name=""/>
            <p:cNvSpPr/>
            <p:nvPr/>
          </p:nvSpPr>
          <p:spPr>
            <a:xfrm>
              <a:off x="5003640" y="144792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289480" y="131904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30720" y="14479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86400" y="15494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002200" y="15541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665600" y="1389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359320" y="1320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27480" y="155268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673520" y="1701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73520" y="13921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73200" y="137160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25960" y="14479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25960" y="1552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982960" y="1295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90800" y="15159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048120" y="1701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809720" y="1389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06640" y="177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158920" y="1549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32040" y="1515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952640" y="1295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877480" y="133668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31240" y="1373040"/>
              <a:ext cx="104400" cy="1238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6230520" y="1607400"/>
              <a:ext cx="105840" cy="1224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24600" y="156672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553080" y="15350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290280" y="133524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692400" y="131904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556320" y="158760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14440" y="1295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564000" y="153504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1809720" y="3343320"/>
            <a:ext cx="5175360" cy="468720"/>
            <a:chOff x="1809720" y="3343320"/>
            <a:chExt cx="5175360" cy="468720"/>
          </a:xfrm>
        </p:grpSpPr>
        <p:sp>
          <p:nvSpPr>
            <p:cNvPr id="515" name=""/>
            <p:cNvSpPr/>
            <p:nvPr/>
          </p:nvSpPr>
          <p:spPr>
            <a:xfrm>
              <a:off x="4978440" y="350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54760" y="350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54760" y="3578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976640" y="357660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665600" y="341316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435640" y="3456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49840" y="37591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724280" y="3429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28200" y="341316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435640" y="3649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78080" y="357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97360" y="3352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40040" y="357012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82960" y="3722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09720" y="3382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954080" y="37288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158920" y="3551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809720" y="3551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952640" y="3352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877120" y="336060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165000" y="3368160"/>
              <a:ext cx="149040" cy="136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179400" y="3584160"/>
              <a:ext cx="149040" cy="135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540480" y="358128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290280" y="336060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607800" y="33433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43720" y="35402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6824520" y="3371400"/>
              <a:ext cx="154080" cy="129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33880" y="3590280"/>
              <a:ext cx="151200" cy="1332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385720" y="3363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565440" y="360036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1752480" y="4419720"/>
            <a:ext cx="5535720" cy="583920"/>
            <a:chOff x="1752480" y="4419720"/>
            <a:chExt cx="5535720" cy="583920"/>
          </a:xfrm>
        </p:grpSpPr>
        <p:sp>
          <p:nvSpPr>
            <p:cNvPr id="546" name=""/>
            <p:cNvSpPr/>
            <p:nvPr/>
          </p:nvSpPr>
          <p:spPr>
            <a:xfrm>
              <a:off x="4836960" y="462132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46840" y="4621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046840" y="4718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835520" y="4718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546440" y="4495680"/>
              <a:ext cx="2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546440" y="468648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59320" y="4648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58360" y="44863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935600" y="4619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35600" y="47163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25960" y="4648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48120" y="4419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840040" y="4700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073320" y="4826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809720" y="455616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81080" y="49528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158920" y="46720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52480" y="47498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952640" y="4529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902320" y="44956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6172200" y="4722840"/>
              <a:ext cx="201600" cy="1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616800" y="47451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331320" y="450360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28400" y="44956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620040" y="4683240"/>
              <a:ext cx="161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616800" y="47941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385720" y="4510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64000" y="467352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7086600" y="4722840"/>
              <a:ext cx="201600" cy="1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1809720" y="2249640"/>
            <a:ext cx="5429160" cy="569880"/>
            <a:chOff x="1809720" y="2249640"/>
            <a:chExt cx="5429160" cy="569880"/>
          </a:xfrm>
        </p:grpSpPr>
        <p:sp>
          <p:nvSpPr>
            <p:cNvPr id="576" name=""/>
            <p:cNvSpPr/>
            <p:nvPr/>
          </p:nvSpPr>
          <p:spPr>
            <a:xfrm>
              <a:off x="5052960" y="25146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57800" y="2311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83360" y="2743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054760" y="25858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648320" y="23623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435640" y="2540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572000" y="25146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26160" y="2311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12360" y="23623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225960" y="25146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997360" y="2286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40040" y="25369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982960" y="2681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809720" y="237168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952640" y="2743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133720" y="25146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809720" y="2540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952640" y="23432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877120" y="23194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26360" y="224964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26360" y="261792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77240" y="2549520"/>
              <a:ext cx="1616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290280" y="23176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777360" y="230184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629400" y="25369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934320" y="224964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934320" y="261612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210360" y="253692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385720" y="230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564000" y="253836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26160" y="2743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a1a1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"/>
          <p:cNvGrpSpPr/>
          <p:nvPr/>
        </p:nvGrpSpPr>
        <p:grpSpPr>
          <a:xfrm>
            <a:off x="1752480" y="843120"/>
            <a:ext cx="5292360" cy="680760"/>
            <a:chOff x="1752480" y="843120"/>
            <a:chExt cx="5292360" cy="680760"/>
          </a:xfrm>
        </p:grpSpPr>
        <p:sp>
          <p:nvSpPr>
            <p:cNvPr id="608" name=""/>
            <p:cNvSpPr/>
            <p:nvPr/>
          </p:nvSpPr>
          <p:spPr>
            <a:xfrm>
              <a:off x="1809720" y="10368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879640" y="1163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52640" y="1397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158920" y="11685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752480" y="1219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952640" y="1008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334960" y="982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878560" y="984240"/>
              <a:ext cx="38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473720" y="10368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26160" y="1171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616280" y="139716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824360" y="1244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22600" y="120168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16280" y="1008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54960" y="1050840"/>
              <a:ext cx="38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426360" y="843120"/>
              <a:ext cx="0" cy="161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426360" y="1362240"/>
              <a:ext cx="0" cy="161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43720" y="120348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38720" y="120348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255360" y="9907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655320" y="982800"/>
              <a:ext cx="38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492360" y="120348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795320" y="3124080"/>
            <a:ext cx="5217120" cy="584280"/>
            <a:chOff x="1795320" y="3124080"/>
            <a:chExt cx="5217120" cy="584280"/>
          </a:xfrm>
        </p:grpSpPr>
        <p:sp>
          <p:nvSpPr>
            <p:cNvPr id="631" name=""/>
            <p:cNvSpPr/>
            <p:nvPr/>
          </p:nvSpPr>
          <p:spPr>
            <a:xfrm>
              <a:off x="3225960" y="3276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25960" y="3381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033720" y="31240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852640" y="33526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946240" y="347976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56040" y="3479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09720" y="3243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52640" y="36068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082960" y="3429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95320" y="339084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52640" y="32432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876040" y="316872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34120" y="33782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34120" y="3479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902120" y="3384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829040" y="3386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902120" y="350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495680" y="326088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648320" y="36576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826160" y="3505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597560" y="3200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958640" y="326088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6248520" y="3478320"/>
              <a:ext cx="104400" cy="1238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20440" y="3275640"/>
              <a:ext cx="141840" cy="78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516720" y="34257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516720" y="33861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290280" y="32068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631920" y="319104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334960" y="3168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565440" y="342756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1809720" y="4344840"/>
            <a:ext cx="5294880" cy="608040"/>
            <a:chOff x="1809720" y="4344840"/>
            <a:chExt cx="5294880" cy="608040"/>
          </a:xfrm>
        </p:grpSpPr>
        <p:sp>
          <p:nvSpPr>
            <p:cNvPr id="662" name=""/>
            <p:cNvSpPr/>
            <p:nvPr/>
          </p:nvSpPr>
          <p:spPr>
            <a:xfrm>
              <a:off x="3200400" y="458136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200400" y="46544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982960" y="4419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40040" y="4619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82960" y="4776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09720" y="4467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952640" y="4826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158920" y="45975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809720" y="4583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952640" y="44388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877480" y="441468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05520" y="4368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308560" y="4514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876920" y="454644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156280" y="4749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308560" y="4673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545000" y="4467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687920" y="4826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876920" y="4673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30600" y="460836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687920" y="4419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95360" y="441972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426360" y="4344840"/>
              <a:ext cx="0" cy="162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426360" y="4791240"/>
              <a:ext cx="0" cy="161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138720" y="463248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570720" y="463248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6943680" y="4446000"/>
              <a:ext cx="136800" cy="871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290280" y="441324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722640" y="439740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941160" y="4662720"/>
              <a:ext cx="126360" cy="1018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334960" y="44132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64000" y="463392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1795320" y="1982880"/>
            <a:ext cx="5369040" cy="608040"/>
            <a:chOff x="1795320" y="1982880"/>
            <a:chExt cx="5369040" cy="608040"/>
          </a:xfrm>
        </p:grpSpPr>
        <p:sp>
          <p:nvSpPr>
            <p:cNvPr id="695" name=""/>
            <p:cNvSpPr/>
            <p:nvPr/>
          </p:nvSpPr>
          <p:spPr>
            <a:xfrm>
              <a:off x="3200400" y="2220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200400" y="2292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048120" y="2057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840040" y="2270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962440" y="2414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033720" y="2414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809720" y="2104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954080" y="2463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133720" y="22860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95320" y="2286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952640" y="2076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876040" y="205272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065560" y="20574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257800" y="2209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930920" y="2057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79800" y="220968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978440" y="2362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105520" y="2362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549680" y="2104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92600" y="2463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876920" y="2308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495680" y="2286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692600" y="2076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882680" y="205740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426360" y="1982880"/>
              <a:ext cx="0" cy="162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426360" y="2428920"/>
              <a:ext cx="0" cy="162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38720" y="227016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570720" y="22701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02360" y="227016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290280" y="20509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20840" y="203508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334960" y="205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65440" y="227160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5d6b"/>
            </a:gs>
            <a:gs pos="50000">
              <a:srgbClr val="c0cbea"/>
            </a:gs>
            <a:gs pos="100000">
              <a:srgbClr val="585d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8" name=""/>
          <p:cNvGrpSpPr/>
          <p:nvPr/>
        </p:nvGrpSpPr>
        <p:grpSpPr>
          <a:xfrm>
            <a:off x="1295280" y="746280"/>
            <a:ext cx="7696440" cy="5349960"/>
            <a:chOff x="1295280" y="746280"/>
            <a:chExt cx="7696440" cy="5349960"/>
          </a:xfrm>
        </p:grpSpPr>
        <p:sp>
          <p:nvSpPr>
            <p:cNvPr id="729" name=""/>
            <p:cNvSpPr/>
            <p:nvPr/>
          </p:nvSpPr>
          <p:spPr>
            <a:xfrm>
              <a:off x="1971720" y="746280"/>
              <a:ext cx="49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omponentes químicos de las célul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535040" y="1303200"/>
              <a:ext cx="4176720" cy="47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Compon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Georgia"/>
                </a:rPr>
                <a:t>2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Iones inorgánico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Na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+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 K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+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 Cl-, SO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Georgia"/>
                </a:rPr>
                <a:t>4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2-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HCO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Georgia"/>
                </a:rPr>
                <a:t>3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-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 Ca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2+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 , Mg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2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+, et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Moléculas orgánicas pequeña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Carbohidratos, aminoácidos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lípidos, nucleótidos, pépti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Macromolécula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Proteínas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Polisacáridos, ácidos nucleic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332000" y="1143000"/>
              <a:ext cx="7354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5030280" y="1295280"/>
              <a:ext cx="3394800" cy="4362840"/>
              <a:chOff x="5030280" y="1295280"/>
              <a:chExt cx="3394800" cy="4362840"/>
            </a:xfrm>
          </p:grpSpPr>
          <p:sp>
            <p:nvSpPr>
              <p:cNvPr id="733" name=""/>
              <p:cNvSpPr/>
              <p:nvPr/>
            </p:nvSpPr>
            <p:spPr>
              <a:xfrm>
                <a:off x="5030280" y="1295280"/>
                <a:ext cx="3394800" cy="43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Rango de peso molecula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           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23-1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00-12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50.000    1x10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010280" y="5486400"/>
                <a:ext cx="1429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5" name=""/>
            <p:cNvSpPr/>
            <p:nvPr/>
          </p:nvSpPr>
          <p:spPr>
            <a:xfrm>
              <a:off x="1295280" y="1752480"/>
              <a:ext cx="73551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636560" y="6019920"/>
              <a:ext cx="73551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9bb7"/>
            </a:gs>
            <a:gs pos="50000">
              <a:srgbClr val="cfc8d7"/>
            </a:gs>
            <a:gs pos="100000">
              <a:srgbClr val="a89b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1628640" y="260280"/>
            <a:ext cx="604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Función biológica de algunos elementos tra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84920" y="72864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300400" y="728640"/>
            <a:ext cx="391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Ejemplo de función bi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148760" y="1411200"/>
            <a:ext cx="4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135080" y="191772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130760" y="234936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143720" y="278136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135440" y="3213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130040" y="357336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144440" y="4078440"/>
            <a:ext cx="4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193760" y="449424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163160" y="4941720"/>
            <a:ext cx="4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226160" y="537516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127880" y="580716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081160" y="1411200"/>
            <a:ext cx="67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Transportador de electrones en reacciones  óx-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085840" y="1916280"/>
            <a:ext cx="500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mponente de oxidasa mitocond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070000" y="2278080"/>
            <a:ext cx="67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enzimas, por ejemplo argina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079360" y="278136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dehidrogen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081520" y="3213000"/>
            <a:ext cx="42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omponente de la vitamina B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101320" y="3573360"/>
            <a:ext cx="50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omponente de enzima fijadora de N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050920" y="400680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mponente de la enzima glutatión peroxid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067120" y="4941720"/>
            <a:ext cx="39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la enzima ure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088720" y="5375160"/>
            <a:ext cx="48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mponente de la hormona tiroí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076480" y="58071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ofactor en la fotosínt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071080" y="4510080"/>
            <a:ext cx="52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la enzima nitrato reduc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39640" y="1268280"/>
            <a:ext cx="820908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39640" y="692280"/>
            <a:ext cx="820908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11280" y="6237360"/>
            <a:ext cx="820872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c1"/>
            </a:gs>
            <a:gs pos="50000">
              <a:srgbClr val="ccccff"/>
            </a:gs>
            <a:gs pos="100000">
              <a:srgbClr val="9a9a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158760" y="1254240"/>
            <a:ext cx="8985240" cy="4915080"/>
            <a:chOff x="158760" y="1254240"/>
            <a:chExt cx="8985240" cy="4915080"/>
          </a:xfrm>
        </p:grpSpPr>
        <p:sp>
          <p:nvSpPr>
            <p:cNvPr id="766" name=""/>
            <p:cNvSpPr/>
            <p:nvPr/>
          </p:nvSpPr>
          <p:spPr>
            <a:xfrm>
              <a:off x="158760" y="1960560"/>
              <a:ext cx="89852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Agua de mar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    Cuerpo human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orteza terrestre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(%) 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        (%)                                            (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H             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66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H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6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5.5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Si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l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3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C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9.5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Al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7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N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28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N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1.4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Fe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Mg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3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C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31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S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17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P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22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N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062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Cl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0.08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K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K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060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K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6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Mg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014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Los valores se dan como porcentaje del número total de átomos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79280" y="1254240"/>
              <a:ext cx="8713800" cy="642600"/>
            </a:xfrm>
            <a:prstGeom prst="rect">
              <a:avLst/>
            </a:pr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Abundancia de elementos en el agua de mar, en el cuerpo humano y en la corteza terrest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24000" y="5608800"/>
              <a:ext cx="8208720" cy="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24000" y="2657520"/>
              <a:ext cx="8208720" cy="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685880" y="152280"/>
            <a:ext cx="577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ff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Georgia"/>
              </a:rPr>
              <a:t>¿En qué proporción se encuentr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790560"/>
            <a:ext cx="7848720" cy="111780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Cuál es la unidad estructural mas sencilla posible para una definición de lo viv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2362320"/>
            <a:ext cx="6477120" cy="3165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Hombre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Árbol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Automó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Gusano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Compu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Mula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Ro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Mosquito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L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Coral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M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4038480"/>
            <a:ext cx="8153280" cy="86148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Georgia"/>
              </a:rPr>
              <a:t>¡¡¡Los organismos vivos son capaces de albergar una actividad que regenera sus propios componentes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82320" y="228600"/>
            <a:ext cx="4525560" cy="3710520"/>
            <a:chOff x="382320" y="228600"/>
            <a:chExt cx="4525560" cy="3710520"/>
          </a:xfrm>
        </p:grpSpPr>
        <p:sp>
          <p:nvSpPr>
            <p:cNvPr id="46" name=""/>
            <p:cNvSpPr/>
            <p:nvPr/>
          </p:nvSpPr>
          <p:spPr>
            <a:xfrm>
              <a:off x="1316160" y="876240"/>
              <a:ext cx="2879640" cy="2879640"/>
            </a:xfrm>
            <a:prstGeom prst="ellipse">
              <a:avLst/>
            </a:prstGeom>
            <a:solidFill>
              <a:srgbClr val="e1f2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568520" y="1163520"/>
              <a:ext cx="2340000" cy="234000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99040" y="876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62320" y="1452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17960" y="1739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71920" y="137304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46320" y="2028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46320" y="2316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17960" y="2603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62320" y="2819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41600" y="3462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8320" y="31021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93960" y="3252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83040" y="3395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28640" y="123660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22680" y="1092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09960" y="947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8680" y="20210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49960" y="3036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62320" y="3252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67400" y="1668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38680" y="2603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62440" y="2309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94320" y="2819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07040" y="1163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2320" y="9478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4160" y="947880"/>
              <a:ext cx="14436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36880" y="1092240"/>
              <a:ext cx="14436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20880" y="123660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4880" y="1452600"/>
              <a:ext cx="2160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60520" y="1739880"/>
              <a:ext cx="2160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63680" y="2028960"/>
              <a:ext cx="22716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16160" y="2316240"/>
              <a:ext cx="23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1389240" y="2603160"/>
              <a:ext cx="2156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1460520" y="281916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1676520" y="3108240"/>
              <a:ext cx="1936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1882800" y="3252960"/>
              <a:ext cx="14436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2108160" y="339552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468520" y="3468240"/>
              <a:ext cx="7164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900520" y="346824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92640" y="3468600"/>
              <a:ext cx="660240" cy="287280"/>
            </a:xfrm>
            <a:custGeom>
              <a:avLst/>
              <a:gdLst/>
              <a:ahLst/>
              <a:rect l="l" t="t" r="r" b="b"/>
              <a:pathLst>
                <a:path w="371" h="181">
                  <a:moveTo>
                    <a:pt x="53" y="0"/>
                  </a:moveTo>
                  <a:cubicBezTo>
                    <a:pt x="26" y="53"/>
                    <a:pt x="0" y="106"/>
                    <a:pt x="53" y="136"/>
                  </a:cubicBezTo>
                  <a:cubicBezTo>
                    <a:pt x="106" y="166"/>
                    <a:pt x="318" y="174"/>
                    <a:pt x="371" y="181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48160" y="3179880"/>
              <a:ext cx="1443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75240" y="3033720"/>
              <a:ext cx="198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82880" y="2819520"/>
              <a:ext cx="252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65680" y="2603520"/>
              <a:ext cx="2728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08520" y="231624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3868560" y="1955520"/>
              <a:ext cx="2779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789360" y="1596960"/>
              <a:ext cx="216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3548160" y="1295280"/>
              <a:ext cx="2174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48160" y="444600"/>
              <a:ext cx="936360" cy="792000"/>
            </a:xfrm>
            <a:custGeom>
              <a:avLst/>
              <a:gdLst/>
              <a:ahLst/>
              <a:rect l="l" t="t" r="r" b="b"/>
              <a:pathLst>
                <a:path w="590" h="499">
                  <a:moveTo>
                    <a:pt x="46" y="499"/>
                  </a:moveTo>
                  <a:cubicBezTo>
                    <a:pt x="23" y="404"/>
                    <a:pt x="0" y="309"/>
                    <a:pt x="91" y="226"/>
                  </a:cubicBezTo>
                  <a:cubicBezTo>
                    <a:pt x="182" y="143"/>
                    <a:pt x="499" y="38"/>
                    <a:pt x="59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57960" y="2286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22320" y="18111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26320" y="35402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6680" y="1811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52520" y="202896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12880" y="1008000"/>
              <a:ext cx="1272960" cy="876240"/>
            </a:xfrm>
            <a:custGeom>
              <a:avLst/>
              <a:gdLst/>
              <a:ahLst/>
              <a:rect l="l" t="t" r="r" b="b"/>
              <a:pathLst>
                <a:path w="802" h="552">
                  <a:moveTo>
                    <a:pt x="0" y="53"/>
                  </a:moveTo>
                  <a:cubicBezTo>
                    <a:pt x="98" y="26"/>
                    <a:pt x="196" y="0"/>
                    <a:pt x="317" y="53"/>
                  </a:cubicBezTo>
                  <a:cubicBezTo>
                    <a:pt x="438" y="106"/>
                    <a:pt x="650" y="287"/>
                    <a:pt x="726" y="370"/>
                  </a:cubicBezTo>
                  <a:cubicBezTo>
                    <a:pt x="802" y="453"/>
                    <a:pt x="786" y="502"/>
                    <a:pt x="771" y="552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12880" y="1236600"/>
              <a:ext cx="576360" cy="647640"/>
            </a:xfrm>
            <a:custGeom>
              <a:avLst/>
              <a:gdLst/>
              <a:ahLst/>
              <a:rect l="l" t="t" r="r" b="b"/>
              <a:pathLst>
                <a:path w="363" h="408">
                  <a:moveTo>
                    <a:pt x="363" y="408"/>
                  </a:moveTo>
                  <a:cubicBezTo>
                    <a:pt x="302" y="396"/>
                    <a:pt x="242" y="385"/>
                    <a:pt x="181" y="317"/>
                  </a:cubicBezTo>
                  <a:cubicBezTo>
                    <a:pt x="120" y="249"/>
                    <a:pt x="60" y="12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55800" y="995400"/>
              <a:ext cx="649440" cy="168120"/>
            </a:xfrm>
            <a:custGeom>
              <a:avLst/>
              <a:gdLst/>
              <a:ahLst/>
              <a:rect l="l" t="t" r="r" b="b"/>
              <a:pathLst>
                <a:path w="409" h="106">
                  <a:moveTo>
                    <a:pt x="0" y="15"/>
                  </a:moveTo>
                  <a:cubicBezTo>
                    <a:pt x="57" y="7"/>
                    <a:pt x="114" y="0"/>
                    <a:pt x="182" y="15"/>
                  </a:cubicBezTo>
                  <a:cubicBezTo>
                    <a:pt x="250" y="30"/>
                    <a:pt x="371" y="91"/>
                    <a:pt x="409" y="10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609480" y="5181480"/>
            <a:ext cx="8229600" cy="124524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Podemos decir que un sistema físico está vivo si es capaz de transformar la materia/energía externa en un proceso interno de automantención y autogene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50000">
              <a:srgbClr val="0033cc"/>
            </a:gs>
            <a:gs pos="100000">
              <a:srgbClr val="00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380880"/>
            <a:ext cx="7896240" cy="3164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Patrón básico de vida míni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La vida es producto de una organización sistémica emergente, mas que de una determinada estructura o reacción mole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La vida está ligada a la noción de automantención y auto-regeneración de los componentes del sis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La barrera es de vital importancia para discriminar entre el sí mismo y lo externo, dando origen a un microambiente en el que puede ocurrir una determinada red de reaccion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3886200"/>
            <a:ext cx="8205840" cy="23965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Un sistema autopoiético está organizado (esto es, se define como una unidad) como una red de procesos de producción (síntesis y destrucción) de componentes, en forma tal que estos componentes: (I) se regeneran contínuamente e integran la red de transformaciones que las produjo y (II) constituyen al sistema como una unidad distinguible en su dominio de exist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949480" y="222408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Determ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63280" y="231444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10920" y="3357720"/>
            <a:ext cx="1758240" cy="64260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Compon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molec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15080" y="502920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54040" y="4952880"/>
            <a:ext cx="1694160" cy="36828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metabo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47200" y="5002200"/>
            <a:ext cx="17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Gen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86000" y="3359160"/>
            <a:ext cx="1338840" cy="64260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Límite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9000" y="418608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Sali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19760" y="2438280"/>
            <a:ext cx="496800" cy="690840"/>
          </a:xfrm>
          <a:custGeom>
            <a:avLst/>
            <a:gdLst/>
            <a:ahLst/>
            <a:rect l="l" t="t" r="r" b="b"/>
            <a:pathLst>
              <a:path w="313" h="435">
                <a:moveTo>
                  <a:pt x="313" y="3"/>
                </a:moveTo>
                <a:cubicBezTo>
                  <a:pt x="276" y="13"/>
                  <a:pt x="143" y="0"/>
                  <a:pt x="91" y="72"/>
                </a:cubicBezTo>
                <a:cubicBezTo>
                  <a:pt x="39" y="144"/>
                  <a:pt x="15" y="375"/>
                  <a:pt x="0" y="435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12840" y="4162320"/>
            <a:ext cx="1114560" cy="1170000"/>
          </a:xfrm>
          <a:custGeom>
            <a:avLst/>
            <a:gdLst/>
            <a:ahLst/>
            <a:rect l="l" t="t" r="r" b="b"/>
            <a:pathLst>
              <a:path w="702" h="737">
                <a:moveTo>
                  <a:pt x="702" y="710"/>
                </a:moveTo>
                <a:cubicBezTo>
                  <a:pt x="649" y="725"/>
                  <a:pt x="608" y="737"/>
                  <a:pt x="521" y="710"/>
                </a:cubicBezTo>
                <a:cubicBezTo>
                  <a:pt x="434" y="683"/>
                  <a:pt x="264" y="651"/>
                  <a:pt x="182" y="548"/>
                </a:cubicBezTo>
                <a:cubicBezTo>
                  <a:pt x="100" y="445"/>
                  <a:pt x="54" y="180"/>
                  <a:pt x="27" y="90"/>
                </a:cubicBezTo>
                <a:cubicBezTo>
                  <a:pt x="0" y="0"/>
                  <a:pt x="20" y="25"/>
                  <a:pt x="18" y="8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57920" y="4030560"/>
            <a:ext cx="522000" cy="1185840"/>
          </a:xfrm>
          <a:custGeom>
            <a:avLst/>
            <a:gdLst/>
            <a:ahLst/>
            <a:rect l="l" t="t" r="r" b="b"/>
            <a:pathLst>
              <a:path w="329" h="747">
                <a:moveTo>
                  <a:pt x="329" y="0"/>
                </a:moveTo>
                <a:cubicBezTo>
                  <a:pt x="321" y="41"/>
                  <a:pt x="312" y="143"/>
                  <a:pt x="274" y="247"/>
                </a:cubicBezTo>
                <a:cubicBezTo>
                  <a:pt x="236" y="351"/>
                  <a:pt x="146" y="543"/>
                  <a:pt x="100" y="626"/>
                </a:cubicBezTo>
                <a:cubicBezTo>
                  <a:pt x="54" y="709"/>
                  <a:pt x="17" y="727"/>
                  <a:pt x="0" y="747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29320" y="4025880"/>
            <a:ext cx="745920" cy="406440"/>
          </a:xfrm>
          <a:custGeom>
            <a:avLst/>
            <a:gdLst/>
            <a:ahLst/>
            <a:rect l="l" t="t" r="r" b="b"/>
            <a:pathLst>
              <a:path w="470" h="256">
                <a:moveTo>
                  <a:pt x="22" y="0"/>
                </a:moveTo>
                <a:cubicBezTo>
                  <a:pt x="31" y="33"/>
                  <a:pt x="0" y="163"/>
                  <a:pt x="75" y="206"/>
                </a:cubicBezTo>
                <a:cubicBezTo>
                  <a:pt x="150" y="249"/>
                  <a:pt x="388" y="246"/>
                  <a:pt x="470" y="256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92320" y="2133720"/>
            <a:ext cx="3370320" cy="1128600"/>
          </a:xfrm>
          <a:custGeom>
            <a:avLst/>
            <a:gdLst/>
            <a:ahLst/>
            <a:rect l="l" t="t" r="r" b="b"/>
            <a:pathLst>
              <a:path w="2123" h="711">
                <a:moveTo>
                  <a:pt x="14" y="711"/>
                </a:moveTo>
                <a:cubicBezTo>
                  <a:pt x="15" y="683"/>
                  <a:pt x="0" y="615"/>
                  <a:pt x="29" y="543"/>
                </a:cubicBezTo>
                <a:cubicBezTo>
                  <a:pt x="58" y="471"/>
                  <a:pt x="95" y="357"/>
                  <a:pt x="187" y="281"/>
                </a:cubicBezTo>
                <a:cubicBezTo>
                  <a:pt x="279" y="205"/>
                  <a:pt x="449" y="130"/>
                  <a:pt x="580" y="84"/>
                </a:cubicBezTo>
                <a:cubicBezTo>
                  <a:pt x="711" y="38"/>
                  <a:pt x="826" y="14"/>
                  <a:pt x="974" y="7"/>
                </a:cubicBezTo>
                <a:cubicBezTo>
                  <a:pt x="1122" y="0"/>
                  <a:pt x="1313" y="8"/>
                  <a:pt x="1467" y="44"/>
                </a:cubicBezTo>
                <a:cubicBezTo>
                  <a:pt x="1621" y="80"/>
                  <a:pt x="1787" y="115"/>
                  <a:pt x="1896" y="220"/>
                </a:cubicBezTo>
                <a:cubicBezTo>
                  <a:pt x="2005" y="325"/>
                  <a:pt x="2066" y="499"/>
                  <a:pt x="2123" y="673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12920" y="408636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DNA,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93240" y="423072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75080" y="3948120"/>
            <a:ext cx="690480" cy="404640"/>
          </a:xfrm>
          <a:custGeom>
            <a:avLst/>
            <a:gdLst/>
            <a:ahLst/>
            <a:rect l="l" t="t" r="r" b="b"/>
            <a:pathLst>
              <a:path w="435" h="255">
                <a:moveTo>
                  <a:pt x="435" y="121"/>
                </a:moveTo>
                <a:cubicBezTo>
                  <a:pt x="419" y="79"/>
                  <a:pt x="381" y="49"/>
                  <a:pt x="344" y="30"/>
                </a:cubicBezTo>
                <a:cubicBezTo>
                  <a:pt x="307" y="11"/>
                  <a:pt x="256" y="0"/>
                  <a:pt x="211" y="8"/>
                </a:cubicBezTo>
                <a:cubicBezTo>
                  <a:pt x="166" y="16"/>
                  <a:pt x="104" y="50"/>
                  <a:pt x="72" y="76"/>
                </a:cubicBezTo>
                <a:cubicBezTo>
                  <a:pt x="40" y="102"/>
                  <a:pt x="31" y="134"/>
                  <a:pt x="19" y="164"/>
                </a:cubicBezTo>
                <a:cubicBezTo>
                  <a:pt x="7" y="194"/>
                  <a:pt x="4" y="236"/>
                  <a:pt x="0" y="255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43400" y="4494240"/>
            <a:ext cx="290520" cy="434880"/>
          </a:xfrm>
          <a:custGeom>
            <a:avLst/>
            <a:gdLst/>
            <a:ahLst/>
            <a:rect l="l" t="t" r="r" b="b"/>
            <a:pathLst>
              <a:path w="183" h="274">
                <a:moveTo>
                  <a:pt x="3" y="0"/>
                </a:moveTo>
                <a:cubicBezTo>
                  <a:pt x="9" y="26"/>
                  <a:pt x="0" y="111"/>
                  <a:pt x="30" y="156"/>
                </a:cubicBezTo>
                <a:cubicBezTo>
                  <a:pt x="60" y="201"/>
                  <a:pt x="151" y="249"/>
                  <a:pt x="183" y="274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78280" y="4424400"/>
            <a:ext cx="433440" cy="527040"/>
          </a:xfrm>
          <a:custGeom>
            <a:avLst/>
            <a:gdLst/>
            <a:ahLst/>
            <a:rect l="l" t="t" r="r" b="b"/>
            <a:pathLst>
              <a:path w="273" h="332">
                <a:moveTo>
                  <a:pt x="0" y="317"/>
                </a:moveTo>
                <a:cubicBezTo>
                  <a:pt x="26" y="324"/>
                  <a:pt x="53" y="332"/>
                  <a:pt x="91" y="317"/>
                </a:cubicBezTo>
                <a:cubicBezTo>
                  <a:pt x="129" y="302"/>
                  <a:pt x="197" y="280"/>
                  <a:pt x="227" y="227"/>
                </a:cubicBezTo>
                <a:cubicBezTo>
                  <a:pt x="257" y="174"/>
                  <a:pt x="265" y="30"/>
                  <a:pt x="273" y="0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39080" y="928800"/>
            <a:ext cx="1546200" cy="36828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Vida a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26028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Cuáles elementos químicos se encuentran en la materia viv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En qué proporción se encuentr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Qué propiedades de la materia son fundamentales para formar las moléculas de la materia vi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Qué tipo de moléculas hay en la materia vi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Cómo llegaron a constituirl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684360" y="2189160"/>
            <a:ext cx="7775280" cy="3798720"/>
            <a:chOff x="684360" y="2189160"/>
            <a:chExt cx="7775280" cy="3798720"/>
          </a:xfrm>
        </p:grpSpPr>
        <p:sp>
          <p:nvSpPr>
            <p:cNvPr id="128" name=""/>
            <p:cNvSpPr/>
            <p:nvPr/>
          </p:nvSpPr>
          <p:spPr>
            <a:xfrm>
              <a:off x="684360" y="2189160"/>
              <a:ext cx="431640" cy="43200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436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4360" y="305460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4360" y="3486240"/>
              <a:ext cx="431640" cy="43200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436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436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4360" y="478152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16000" y="478152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1600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1600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16000" y="3486240"/>
              <a:ext cx="431640" cy="43200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16000" y="305460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1600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47640" y="4781520"/>
              <a:ext cx="432000" cy="432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47640" y="4349880"/>
              <a:ext cx="432000" cy="431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4764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47640" y="3486240"/>
              <a:ext cx="43200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7672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7672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7672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4328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1128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1128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4328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3280" y="391824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1128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7964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7964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baseline="30000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Z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7964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3272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0072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6908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3564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0364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0364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0364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200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4036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4036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4036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0836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0836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0836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2800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9636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436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02800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2800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59636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96360" y="391824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16436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3272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6436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3272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00720" y="3486240"/>
              <a:ext cx="43200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0072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6908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6908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3564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3564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6908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69080" y="305460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00720" y="2621160"/>
              <a:ext cx="43200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00720" y="305460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32720" y="262116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32720" y="305460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64360" y="2621160"/>
              <a:ext cx="43200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64360" y="3054600"/>
              <a:ext cx="43200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96360" y="305460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9636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28000" y="218916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2800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028000" y="305460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639800">
              <a:off x="2122560" y="5053320"/>
              <a:ext cx="11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ntán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047200">
              <a:off x="1906560" y="5428800"/>
              <a:ext cx="99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ín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1834920" y="4565520"/>
              <a:ext cx="360360" cy="36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1763640" y="4997160"/>
              <a:ext cx="21600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57840" y="351000"/>
            <a:ext cx="838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cc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¿Cuáles elementos químicos se encuentran en la materia viva?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979640" y="105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Át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8000" y="404640"/>
            <a:ext cx="216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Númer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electrones 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pare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(en ro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80000" y="622440"/>
            <a:ext cx="230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Númer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electrones en la capa ext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411280" y="4005360"/>
            <a:ext cx="432000" cy="431640"/>
            <a:chOff x="2411280" y="4005360"/>
            <a:chExt cx="432000" cy="431640"/>
          </a:xfrm>
        </p:grpSpPr>
        <p:sp>
          <p:nvSpPr>
            <p:cNvPr id="212" name=""/>
            <p:cNvSpPr/>
            <p:nvPr/>
          </p:nvSpPr>
          <p:spPr>
            <a:xfrm>
              <a:off x="2438280" y="40338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81200" y="43862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92520" y="41958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11280" y="41958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81200" y="40053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414520" y="2657520"/>
            <a:ext cx="428760" cy="433440"/>
            <a:chOff x="2414520" y="2657520"/>
            <a:chExt cx="428760" cy="433440"/>
          </a:xfrm>
        </p:grpSpPr>
        <p:sp>
          <p:nvSpPr>
            <p:cNvPr id="218" name=""/>
            <p:cNvSpPr/>
            <p:nvPr/>
          </p:nvSpPr>
          <p:spPr>
            <a:xfrm>
              <a:off x="2792520" y="2846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92520" y="29178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27280" y="2657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414520" y="28526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77960" y="30402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49600" y="3040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50520" y="267804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419200" y="3333600"/>
            <a:ext cx="424080" cy="412920"/>
            <a:chOff x="2419200" y="3333600"/>
            <a:chExt cx="424080" cy="412920"/>
          </a:xfrm>
        </p:grpSpPr>
        <p:sp>
          <p:nvSpPr>
            <p:cNvPr id="226" name=""/>
            <p:cNvSpPr/>
            <p:nvPr/>
          </p:nvSpPr>
          <p:spPr>
            <a:xfrm>
              <a:off x="2792520" y="350028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92520" y="35733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27280" y="3357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419200" y="353844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27280" y="3695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57000" y="333360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411280" y="2187720"/>
            <a:ext cx="287640" cy="398880"/>
            <a:chOff x="2411280" y="2187720"/>
            <a:chExt cx="287640" cy="398880"/>
          </a:xfrm>
        </p:grpSpPr>
        <p:sp>
          <p:nvSpPr>
            <p:cNvPr id="233" name=""/>
            <p:cNvSpPr/>
            <p:nvPr/>
          </p:nvSpPr>
          <p:spPr>
            <a:xfrm>
              <a:off x="2411280" y="2187720"/>
              <a:ext cx="2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11280" y="234936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421000" y="4651200"/>
            <a:ext cx="422280" cy="433440"/>
            <a:chOff x="2421000" y="4651200"/>
            <a:chExt cx="422280" cy="433440"/>
          </a:xfrm>
        </p:grpSpPr>
        <p:sp>
          <p:nvSpPr>
            <p:cNvPr id="236" name=""/>
            <p:cNvSpPr/>
            <p:nvPr/>
          </p:nvSpPr>
          <p:spPr>
            <a:xfrm>
              <a:off x="2792520" y="4840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92520" y="4911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27280" y="465120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21000" y="4889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43040" y="50338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14680" y="50338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60600" y="467208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421000" y="5353200"/>
            <a:ext cx="383040" cy="412560"/>
            <a:chOff x="2421000" y="5353200"/>
            <a:chExt cx="383040" cy="412560"/>
          </a:xfrm>
        </p:grpSpPr>
        <p:sp>
          <p:nvSpPr>
            <p:cNvPr id="244" name=""/>
            <p:cNvSpPr/>
            <p:nvPr/>
          </p:nvSpPr>
          <p:spPr>
            <a:xfrm>
              <a:off x="2720880" y="55198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20880" y="5592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63920" y="53769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21000" y="555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63920" y="57150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60240" y="535320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675960" y="2116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97960" y="2116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69324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04440" y="2692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93240" y="335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04440" y="335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697920" y="3978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06240" y="3978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94680" y="4687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04440" y="4687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694680" y="5362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04440" y="5362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7640" y="1844640"/>
            <a:ext cx="6264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20720" y="6021360"/>
            <a:ext cx="6264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1863360" y="1111320"/>
            <a:ext cx="4839840" cy="3767040"/>
            <a:chOff x="1863360" y="1111320"/>
            <a:chExt cx="4839840" cy="3767040"/>
          </a:xfrm>
        </p:grpSpPr>
        <p:grpSp>
          <p:nvGrpSpPr>
            <p:cNvPr id="265" name=""/>
            <p:cNvGrpSpPr/>
            <p:nvPr/>
          </p:nvGrpSpPr>
          <p:grpSpPr>
            <a:xfrm>
              <a:off x="1863360" y="2386080"/>
              <a:ext cx="4687200" cy="815760"/>
              <a:chOff x="1863360" y="2386080"/>
              <a:chExt cx="4687200" cy="815760"/>
            </a:xfrm>
          </p:grpSpPr>
          <p:sp>
            <p:nvSpPr>
              <p:cNvPr id="266" name=""/>
              <p:cNvSpPr/>
              <p:nvPr/>
            </p:nvSpPr>
            <p:spPr>
              <a:xfrm>
                <a:off x="3473280" y="254808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473280" y="261936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330360" y="239724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128760" y="259704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250800" y="2741760"/>
                <a:ext cx="5076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914800" y="2755800"/>
                <a:ext cx="0" cy="162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059160" y="2597040"/>
                <a:ext cx="161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322440" y="274176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098440" y="2446200"/>
                <a:ext cx="28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387520" y="260496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160080" y="240336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535280" y="239724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605120" y="259884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422600" y="239724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352760" y="252576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19360" y="267012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509720" y="267012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28760" y="2432160"/>
                <a:ext cx="28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349520" y="262404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331520" y="23860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772960" y="24019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05320" y="2386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604240" y="240192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17840" y="26780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57840" y="28335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605120" y="252576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863360" y="2448000"/>
                <a:ext cx="43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2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668400" y="2612880"/>
                <a:ext cx="360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908000" y="3797280"/>
              <a:ext cx="4795200" cy="1081080"/>
              <a:chOff x="1908000" y="3797280"/>
              <a:chExt cx="4795200" cy="1081080"/>
            </a:xfrm>
          </p:grpSpPr>
          <p:sp>
            <p:nvSpPr>
              <p:cNvPr id="295" name=""/>
              <p:cNvSpPr/>
              <p:nvPr/>
            </p:nvSpPr>
            <p:spPr>
              <a:xfrm>
                <a:off x="5938560" y="4372200"/>
                <a:ext cx="162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6311520" y="4185720"/>
                <a:ext cx="136800" cy="8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273040" y="4321440"/>
                <a:ext cx="5112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73040" y="4394160"/>
                <a:ext cx="51120" cy="51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050920" y="417852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908000" y="4359240"/>
                <a:ext cx="5076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050920" y="451656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940040" y="41785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576680" y="4300560"/>
                <a:ext cx="5076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33760" y="4157640"/>
                <a:ext cx="5076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303440" y="4300560"/>
                <a:ext cx="5112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448160" y="444528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575240" y="4373640"/>
                <a:ext cx="5076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979800" y="420696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360680" y="444672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300560" y="437220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360680" y="4157640"/>
                <a:ext cx="5076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284720" y="4160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653080" y="41767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085080" y="4160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309000" y="4402800"/>
                <a:ext cx="126000" cy="102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483640" y="417672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270680" y="37972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70680" y="4510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079800" y="420696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425760" y="431964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829240" y="42228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357960" y="4322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6160" y="4015080"/>
                <a:ext cx="31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547800" y="4373640"/>
                <a:ext cx="36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2081160" y="1149480"/>
              <a:ext cx="301320" cy="368280"/>
              <a:chOff x="2081160" y="1149480"/>
              <a:chExt cx="301320" cy="368280"/>
            </a:xfrm>
          </p:grpSpPr>
          <p:sp>
            <p:nvSpPr>
              <p:cNvPr id="326" name=""/>
              <p:cNvSpPr/>
              <p:nvPr/>
            </p:nvSpPr>
            <p:spPr>
              <a:xfrm>
                <a:off x="2095200" y="114948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081160" y="1315800"/>
                <a:ext cx="50760" cy="50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2601360" y="11494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3152880" y="1149480"/>
              <a:ext cx="345240" cy="368280"/>
              <a:chOff x="3152880" y="1149480"/>
              <a:chExt cx="345240" cy="368280"/>
            </a:xfrm>
          </p:grpSpPr>
          <p:sp>
            <p:nvSpPr>
              <p:cNvPr id="330" name=""/>
              <p:cNvSpPr/>
              <p:nvPr/>
            </p:nvSpPr>
            <p:spPr>
              <a:xfrm>
                <a:off x="3162240" y="130500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52880" y="11494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4111560" y="11415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02080" y="12556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00640" y="1328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02440" y="1157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024600" y="13082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750280" y="1111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29720" y="1111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65520" y="130824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9:38:54Z</dcterms:created>
  <dc:creator>INTA</dc:creator>
  <dc:description/>
  <dc:language>en-US</dc:language>
  <cp:lastModifiedBy>INTA</cp:lastModifiedBy>
  <dcterms:modified xsi:type="dcterms:W3CDTF">2007-07-23T19:23:30Z</dcterms:modified>
  <cp:revision>41</cp:revision>
  <dc:subject/>
  <dc:title>Diapositiva 1</dc:title>
</cp:coreProperties>
</file>