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8B0-D100-4D66-A762-FD5E9B67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860-1B95-439A-BBA3-CC08EFFA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1EF-E0D8-4A63-AE0F-1DDAAE33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C6F-FF64-4970-A40D-5D0BC385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36A-B2FB-4360-995B-C9500C4C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48D-0C76-459E-990A-4F896C36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850-213B-4D0F-93BD-DEB8CC00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499-8167-433C-9D81-E9437108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873-BFD2-494E-86AF-7308B211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FA9-BE9E-4949-B04A-726F4EB5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08F-6FCF-4682-B6A4-23FF0565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1B1-F182-426B-997A-A255606E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BDC0-256B-47F8-BB58-401C6BE54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61636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480" y="292428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Fun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dadac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50960" y="698400"/>
          <a:ext cx="764388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698400"/>
                    <a:ext cx="764388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c9c9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2b6"/>
            </a:gs>
            <a:gs pos="50000">
              <a:srgbClr val="dfd9de"/>
            </a:gs>
            <a:gs pos="100000">
              <a:srgbClr val="b6b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532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54360" y="404640"/>
            <a:ext cx="390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446040"/>
          <a:ext cx="835344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35344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100000">
              <a:srgbClr val="edea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5976720" cy="338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367200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25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0c4"/>
            </a:gs>
            <a:gs pos="50000">
              <a:srgbClr val="dfd9de"/>
            </a:gs>
            <a:gs pos="100000">
              <a:srgbClr val="c5c0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ee2"/>
            </a:gs>
            <a:gs pos="50000">
              <a:srgbClr val="eddbc1"/>
            </a:gs>
            <a:gs pos="100000">
              <a:srgbClr val="f6eee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2471760" y="71280"/>
            <a:ext cx="42004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50000">
              <a:srgbClr val="a29da1"/>
            </a:gs>
            <a:gs pos="100000">
              <a:srgbClr val="dfd9d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18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11760" y="3807000"/>
            <a:ext cx="440532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7040" y="1844640"/>
            <a:ext cx="3252960" cy="411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S BIOMOLÉCULAS TIENEN TAMAÑO Y ESTRUCTURA TRIDIMENSIONAL QUE RESULTA DE SU ESQUELETO Y GRUP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85080" cy="345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4120" y="655560"/>
            <a:ext cx="76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  MAYORÍA DE LAS BIOMOLÉCULAS SON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4680000" cy="331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4535280" cy="2016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335240"/>
            <a:ext cx="39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igur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una molécula orgánica que depende de la presenci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1- enlaces d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2-centros qui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96908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8000" y="4797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orm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grupos sustituyentes que estan libres para asumir diferente posición en el espacio, debido a la rotación libre de en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50920" y="206280"/>
            <a:ext cx="8713800" cy="6319440"/>
            <a:chOff x="250920" y="206280"/>
            <a:chExt cx="8713800" cy="6319440"/>
          </a:xfrm>
        </p:grpSpPr>
        <p:sp>
          <p:nvSpPr>
            <p:cNvPr id="56" name=""/>
            <p:cNvSpPr/>
            <p:nvPr/>
          </p:nvSpPr>
          <p:spPr>
            <a:xfrm>
              <a:off x="781560" y="206280"/>
              <a:ext cx="75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ENERGÍA DE DISOCIACIÓN DE ENLACES COMUNES EN BIOMOLÉCU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4600" y="615960"/>
              <a:ext cx="1924200" cy="54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5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0" y="4718160"/>
              <a:ext cx="2376360" cy="18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o coval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hidr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Van der Wa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idrof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ó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5280" y="126828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5280" y="652464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00720" y="555480"/>
              <a:ext cx="238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03960" y="3429000"/>
              <a:ext cx="5648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8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9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8320" y="54388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4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028880" y="692280"/>
              <a:ext cx="1133280" cy="5468040"/>
              <a:chOff x="1028880" y="692280"/>
              <a:chExt cx="1133280" cy="5468040"/>
            </a:xfrm>
          </p:grpSpPr>
          <p:sp>
            <p:nvSpPr>
              <p:cNvPr id="66" name=""/>
              <p:cNvSpPr/>
              <p:nvPr/>
            </p:nvSpPr>
            <p:spPr>
              <a:xfrm>
                <a:off x="1028880" y="692280"/>
                <a:ext cx="1133280" cy="54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Sim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O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H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5760" y="206064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5760" y="242100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84120" y="2781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84120" y="314172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5760" y="350028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84120" y="3789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84120" y="4221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84120" y="450864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84120" y="4869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5760" y="522936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5760" y="558972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120" y="595008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108760" y="692280"/>
              <a:ext cx="1133280" cy="2616840"/>
              <a:chOff x="5108760" y="692280"/>
              <a:chExt cx="1133280" cy="2616840"/>
            </a:xfrm>
          </p:grpSpPr>
          <p:sp>
            <p:nvSpPr>
              <p:cNvPr id="80" name=""/>
              <p:cNvSpPr/>
              <p:nvPr/>
            </p:nvSpPr>
            <p:spPr>
              <a:xfrm>
                <a:off x="5108760" y="692280"/>
                <a:ext cx="1133280" cy="26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Dob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5327640" y="1989000"/>
                <a:ext cx="252360" cy="1150920"/>
                <a:chOff x="5327640" y="1989000"/>
                <a:chExt cx="252360" cy="115092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5327640" y="2349360"/>
                  <a:ext cx="252360" cy="71640"/>
                  <a:chOff x="5327640" y="2349360"/>
                  <a:chExt cx="252360" cy="7164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5327640" y="2421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27640" y="23493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5327640" y="2708280"/>
                  <a:ext cx="252360" cy="71280"/>
                  <a:chOff x="5327640" y="2708280"/>
                  <a:chExt cx="252360" cy="7128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5327640" y="27795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327640" y="270828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5327640" y="3068640"/>
                  <a:ext cx="252360" cy="71280"/>
                  <a:chOff x="5327640" y="3068640"/>
                  <a:chExt cx="252360" cy="712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5327640" y="313992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327640" y="3068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5327640" y="1989000"/>
                  <a:ext cx="252360" cy="71640"/>
                  <a:chOff x="5327640" y="1989000"/>
                  <a:chExt cx="252360" cy="7164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5327640" y="2060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327640" y="1989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" name=""/>
            <p:cNvGrpSpPr/>
            <p:nvPr/>
          </p:nvGrpSpPr>
          <p:grpSpPr>
            <a:xfrm>
              <a:off x="5157360" y="3500280"/>
              <a:ext cx="1000800" cy="1081080"/>
              <a:chOff x="5157360" y="3500280"/>
              <a:chExt cx="1000800" cy="1081080"/>
            </a:xfrm>
          </p:grpSpPr>
          <p:sp>
            <p:nvSpPr>
              <p:cNvPr id="95" name=""/>
              <p:cNvSpPr/>
              <p:nvPr/>
            </p:nvSpPr>
            <p:spPr>
              <a:xfrm>
                <a:off x="5157360" y="3500280"/>
                <a:ext cx="100080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Tri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5472000" y="4292640"/>
                <a:ext cx="252360" cy="142920"/>
                <a:chOff x="5472000" y="4292640"/>
                <a:chExt cx="252360" cy="1429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472000" y="443556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72000" y="43639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72000" y="4292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435640" y="3933720"/>
                <a:ext cx="252360" cy="142920"/>
                <a:chOff x="5435640" y="3933720"/>
                <a:chExt cx="252360" cy="1429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435640" y="4076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35640" y="400500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35640" y="39337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6588000" y="4941720"/>
              <a:ext cx="360360" cy="1440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1280" y="1844640"/>
              <a:ext cx="792360" cy="14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5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0200" y="189000"/>
            <a:ext cx="83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s de Van der Waals y covalente (enlace simple), radio de algunos elemento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760" y="10224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817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de van der Waals     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817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Covalente para enlace simple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54080" y="1379520"/>
            <a:ext cx="2764440" cy="4210200"/>
            <a:chOff x="1054080" y="1379520"/>
            <a:chExt cx="2764440" cy="4210200"/>
          </a:xfrm>
        </p:grpSpPr>
        <p:sp>
          <p:nvSpPr>
            <p:cNvPr id="111" name=""/>
            <p:cNvSpPr/>
            <p:nvPr/>
          </p:nvSpPr>
          <p:spPr>
            <a:xfrm>
              <a:off x="1054080" y="1380960"/>
              <a:ext cx="4536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6720" y="1379520"/>
              <a:ext cx="6318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29600" y="1379520"/>
            <a:ext cx="759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1756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48428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66100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72292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El radio de van der Waals para cada elemento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± dos veces el radio covalente.  La distancia entre núcleos en una interacción de van der Waals o un enlace covalente es ±  igual a la suma de los valores para los dos átomos. Así, la longitud de un enlace simple C-C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± 0.077 + 0.077 = 0.154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8:54:16Z</dcterms:created>
  <dc:creator>INTA</dc:creator>
  <dc:description/>
  <dc:language>en-US</dc:language>
  <cp:lastModifiedBy>INTA</cp:lastModifiedBy>
  <dcterms:modified xsi:type="dcterms:W3CDTF">2007-07-25T17:33:45Z</dcterms:modified>
  <cp:revision>24</cp:revision>
  <dc:subject/>
  <dc:title>Diapositiva 1</dc:title>
</cp:coreProperties>
</file>