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6A6-F66A-4B4A-AD34-A962D5DA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833-527E-44C6-A80D-232C96C4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459-A687-49B5-9AED-F455E242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33A-8E88-41F5-B51C-099A8029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415-CC0A-410D-9D39-0B12C9ED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C9C-5138-4CF9-972A-C8EA5606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727F-8695-4264-8FF5-1777D9EA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4E4C-222E-46E6-9F26-CF96D3D3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2677-0761-4F80-AF6C-9F69074F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7C04-4AC3-428C-B7F5-7DA08963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8C5-5A7E-4AEE-A5C3-EA210102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481-F5E4-413F-B4DE-5E80DD82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3F51-6B29-4120-A262-9DCFEF750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09560" y="1257480"/>
            <a:ext cx="7748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1526040" y="3902040"/>
            <a:ext cx="5301360" cy="1585800"/>
            <a:chOff x="1526040" y="3902040"/>
            <a:chExt cx="5301360" cy="1585800"/>
          </a:xfrm>
        </p:grpSpPr>
        <p:sp>
          <p:nvSpPr>
            <p:cNvPr id="341" name=""/>
            <p:cNvSpPr/>
            <p:nvPr/>
          </p:nvSpPr>
          <p:spPr>
            <a:xfrm>
              <a:off x="6589440" y="4694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652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652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28760" y="4694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4920" y="4713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36680" y="4506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8104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25400" y="46209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30200" y="4620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79600" y="4476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209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51040" y="4600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385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3852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4960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93960" y="44780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45040" y="4427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8288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5596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543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8140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48600" y="4460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48160" y="46717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4504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15480" y="4481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972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08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6852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33760" y="46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38680" y="448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021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00320" y="467172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60680" y="462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60680" y="47145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62320" y="4482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92520" y="4765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93960" y="4189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81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18120" y="4425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82880" y="479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55960" y="4794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02120" y="491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00320" y="49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36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82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11600" y="4938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11600" y="500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765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6088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2576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6088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94320" y="3902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43760" y="4470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5596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8288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92880" y="5119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26040" y="44827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7600" y="46432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02680" y="4482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83240" y="477972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83240" y="43336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03600" y="40496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4520" y="49147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28880" y="46940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008080" y="2717640"/>
            <a:ext cx="4848120" cy="482400"/>
            <a:chOff x="2008080" y="2717640"/>
            <a:chExt cx="4848120" cy="482400"/>
          </a:xfrm>
        </p:grpSpPr>
        <p:sp>
          <p:nvSpPr>
            <p:cNvPr id="406" name=""/>
            <p:cNvSpPr/>
            <p:nvPr/>
          </p:nvSpPr>
          <p:spPr>
            <a:xfrm>
              <a:off x="338292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79520" y="276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95280" y="291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1320" y="3060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00440" y="2977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0808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0024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03280" y="2933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14200" y="2893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38040" y="2773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69720" y="2771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86040" y="2893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2256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82760" y="307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8784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1316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27176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09680" y="307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09680" y="27176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30400" y="2768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27320" y="2769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62480" y="2754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62400" y="29653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64640" y="2754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97280" y="2773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5124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640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2568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27480" y="296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08440" y="2877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08440" y="2984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876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00200" y="2966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66760" y="2755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9564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7512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4820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81120" y="2895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4000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87840" y="2755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5892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12760" y="2995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78040" y="29127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028960" y="819000"/>
            <a:ext cx="4752360" cy="1087560"/>
            <a:chOff x="2028960" y="819000"/>
            <a:chExt cx="4752360" cy="1087560"/>
          </a:xfrm>
        </p:grpSpPr>
        <p:sp>
          <p:nvSpPr>
            <p:cNvPr id="450" name=""/>
            <p:cNvSpPr/>
            <p:nvPr/>
          </p:nvSpPr>
          <p:spPr>
            <a:xfrm>
              <a:off x="3417840" y="12733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4300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87360" y="15397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2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592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05360" y="1147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28280" y="1106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67120" y="1127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4184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4168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952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4644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40040" y="1357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7332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11520" y="1109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46280" y="13572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7516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49880" y="1130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05320" y="14605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9404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3368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10080" y="103500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10080" y="14032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8960" y="112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03680" y="132228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4440" y="1322280"/>
              <a:ext cx="16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9440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4676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4040" y="153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0712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12960" y="1322280"/>
              <a:ext cx="36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1809720" y="1295280"/>
            <a:ext cx="5276880" cy="533520"/>
            <a:chOff x="1809720" y="1295280"/>
            <a:chExt cx="5276880" cy="533520"/>
          </a:xfrm>
        </p:grpSpPr>
        <p:sp>
          <p:nvSpPr>
            <p:cNvPr id="483" name=""/>
            <p:cNvSpPr/>
            <p:nvPr/>
          </p:nvSpPr>
          <p:spPr>
            <a:xfrm>
              <a:off x="5003640" y="14479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89480" y="13190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30720" y="1447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86400" y="1549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02200" y="155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6560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59320" y="13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27480" y="1552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73520" y="1701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73520" y="1392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73200" y="1371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25960" y="14479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25960" y="15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8296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90800" y="1515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048120" y="170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0972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06640" y="17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58920" y="1549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32040" y="1515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5264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77480" y="1336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31240" y="137304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230520" y="1607400"/>
              <a:ext cx="105840" cy="122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24600" y="15667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53080" y="1535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90280" y="1335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92400" y="131904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56320" y="1587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14440" y="1295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64000" y="153504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809720" y="3343320"/>
            <a:ext cx="5175360" cy="468720"/>
            <a:chOff x="1809720" y="3343320"/>
            <a:chExt cx="5175360" cy="468720"/>
          </a:xfrm>
        </p:grpSpPr>
        <p:sp>
          <p:nvSpPr>
            <p:cNvPr id="515" name=""/>
            <p:cNvSpPr/>
            <p:nvPr/>
          </p:nvSpPr>
          <p:spPr>
            <a:xfrm>
              <a:off x="497844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5476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4760" y="3578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76640" y="357660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65600" y="3413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35640" y="345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49840" y="3759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2428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28200" y="341316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35640" y="364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78080" y="357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9736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0040" y="35701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82960" y="37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09720" y="3382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54080" y="3728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58920" y="3551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09720" y="355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5264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7712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65000" y="3368160"/>
              <a:ext cx="149040" cy="136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179400" y="3584160"/>
              <a:ext cx="149040" cy="135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40480" y="35812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9028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07800" y="3343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43720" y="3540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824520" y="3371400"/>
              <a:ext cx="154080" cy="129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33880" y="3590280"/>
              <a:ext cx="151200" cy="133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85720" y="3363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65440" y="36003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752480" y="4419720"/>
            <a:ext cx="5535720" cy="583920"/>
            <a:chOff x="1752480" y="4419720"/>
            <a:chExt cx="5535720" cy="583920"/>
          </a:xfrm>
        </p:grpSpPr>
        <p:sp>
          <p:nvSpPr>
            <p:cNvPr id="546" name=""/>
            <p:cNvSpPr/>
            <p:nvPr/>
          </p:nvSpPr>
          <p:spPr>
            <a:xfrm>
              <a:off x="4836960" y="46213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46840" y="4621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4684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3552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46440" y="449568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46440" y="46864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59320" y="464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58360" y="4486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35600" y="461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35600" y="4716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5960" y="464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81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40040" y="4700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73320" y="482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09720" y="4556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81080" y="49528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58920" y="4672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52480" y="4749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52640" y="4529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0232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61722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16800" y="4745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31320" y="4503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840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20040" y="468324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16800" y="4794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85720" y="4510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64000" y="46735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0866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809720" y="2249640"/>
            <a:ext cx="5429160" cy="569880"/>
            <a:chOff x="1809720" y="2249640"/>
            <a:chExt cx="5429160" cy="569880"/>
          </a:xfrm>
        </p:grpSpPr>
        <p:sp>
          <p:nvSpPr>
            <p:cNvPr id="576" name=""/>
            <p:cNvSpPr/>
            <p:nvPr/>
          </p:nvSpPr>
          <p:spPr>
            <a:xfrm>
              <a:off x="505296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780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833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54760" y="2585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48320" y="23623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3564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57200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2616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12360" y="2362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2596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9736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40040" y="2536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82960" y="2681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09720" y="23716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5264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3372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972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52640" y="23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77120" y="23194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2636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26360" y="26179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77240" y="2549520"/>
              <a:ext cx="161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90280" y="2317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77360" y="23018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629400" y="2536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3432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4320" y="26161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10360" y="25369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5720" y="230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64000" y="253836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261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a1a1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1752480" y="843120"/>
            <a:ext cx="5292360" cy="680760"/>
            <a:chOff x="1752480" y="843120"/>
            <a:chExt cx="5292360" cy="680760"/>
          </a:xfrm>
        </p:grpSpPr>
        <p:sp>
          <p:nvSpPr>
            <p:cNvPr id="608" name=""/>
            <p:cNvSpPr/>
            <p:nvPr/>
          </p:nvSpPr>
          <p:spPr>
            <a:xfrm>
              <a:off x="1809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79640" y="116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2640" y="1397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58920" y="1168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52480" y="1219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52640" y="100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334960" y="982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78560" y="9842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73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26160" y="1171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16280" y="13971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24360" y="1244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22600" y="12016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16280" y="100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54960" y="10508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26360" y="84312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26360" y="1362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43720" y="1203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38720" y="1203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55360" y="9907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55320" y="98280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92360" y="120348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95320" y="3124080"/>
            <a:ext cx="5217120" cy="584280"/>
            <a:chOff x="1795320" y="3124080"/>
            <a:chExt cx="5217120" cy="584280"/>
          </a:xfrm>
        </p:grpSpPr>
        <p:sp>
          <p:nvSpPr>
            <p:cNvPr id="631" name=""/>
            <p:cNvSpPr/>
            <p:nvPr/>
          </p:nvSpPr>
          <p:spPr>
            <a:xfrm>
              <a:off x="3225960" y="3276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25960" y="3381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33720" y="3124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52640" y="3352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46240" y="34797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5604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09720" y="3243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52640" y="3606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8296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95320" y="33908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52640" y="32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876040" y="3168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34120" y="3378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3412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02120" y="3384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29040" y="338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0212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95680" y="32608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48320" y="3657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26160" y="3505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97560" y="3200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58640" y="32608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6248520" y="347832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20440" y="3275640"/>
              <a:ext cx="141840" cy="78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16720" y="34257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516720" y="3386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90280" y="32068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1920" y="3191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34960" y="3168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65440" y="34275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809720" y="4344840"/>
            <a:ext cx="5294880" cy="608040"/>
            <a:chOff x="1809720" y="4344840"/>
            <a:chExt cx="5294880" cy="608040"/>
          </a:xfrm>
        </p:grpSpPr>
        <p:sp>
          <p:nvSpPr>
            <p:cNvPr id="662" name=""/>
            <p:cNvSpPr/>
            <p:nvPr/>
          </p:nvSpPr>
          <p:spPr>
            <a:xfrm>
              <a:off x="3200400" y="4581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00400" y="4654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8296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40040" y="4619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82960" y="4776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0972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5264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58920" y="4597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09720" y="4583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52640" y="4438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77480" y="4414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05520" y="4368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08560" y="4514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76920" y="45464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56280" y="474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08560" y="4673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4500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8792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76920" y="467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30600" y="4608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879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95360" y="441972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26360" y="434484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26360" y="4791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38720" y="4632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70720" y="4632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6943680" y="4446000"/>
              <a:ext cx="136800" cy="87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290280" y="4413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722640" y="43974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41160" y="4662720"/>
              <a:ext cx="126360" cy="1018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34960" y="4413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64000" y="46339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795320" y="1982880"/>
            <a:ext cx="5369040" cy="608040"/>
            <a:chOff x="1795320" y="1982880"/>
            <a:chExt cx="5369040" cy="608040"/>
          </a:xfrm>
        </p:grpSpPr>
        <p:sp>
          <p:nvSpPr>
            <p:cNvPr id="695" name=""/>
            <p:cNvSpPr/>
            <p:nvPr/>
          </p:nvSpPr>
          <p:spPr>
            <a:xfrm>
              <a:off x="3200400" y="22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00400" y="2292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481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40040" y="2270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6244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3372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0972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5408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33720" y="2286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95320" y="22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5264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76040" y="2052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65560" y="20574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257800" y="220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309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79800" y="2209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7844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0552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4968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9260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6920" y="230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9568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9260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82680" y="205740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426360" y="198288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26360" y="242892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3872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70720" y="2270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0236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90280" y="20509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0840" y="20350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34960" y="205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65440" y="227160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d6b"/>
            </a:gs>
            <a:gs pos="50000">
              <a:srgbClr val="c0cbea"/>
            </a:gs>
            <a:gs pos="100000">
              <a:srgbClr val="585d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"/>
          <p:cNvGrpSpPr/>
          <p:nvPr/>
        </p:nvGrpSpPr>
        <p:grpSpPr>
          <a:xfrm>
            <a:off x="1295280" y="746280"/>
            <a:ext cx="7696440" cy="5349960"/>
            <a:chOff x="1295280" y="746280"/>
            <a:chExt cx="7696440" cy="5349960"/>
          </a:xfrm>
        </p:grpSpPr>
        <p:sp>
          <p:nvSpPr>
            <p:cNvPr id="729" name=""/>
            <p:cNvSpPr/>
            <p:nvPr/>
          </p:nvSpPr>
          <p:spPr>
            <a:xfrm>
              <a:off x="1971720" y="746280"/>
              <a:ext cx="49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omponentes químicos de las célul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35040" y="1303200"/>
              <a:ext cx="4176720" cy="47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ompon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Iones inorgánico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K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l-, S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4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C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3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 , Mg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+, et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oléculas orgánicas pequeñ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arbohidratos, aminoácido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lípidos, nucleótidos, pépt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acromolécul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roteína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olisacáridos, ácidos nucle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32000" y="1143000"/>
              <a:ext cx="7354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5030280" y="1295280"/>
              <a:ext cx="3394800" cy="4362840"/>
              <a:chOff x="5030280" y="1295280"/>
              <a:chExt cx="3394800" cy="4362840"/>
            </a:xfrm>
          </p:grpSpPr>
          <p:sp>
            <p:nvSpPr>
              <p:cNvPr id="733" name=""/>
              <p:cNvSpPr/>
              <p:nvPr/>
            </p:nvSpPr>
            <p:spPr>
              <a:xfrm>
                <a:off x="5030280" y="1295280"/>
                <a:ext cx="3394800" cy="43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Rango de peso molecula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           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23-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00-12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50.000    1x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010280" y="5486400"/>
                <a:ext cx="142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295280" y="175248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36560" y="601992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9bb7"/>
            </a:gs>
            <a:gs pos="50000">
              <a:srgbClr val="cfc8d7"/>
            </a:gs>
            <a:gs pos="100000">
              <a:srgbClr val="a89b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628640" y="260280"/>
            <a:ext cx="60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unción biológica de algunos elementos tr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4920" y="72864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00400" y="728640"/>
            <a:ext cx="39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jemplo de función bi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148760" y="1411200"/>
            <a:ext cx="4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135080" y="19177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130760" y="23493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143720" y="27813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135440" y="3213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130040" y="35733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144440" y="40784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93760" y="44942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63160" y="49417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26160" y="537516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27880" y="58071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081160" y="1411200"/>
            <a:ext cx="67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Transportador de electrones en reacciones  óx-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085840" y="1916280"/>
            <a:ext cx="50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oxidasa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070000" y="2278080"/>
            <a:ext cx="67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enzimas, por ejemplo argin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079360" y="2781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dehidrogen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81520" y="3213000"/>
            <a:ext cx="42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la vitamina B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01320" y="3573360"/>
            <a:ext cx="50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enzima fijadora de 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050920" y="40068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enzima glutatión per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067120" y="494172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ure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88720" y="537516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hormona tiroí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76480" y="58071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factor en la foto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071080" y="4510080"/>
            <a:ext cx="52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nitrato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692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11280" y="6237360"/>
            <a:ext cx="8208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c1"/>
            </a:gs>
            <a:gs pos="50000">
              <a:srgbClr val="ccccff"/>
            </a:gs>
            <a:gs pos="100000">
              <a:srgbClr val="9a9a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158760" y="1254240"/>
            <a:ext cx="8985240" cy="4915080"/>
            <a:chOff x="158760" y="1254240"/>
            <a:chExt cx="8985240" cy="4915080"/>
          </a:xfrm>
        </p:grpSpPr>
        <p:sp>
          <p:nvSpPr>
            <p:cNvPr id="766" name=""/>
            <p:cNvSpPr/>
            <p:nvPr/>
          </p:nvSpPr>
          <p:spPr>
            <a:xfrm>
              <a:off x="158760" y="1960560"/>
              <a:ext cx="89852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gua de mar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Cuerpo human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orteza terrestr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(%)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    (%)                                            (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            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H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5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i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9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7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N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1.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F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1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17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P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0.0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0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1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Los valores se dan como porcentaje del número total de átomo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9280" y="1254240"/>
              <a:ext cx="8713800" cy="64260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Abundancia de elementos en el agua de mar, en el cuerpo humano y en la corteza terres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24000" y="560880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4000" y="265752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685880" y="152280"/>
            <a:ext cx="57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790560"/>
            <a:ext cx="7848720" cy="11178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 es la unidad estructural mas sencilla posible para una definición de lo viv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362320"/>
            <a:ext cx="6477120" cy="316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Hombre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Árbo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Auto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Gusan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ula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osquit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L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Cora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M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4038480"/>
            <a:ext cx="8153280" cy="861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eorgia"/>
              </a:rPr>
              <a:t>¡¡¡Los organismos vivos son capaces de albergar una actividad que regenera sus propios componente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2320" y="228600"/>
            <a:ext cx="4525560" cy="3710520"/>
            <a:chOff x="382320" y="228600"/>
            <a:chExt cx="4525560" cy="3710520"/>
          </a:xfrm>
        </p:grpSpPr>
        <p:sp>
          <p:nvSpPr>
            <p:cNvPr id="46" name=""/>
            <p:cNvSpPr/>
            <p:nvPr/>
          </p:nvSpPr>
          <p:spPr>
            <a:xfrm>
              <a:off x="1316160" y="876240"/>
              <a:ext cx="2879640" cy="2879640"/>
            </a:xfrm>
            <a:prstGeom prst="ellipse">
              <a:avLst/>
            </a:prstGeom>
            <a:solidFill>
              <a:srgbClr val="e1f2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68520" y="1163520"/>
              <a:ext cx="2340000" cy="23400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9040" y="87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62320" y="1452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960" y="1739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71920" y="137304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46320" y="2028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46320" y="231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1796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62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41600" y="3462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8320" y="3102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9396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3040" y="3395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28640" y="12366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2680" y="1092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9960" y="947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8680" y="20210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49960" y="3036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6232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67400" y="1668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3868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62440" y="2309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4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07040" y="116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2320" y="947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4160" y="947880"/>
              <a:ext cx="144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36880" y="1092240"/>
              <a:ext cx="14436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0880" y="123660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4880" y="145260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60520" y="1739880"/>
              <a:ext cx="216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63680" y="2028960"/>
              <a:ext cx="2271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6160" y="231624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389240" y="2603160"/>
              <a:ext cx="2156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460520" y="28191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676520" y="3108240"/>
              <a:ext cx="1936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882800" y="3252960"/>
              <a:ext cx="14436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108160" y="33955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468520" y="3468240"/>
              <a:ext cx="7164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900520" y="34682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92640" y="3468600"/>
              <a:ext cx="660240" cy="287280"/>
            </a:xfrm>
            <a:custGeom>
              <a:avLst/>
              <a:gdLst/>
              <a:ahLst/>
              <a:rect l="l" t="t" r="r" b="b"/>
              <a:pathLst>
                <a:path w="371" h="181">
                  <a:moveTo>
                    <a:pt x="53" y="0"/>
                  </a:moveTo>
                  <a:cubicBezTo>
                    <a:pt x="26" y="53"/>
                    <a:pt x="0" y="106"/>
                    <a:pt x="53" y="136"/>
                  </a:cubicBezTo>
                  <a:cubicBezTo>
                    <a:pt x="106" y="166"/>
                    <a:pt x="318" y="174"/>
                    <a:pt x="371" y="18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8160" y="3179880"/>
              <a:ext cx="144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75240" y="3033720"/>
              <a:ext cx="19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82880" y="2819520"/>
              <a:ext cx="252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65680" y="2603520"/>
              <a:ext cx="2728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08520" y="23162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868560" y="1955520"/>
              <a:ext cx="277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89360" y="15969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548160" y="1295280"/>
              <a:ext cx="217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48160" y="444600"/>
              <a:ext cx="936360" cy="792000"/>
            </a:xfrm>
            <a:custGeom>
              <a:avLst/>
              <a:gdLst/>
              <a:ahLst/>
              <a:rect l="l" t="t" r="r" b="b"/>
              <a:pathLst>
                <a:path w="590" h="499">
                  <a:moveTo>
                    <a:pt x="46" y="499"/>
                  </a:moveTo>
                  <a:cubicBezTo>
                    <a:pt x="23" y="404"/>
                    <a:pt x="0" y="309"/>
                    <a:pt x="91" y="226"/>
                  </a:cubicBezTo>
                  <a:cubicBezTo>
                    <a:pt x="182" y="143"/>
                    <a:pt x="499" y="38"/>
                    <a:pt x="59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57960" y="2286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2320" y="1811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26320" y="35402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6680" y="1811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52520" y="20289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2880" y="1008000"/>
              <a:ext cx="1272960" cy="876240"/>
            </a:xfrm>
            <a:custGeom>
              <a:avLst/>
              <a:gdLst/>
              <a:ahLst/>
              <a:rect l="l" t="t" r="r" b="b"/>
              <a:pathLst>
                <a:path w="802" h="552">
                  <a:moveTo>
                    <a:pt x="0" y="53"/>
                  </a:moveTo>
                  <a:cubicBezTo>
                    <a:pt x="98" y="26"/>
                    <a:pt x="196" y="0"/>
                    <a:pt x="317" y="53"/>
                  </a:cubicBezTo>
                  <a:cubicBezTo>
                    <a:pt x="438" y="106"/>
                    <a:pt x="650" y="287"/>
                    <a:pt x="726" y="370"/>
                  </a:cubicBezTo>
                  <a:cubicBezTo>
                    <a:pt x="802" y="453"/>
                    <a:pt x="786" y="502"/>
                    <a:pt x="771" y="55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12880" y="1236600"/>
              <a:ext cx="576360" cy="647640"/>
            </a:xfrm>
            <a:custGeom>
              <a:avLst/>
              <a:gdLst/>
              <a:ahLst/>
              <a:rect l="l" t="t" r="r" b="b"/>
              <a:pathLst>
                <a:path w="363" h="408">
                  <a:moveTo>
                    <a:pt x="363" y="408"/>
                  </a:moveTo>
                  <a:cubicBezTo>
                    <a:pt x="302" y="396"/>
                    <a:pt x="242" y="385"/>
                    <a:pt x="181" y="317"/>
                  </a:cubicBezTo>
                  <a:cubicBezTo>
                    <a:pt x="120" y="249"/>
                    <a:pt x="60" y="1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55800" y="995400"/>
              <a:ext cx="649440" cy="168120"/>
            </a:xfrm>
            <a:custGeom>
              <a:avLst/>
              <a:gdLst/>
              <a:ahLst/>
              <a:rect l="l" t="t" r="r" b="b"/>
              <a:pathLst>
                <a:path w="409" h="106">
                  <a:moveTo>
                    <a:pt x="0" y="15"/>
                  </a:moveTo>
                  <a:cubicBezTo>
                    <a:pt x="57" y="7"/>
                    <a:pt x="114" y="0"/>
                    <a:pt x="182" y="15"/>
                  </a:cubicBezTo>
                  <a:cubicBezTo>
                    <a:pt x="250" y="30"/>
                    <a:pt x="371" y="91"/>
                    <a:pt x="409" y="1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09480" y="5181480"/>
            <a:ext cx="8229600" cy="124524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odemos decir que un sistema físico está vivo si es capaz de transformar la materia/energía externa en un proceso interno de automantención y autogen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7896240" cy="3164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atrón básico de vida mín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 producto de una organización sistémica emergente, mas que de una determinada estructura o reacción mole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tá ligada a la noción de automantención y auto-regeneración de los componentes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barrera es de vital importancia para discriminar entre el sí mismo y lo externo, dando origen a un microambiente en el que puede ocurrir una determinada red de reaccion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886200"/>
            <a:ext cx="8205840" cy="2396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Un sistema autopoiético está organizado (esto es, se define como una unidad) como una red de procesos de producción (síntesis y destrucción) de componentes, en forma tal que estos componentes: (I) se regeneran contínuamente e integran la red de transformaciones que las produjo y (II) constituyen al sistema como una unidad distinguible en su dominio de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949480" y="222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eter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63280" y="231444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10920" y="3357720"/>
            <a:ext cx="17582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ole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15080" y="502920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54040" y="4952880"/>
            <a:ext cx="169416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etabo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47200" y="500220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6000" y="3359160"/>
            <a:ext cx="13388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Límit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9000" y="41860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al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19760" y="2438280"/>
            <a:ext cx="496800" cy="690840"/>
          </a:xfrm>
          <a:custGeom>
            <a:avLst/>
            <a:gdLst/>
            <a:ahLst/>
            <a:rect l="l" t="t" r="r" b="b"/>
            <a:pathLst>
              <a:path w="313" h="435">
                <a:moveTo>
                  <a:pt x="313" y="3"/>
                </a:moveTo>
                <a:cubicBezTo>
                  <a:pt x="276" y="13"/>
                  <a:pt x="143" y="0"/>
                  <a:pt x="91" y="72"/>
                </a:cubicBezTo>
                <a:cubicBezTo>
                  <a:pt x="39" y="144"/>
                  <a:pt x="15" y="375"/>
                  <a:pt x="0" y="43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12840" y="4162320"/>
            <a:ext cx="1114560" cy="1170000"/>
          </a:xfrm>
          <a:custGeom>
            <a:avLst/>
            <a:gdLst/>
            <a:ahLst/>
            <a:rect l="l" t="t" r="r" b="b"/>
            <a:pathLst>
              <a:path w="702" h="737">
                <a:moveTo>
                  <a:pt x="702" y="710"/>
                </a:moveTo>
                <a:cubicBezTo>
                  <a:pt x="649" y="725"/>
                  <a:pt x="608" y="737"/>
                  <a:pt x="521" y="710"/>
                </a:cubicBezTo>
                <a:cubicBezTo>
                  <a:pt x="434" y="683"/>
                  <a:pt x="264" y="651"/>
                  <a:pt x="182" y="548"/>
                </a:cubicBezTo>
                <a:cubicBezTo>
                  <a:pt x="100" y="445"/>
                  <a:pt x="54" y="180"/>
                  <a:pt x="27" y="90"/>
                </a:cubicBezTo>
                <a:cubicBezTo>
                  <a:pt x="0" y="0"/>
                  <a:pt x="20" y="25"/>
                  <a:pt x="18" y="8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7920" y="4030560"/>
            <a:ext cx="522000" cy="1185840"/>
          </a:xfrm>
          <a:custGeom>
            <a:avLst/>
            <a:gdLst/>
            <a:ahLst/>
            <a:rect l="l" t="t" r="r" b="b"/>
            <a:pathLst>
              <a:path w="329" h="747">
                <a:moveTo>
                  <a:pt x="329" y="0"/>
                </a:moveTo>
                <a:cubicBezTo>
                  <a:pt x="321" y="41"/>
                  <a:pt x="312" y="143"/>
                  <a:pt x="274" y="247"/>
                </a:cubicBezTo>
                <a:cubicBezTo>
                  <a:pt x="236" y="351"/>
                  <a:pt x="146" y="543"/>
                  <a:pt x="100" y="626"/>
                </a:cubicBezTo>
                <a:cubicBezTo>
                  <a:pt x="54" y="709"/>
                  <a:pt x="17" y="727"/>
                  <a:pt x="0" y="747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29320" y="4025880"/>
            <a:ext cx="745920" cy="406440"/>
          </a:xfrm>
          <a:custGeom>
            <a:avLst/>
            <a:gdLst/>
            <a:ahLst/>
            <a:rect l="l" t="t" r="r" b="b"/>
            <a:pathLst>
              <a:path w="470" h="256">
                <a:moveTo>
                  <a:pt x="22" y="0"/>
                </a:moveTo>
                <a:cubicBezTo>
                  <a:pt x="31" y="33"/>
                  <a:pt x="0" y="163"/>
                  <a:pt x="75" y="206"/>
                </a:cubicBezTo>
                <a:cubicBezTo>
                  <a:pt x="150" y="249"/>
                  <a:pt x="388" y="246"/>
                  <a:pt x="470" y="256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2320" y="2133720"/>
            <a:ext cx="3370320" cy="1128600"/>
          </a:xfrm>
          <a:custGeom>
            <a:avLst/>
            <a:gdLst/>
            <a:ahLst/>
            <a:rect l="l" t="t" r="r" b="b"/>
            <a:pathLst>
              <a:path w="2123" h="711">
                <a:moveTo>
                  <a:pt x="14" y="711"/>
                </a:moveTo>
                <a:cubicBezTo>
                  <a:pt x="15" y="683"/>
                  <a:pt x="0" y="615"/>
                  <a:pt x="29" y="543"/>
                </a:cubicBezTo>
                <a:cubicBezTo>
                  <a:pt x="58" y="471"/>
                  <a:pt x="95" y="357"/>
                  <a:pt x="187" y="281"/>
                </a:cubicBezTo>
                <a:cubicBezTo>
                  <a:pt x="279" y="205"/>
                  <a:pt x="449" y="130"/>
                  <a:pt x="580" y="84"/>
                </a:cubicBezTo>
                <a:cubicBezTo>
                  <a:pt x="711" y="38"/>
                  <a:pt x="826" y="14"/>
                  <a:pt x="974" y="7"/>
                </a:cubicBezTo>
                <a:cubicBezTo>
                  <a:pt x="1122" y="0"/>
                  <a:pt x="1313" y="8"/>
                  <a:pt x="1467" y="44"/>
                </a:cubicBezTo>
                <a:cubicBezTo>
                  <a:pt x="1621" y="80"/>
                  <a:pt x="1787" y="115"/>
                  <a:pt x="1896" y="220"/>
                </a:cubicBezTo>
                <a:cubicBezTo>
                  <a:pt x="2005" y="325"/>
                  <a:pt x="2066" y="499"/>
                  <a:pt x="2123" y="673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12920" y="40863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NA,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93240" y="423072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75080" y="3948120"/>
            <a:ext cx="690480" cy="404640"/>
          </a:xfrm>
          <a:custGeom>
            <a:avLst/>
            <a:gdLst/>
            <a:ahLst/>
            <a:rect l="l" t="t" r="r" b="b"/>
            <a:pathLst>
              <a:path w="435" h="255">
                <a:moveTo>
                  <a:pt x="435" y="121"/>
                </a:moveTo>
                <a:cubicBezTo>
                  <a:pt x="419" y="79"/>
                  <a:pt x="381" y="49"/>
                  <a:pt x="344" y="30"/>
                </a:cubicBezTo>
                <a:cubicBezTo>
                  <a:pt x="307" y="11"/>
                  <a:pt x="256" y="0"/>
                  <a:pt x="211" y="8"/>
                </a:cubicBezTo>
                <a:cubicBezTo>
                  <a:pt x="166" y="16"/>
                  <a:pt x="104" y="50"/>
                  <a:pt x="72" y="76"/>
                </a:cubicBezTo>
                <a:cubicBezTo>
                  <a:pt x="40" y="102"/>
                  <a:pt x="31" y="134"/>
                  <a:pt x="19" y="164"/>
                </a:cubicBezTo>
                <a:cubicBezTo>
                  <a:pt x="7" y="194"/>
                  <a:pt x="4" y="236"/>
                  <a:pt x="0" y="25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43400" y="4494240"/>
            <a:ext cx="290520" cy="434880"/>
          </a:xfrm>
          <a:custGeom>
            <a:avLst/>
            <a:gdLst/>
            <a:ahLst/>
            <a:rect l="l" t="t" r="r" b="b"/>
            <a:pathLst>
              <a:path w="183" h="274">
                <a:moveTo>
                  <a:pt x="3" y="0"/>
                </a:moveTo>
                <a:cubicBezTo>
                  <a:pt x="9" y="26"/>
                  <a:pt x="0" y="111"/>
                  <a:pt x="30" y="156"/>
                </a:cubicBezTo>
                <a:cubicBezTo>
                  <a:pt x="60" y="201"/>
                  <a:pt x="151" y="249"/>
                  <a:pt x="183" y="274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78280" y="4424400"/>
            <a:ext cx="433440" cy="527040"/>
          </a:xfrm>
          <a:custGeom>
            <a:avLst/>
            <a:gdLst/>
            <a:ahLst/>
            <a:rect l="l" t="t" r="r" b="b"/>
            <a:pathLst>
              <a:path w="273" h="332">
                <a:moveTo>
                  <a:pt x="0" y="317"/>
                </a:moveTo>
                <a:cubicBezTo>
                  <a:pt x="26" y="324"/>
                  <a:pt x="53" y="332"/>
                  <a:pt x="91" y="317"/>
                </a:cubicBezTo>
                <a:cubicBezTo>
                  <a:pt x="129" y="302"/>
                  <a:pt x="197" y="280"/>
                  <a:pt x="227" y="227"/>
                </a:cubicBezTo>
                <a:cubicBezTo>
                  <a:pt x="257" y="174"/>
                  <a:pt x="265" y="30"/>
                  <a:pt x="273" y="0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39080" y="928800"/>
            <a:ext cx="154620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Vida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26028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es elementos químicos se encuentran en la materia viv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propiedades de la materia son fundamentales para formar las moléculas de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tipo de moléculas hay en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ómo llegaron a constituirl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684360" y="2189160"/>
            <a:ext cx="7775280" cy="3798720"/>
            <a:chOff x="684360" y="2189160"/>
            <a:chExt cx="7775280" cy="3798720"/>
          </a:xfrm>
        </p:grpSpPr>
        <p:sp>
          <p:nvSpPr>
            <p:cNvPr id="128" name=""/>
            <p:cNvSpPr/>
            <p:nvPr/>
          </p:nvSpPr>
          <p:spPr>
            <a:xfrm>
              <a:off x="684360" y="218916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436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436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1600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16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6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1600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16000" y="305460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16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47640" y="4781520"/>
              <a:ext cx="43200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7640" y="4349880"/>
              <a:ext cx="43200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47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4764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76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672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32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1128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128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432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328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1128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7964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9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Z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79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32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072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90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35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0364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03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364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0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0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036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08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8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08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28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96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4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2800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28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9636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9636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64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272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64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2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0072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0072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90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6908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3564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5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908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6908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0072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00720" y="305460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720" y="262116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3272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436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4360" y="305460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96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96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28000" y="218916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28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2800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39800">
              <a:off x="2122560" y="5053320"/>
              <a:ext cx="11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tá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7200">
              <a:off x="1906560" y="542880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í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1834920" y="4565520"/>
              <a:ext cx="36036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1763640" y="4997160"/>
              <a:ext cx="21600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57840" y="351000"/>
            <a:ext cx="83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¿Cuáles elementos químicos se encuentran en la materia viva?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79640" y="105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Át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404640"/>
            <a:ext cx="21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par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(en ro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62244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en la capa ex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11280" y="4005360"/>
            <a:ext cx="432000" cy="431640"/>
            <a:chOff x="2411280" y="4005360"/>
            <a:chExt cx="432000" cy="431640"/>
          </a:xfrm>
        </p:grpSpPr>
        <p:sp>
          <p:nvSpPr>
            <p:cNvPr id="212" name=""/>
            <p:cNvSpPr/>
            <p:nvPr/>
          </p:nvSpPr>
          <p:spPr>
            <a:xfrm>
              <a:off x="2438280" y="4033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81200" y="43862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9252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1128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81200" y="4005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414520" y="2657520"/>
            <a:ext cx="428760" cy="433440"/>
            <a:chOff x="2414520" y="2657520"/>
            <a:chExt cx="428760" cy="433440"/>
          </a:xfrm>
        </p:grpSpPr>
        <p:sp>
          <p:nvSpPr>
            <p:cNvPr id="218" name=""/>
            <p:cNvSpPr/>
            <p:nvPr/>
          </p:nvSpPr>
          <p:spPr>
            <a:xfrm>
              <a:off x="2792520" y="2846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2520" y="2917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27280" y="2657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14520" y="28526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77960" y="30402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49600" y="30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50520" y="2678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419200" y="3333600"/>
            <a:ext cx="424080" cy="412920"/>
            <a:chOff x="2419200" y="3333600"/>
            <a:chExt cx="424080" cy="412920"/>
          </a:xfrm>
        </p:grpSpPr>
        <p:sp>
          <p:nvSpPr>
            <p:cNvPr id="226" name=""/>
            <p:cNvSpPr/>
            <p:nvPr/>
          </p:nvSpPr>
          <p:spPr>
            <a:xfrm>
              <a:off x="2792520" y="350028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2520" y="35733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27280" y="3357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19200" y="3538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27280" y="3695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57000" y="3333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11280" y="2187720"/>
            <a:ext cx="287640" cy="398880"/>
            <a:chOff x="2411280" y="2187720"/>
            <a:chExt cx="287640" cy="398880"/>
          </a:xfrm>
        </p:grpSpPr>
        <p:sp>
          <p:nvSpPr>
            <p:cNvPr id="233" name=""/>
            <p:cNvSpPr/>
            <p:nvPr/>
          </p:nvSpPr>
          <p:spPr>
            <a:xfrm>
              <a:off x="2411280" y="218772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1280" y="234936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421000" y="4651200"/>
            <a:ext cx="422280" cy="433440"/>
            <a:chOff x="2421000" y="4651200"/>
            <a:chExt cx="422280" cy="433440"/>
          </a:xfrm>
        </p:grpSpPr>
        <p:sp>
          <p:nvSpPr>
            <p:cNvPr id="236" name=""/>
            <p:cNvSpPr/>
            <p:nvPr/>
          </p:nvSpPr>
          <p:spPr>
            <a:xfrm>
              <a:off x="2792520" y="48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92520" y="4911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27280" y="465120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21000" y="488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4304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1468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60600" y="46720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21000" y="5353200"/>
            <a:ext cx="383040" cy="412560"/>
            <a:chOff x="2421000" y="5353200"/>
            <a:chExt cx="383040" cy="412560"/>
          </a:xfrm>
        </p:grpSpPr>
        <p:sp>
          <p:nvSpPr>
            <p:cNvPr id="244" name=""/>
            <p:cNvSpPr/>
            <p:nvPr/>
          </p:nvSpPr>
          <p:spPr>
            <a:xfrm>
              <a:off x="2720880" y="5519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20880" y="5592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63920" y="5376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1000" y="555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63920" y="5715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60240" y="53532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675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97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9324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04440" y="2692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932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044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9792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0624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9468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0444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9468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0444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7640" y="184464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20720" y="602136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1863360" y="1111320"/>
            <a:ext cx="4839840" cy="3767040"/>
            <a:chOff x="1863360" y="1111320"/>
            <a:chExt cx="4839840" cy="3767040"/>
          </a:xfrm>
        </p:grpSpPr>
        <p:grpSp>
          <p:nvGrpSpPr>
            <p:cNvPr id="265" name=""/>
            <p:cNvGrpSpPr/>
            <p:nvPr/>
          </p:nvGrpSpPr>
          <p:grpSpPr>
            <a:xfrm>
              <a:off x="1863360" y="2386080"/>
              <a:ext cx="4687200" cy="815760"/>
              <a:chOff x="1863360" y="2386080"/>
              <a:chExt cx="4687200" cy="815760"/>
            </a:xfrm>
          </p:grpSpPr>
          <p:sp>
            <p:nvSpPr>
              <p:cNvPr id="266" name=""/>
              <p:cNvSpPr/>
              <p:nvPr/>
            </p:nvSpPr>
            <p:spPr>
              <a:xfrm>
                <a:off x="3473280" y="254808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73280" y="26193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30360" y="23972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28760" y="2597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250800" y="27417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14800" y="2755800"/>
                <a:ext cx="0" cy="162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59160" y="2597040"/>
                <a:ext cx="16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322440" y="2741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98440" y="244620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87520" y="26049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60080" y="24033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53528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05120" y="25988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42260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52760" y="25257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1936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0972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28760" y="243216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49520" y="2624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31520" y="238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72960" y="24019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05320" y="2386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04240" y="24019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17840" y="26780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57840" y="28335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05120" y="2525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63360" y="244800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2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68400" y="2612880"/>
                <a:ext cx="36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908000" y="3797280"/>
              <a:ext cx="4795200" cy="1081080"/>
              <a:chOff x="1908000" y="3797280"/>
              <a:chExt cx="4795200" cy="1081080"/>
            </a:xfrm>
          </p:grpSpPr>
          <p:sp>
            <p:nvSpPr>
              <p:cNvPr id="295" name=""/>
              <p:cNvSpPr/>
              <p:nvPr/>
            </p:nvSpPr>
            <p:spPr>
              <a:xfrm>
                <a:off x="5938560" y="4372200"/>
                <a:ext cx="162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311520" y="4185720"/>
                <a:ext cx="136800" cy="8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73040" y="4321440"/>
                <a:ext cx="5112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73040" y="4394160"/>
                <a:ext cx="51120" cy="51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50920" y="41785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08000" y="43592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50920" y="451656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0040" y="4178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76680" y="43005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3376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03440" y="4300560"/>
                <a:ext cx="5112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48160" y="444528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75240" y="437364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9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60680" y="44467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00560" y="43722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068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8472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53080" y="41767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8508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309000" y="4402800"/>
                <a:ext cx="126000" cy="102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83640" y="41767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70680" y="379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0680" y="451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425760" y="431964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829240" y="4222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57960" y="4322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6160" y="401508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47800" y="437364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2081160" y="1149480"/>
              <a:ext cx="301320" cy="368280"/>
              <a:chOff x="2081160" y="1149480"/>
              <a:chExt cx="301320" cy="368280"/>
            </a:xfrm>
          </p:grpSpPr>
          <p:sp>
            <p:nvSpPr>
              <p:cNvPr id="326" name=""/>
              <p:cNvSpPr/>
              <p:nvPr/>
            </p:nvSpPr>
            <p:spPr>
              <a:xfrm>
                <a:off x="2095200" y="11494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081160" y="1315800"/>
                <a:ext cx="5076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2601360" y="1149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152880" y="1149480"/>
              <a:ext cx="345240" cy="368280"/>
              <a:chOff x="3152880" y="1149480"/>
              <a:chExt cx="345240" cy="368280"/>
            </a:xfrm>
          </p:grpSpPr>
          <p:sp>
            <p:nvSpPr>
              <p:cNvPr id="330" name=""/>
              <p:cNvSpPr/>
              <p:nvPr/>
            </p:nvSpPr>
            <p:spPr>
              <a:xfrm>
                <a:off x="3162240" y="13050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52880" y="1149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111560" y="1141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255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00640" y="1328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02440" y="1157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24600" y="1308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5028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2972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65520" y="13082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38:54Z</dcterms:created>
  <dc:creator>INTA</dc:creator>
  <dc:description/>
  <dc:language>en-US</dc:language>
  <cp:lastModifiedBy>INTA</cp:lastModifiedBy>
  <dcterms:modified xsi:type="dcterms:W3CDTF">2007-07-23T19:23:30Z</dcterms:modified>
  <cp:revision>41</cp:revision>
  <dc:subject/>
  <dc:title>Diapositiva 1</dc:title>
</cp:coreProperties>
</file>